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C0434-B36D-4327-B4CD-6ABF179E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22798-3DC7-48A7-8E86-3E398227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E8588-A1E8-4991-9CA7-529F2EED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D7DF0-4179-4CB4-B7D3-E309F145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5443-F4BD-4118-B02E-09226A3F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1C32-AFD4-453A-9D13-936D331B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CBFF-C248-4DEC-A227-195B6123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9A23-EC97-4BCC-AFF7-C355F54A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7120-BADC-4A6C-AB9A-4A5C432A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341B-7C1D-4498-BB38-C0021523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23EC-7EAC-4101-A37B-030B686A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63C5D-DA9B-4E63-A778-FC6F6739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E706-E1B3-4562-9DAD-A3C3D8FB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8EF1-B84D-46CF-A3A9-500917FF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D4B3-D8B0-4C2A-897F-6FC65993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4CC5-A01D-4EF1-BA95-245231B0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8AFD-8966-410C-BF64-D1110419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2D0EE-76F7-483F-84AC-968405C5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157B9-3C82-4442-AAE1-C2217C94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A2E64-33E4-4F27-A067-D0819115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27EB8-1CFC-4AED-B46A-41AB812A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CE5ED-E547-4FD5-81A8-2A7504EB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5974F-2D64-444C-A9B2-496ABF24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C055-2407-40D0-9D13-F023D818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9943-3FA5-47FA-8329-E8C458A7D65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89B6-22B5-41D7-9FF6-E7F9AD0FEA5E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72249518-D064-48A2-BF2F-DD46A6ADC143}" type="datetime10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22:07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901D-B194-469A-8A6D-108C5CB61C58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0B1A6FEB-C62C-4BF6-9909-76928E1482A7}" type="datetime10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22:07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55F9-BE6F-401B-B790-EE1C73A7508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2B12-6D82-4E26-994B-EE0F71A17D58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3740481B-ACD9-45D0-8DAA-CA0886156F54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22:0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AD9D-D3C0-461A-994F-2440F500E10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8832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Lungs</a:t>
            </a:r>
            <a:r>
              <a:rPr b="0" lang="ar-SY" sz="4500" spc="-1" strike="noStrike">
                <a:solidFill>
                  <a:srgbClr val="ffffff"/>
                </a:solidFill>
                <a:latin typeface="Arial"/>
              </a:rPr>
              <a:t> الرئتان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50920" y="105264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lnSpc>
                <a:spcPct val="9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Arial"/>
              <a:buChar char="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   هما عضوا التنفس بطرح غاز ثاني اوكسيد الكربون وتامين الاكسجة الكافية للدم تتغطيان بالجنية الحشوية , الرئة اليمنى اكبر من اليسرى ( 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غ \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غ ) وكذلك حجمها كبر , اليمنى لها ثلاث فصوص , واليسرى فصين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قمة الرئة تقع اعلى ب 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2,5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سم من القسم الانسي من الترقوة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Arial"/>
              <a:buChar char="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   تقدر السعة الرئوية بحوالي 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5000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سم مكعب  موزعة كالتالي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1500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سم هواء باقي لايخرج حتى بالزفير القسري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1500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سم هواء يخرج بالزفير القسري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 سم حجم الهواء المستنشق بالشهيق العادي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1500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سم حجم الهواء المستنشق بعد شهيق عادي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Arial"/>
              <a:buChar char="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    كل رئة لها شكل  نصف مخروطي بحيث تبدي ثلاث وجوه ( انسي , وحشي , حاجزي ) . ولها قمة وثلاث حواف ( امامية , خلفية , سفلية )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717E-9E8C-484C-945F-85FF927AD2D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8C0D-388F-4AEA-BEA9-6D0FC5F51A70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CFC487CC-8BED-421D-9C7F-CDAE2C6CF293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22:0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483px-Lungs_diagram_simple"/>
          <p:cNvPicPr/>
          <p:nvPr/>
        </p:nvPicPr>
        <p:blipFill>
          <a:blip r:embed="rId1"/>
          <a:stretch/>
        </p:blipFill>
        <p:spPr>
          <a:xfrm rot="367200">
            <a:off x="2050560" y="1711440"/>
            <a:ext cx="4848480" cy="42274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4167000" y="3246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48D3-6AD2-40D8-B155-F3756C9E40A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48D6-70DC-43DA-872C-5868CAD00B9A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250744F3-B78D-4368-8437-0A0F3529E81A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22:0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92000" y="-316080"/>
            <a:ext cx="701028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الرئة اليمنى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160" y="1484280"/>
            <a:ext cx="70102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Y" sz="2400" spc="-1" strike="noStrike" u="sng">
                <a:solidFill>
                  <a:srgbClr val="ffffff"/>
                </a:solidFill>
                <a:uFillTx/>
                <a:latin typeface="Arial"/>
              </a:rPr>
              <a:t>الفص الرئوي العلوي الايمن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: يشكل الجزء الامامي العلوي من الرئة اليمنى . ان توزع القصبات الفصية العلوية تسمح بان ينقسم الى ثلاث شدف ( قمية , امامية , خلفية 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400" spc="-1" strike="noStrike" u="sng">
                <a:solidFill>
                  <a:srgbClr val="ffffff"/>
                </a:solidFill>
                <a:uFillTx/>
                <a:latin typeface="Arial"/>
              </a:rPr>
              <a:t>الفص الرئوي المتوسط الايمن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:يشكل الجزء الامامي السفلي من الرئة . وان توزع القصبة الفصية المتوسطة تسمح بان نقسمه الى شدفتين ( انسية , وحشية 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400" spc="-1" strike="noStrike" u="sng">
                <a:solidFill>
                  <a:srgbClr val="ffffff"/>
                </a:solidFill>
                <a:uFillTx/>
                <a:latin typeface="Arial"/>
              </a:rPr>
              <a:t>الفص السفلي الرئوي الايمن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: يشكل الجزء الخلفي السفلي من الرئة , وان توزع القصبة الفصية السفلى يسمح بان نقسم هذا الفص الى خمس شدف ( قمية , قاعدية انسية , قاعدية امامية , قاعدية وحشية , قاعدية خلفية 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لايوجد شقوق فاصلة بين الشدف المختلفة . والشدف هي عبارة عن وحدات وظيفية وهي معلمة بمسير الاوردة بين الشدف .وان الفصوص الاضافية عائدة لوجود شقوق غير عادي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C1C1-52B3-40F1-8D5F-1DDBD1A6826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7A0C-3AD5-48ED-B423-0A14FB57DBA2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4A061908-EE58-442C-A835-4F153A6FBE2A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22:0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الرئة اليسرى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-640080" algn="r" rtl="1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تحوي شقا مائلا واحدا الى الاسفل والأمام والذي يبدأ من الخلف حذاء المسافة الوربية الثالثة وينتهي في الامام حذاء الوصل الغضروفي الضلعي السادس  , وهو يقسم الرئة الى فصين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0080" indent="-640080" algn="r" rtl="1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الفص العلوي الرئوي الايسر : وهو اضخم من العلوي الايمن ( يعادل العلوي والمتوسط ) . وان توزع القصبة الفصية العلوية يسمح بتقسيمه الى خمس شدف ( قمية , خلفية , امامية , اللسينة العلوية , اللسينة السفل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0080" indent="-640080" algn="r" rtl="1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الفص السفلي الايسر الرئوي : مشابه تماما لنظيره الايمن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C02D-868C-4DBF-A432-820811E0757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9CF4-1D6E-47A5-A327-3B0D2414EE99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9CC809AF-8D5F-4EA4-914E-94589906D48B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22:0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رئة مدخ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 مع سرط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رئة تقيح رئ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Smokers_Lungs"/>
          <p:cNvPicPr/>
          <p:nvPr/>
        </p:nvPicPr>
        <p:blipFill>
          <a:blip r:embed="rId1"/>
          <a:stretch/>
        </p:blipFill>
        <p:spPr>
          <a:xfrm>
            <a:off x="1692360" y="1773360"/>
            <a:ext cx="561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8A64-4886-4122-8776-3FA31F9C739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9009-A2D7-4D91-92F1-C534730FE101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4C128DAD-9872-4710-AA41-816ECE6C9037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22:0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رئة سلي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رئة انتفاخ رئ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lungs"/>
          <p:cNvPicPr/>
          <p:nvPr/>
        </p:nvPicPr>
        <p:blipFill>
          <a:blip r:embed="rId1"/>
          <a:stretch/>
        </p:blipFill>
        <p:spPr>
          <a:xfrm>
            <a:off x="1692360" y="1989000"/>
            <a:ext cx="47624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E846-AB67-4F6C-9650-976C23774F9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6370-7589-48B6-BA18-9AF9C1245CBA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9AA8002E-E1B9-4C92-A480-C4E82FB4709E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22:0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268280"/>
            <a:ext cx="70102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Char char="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قاعدة الرئة هلالية ومقعرة وتتوافق مع تحدب السطح العلوي للحجاب الحاجز الذي يفصل الرئة اليمنى عن الفص الكبدي الايمن , والرئة اليسرى عن الفص الكبدي الايسر , وعن قاع المعدة والطحال . ويكون تقعر القاعدة اليمنى اشد من اليسرى . وتتمادى القاعدة في الخلف والوحشي بحافة رقيقة حادة وتبرز لمسافة قصيرة ضمن الجيب الضلعي الحاجزي الجنبي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Char char="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قمة الرئة مدورة وفي مستوى الفوهة العلوية للصدر . وتكون مغلفة بالقديح الجنبوي , وهذا الجزء يقع ب 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 سم اعلى من السطح العلوي لغضروف الضلع الاول , لكن في الخلف يقع في مستوى الحد العلوي لعنق الضلع الاول . وهذه القمة اعلى تقريبا ب 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2,5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 سم من القسم الانسي للترقو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F2AE-A607-43EA-A4C3-B11709D72FF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4A43-3B80-43AC-8EBE-2B173B36B054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0A74368F-FE1C-417E-990A-06970B899BF1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22:0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1-Labelled_Lungs"/>
          <p:cNvPicPr/>
          <p:nvPr/>
        </p:nvPicPr>
        <p:blipFill>
          <a:blip r:embed="rId1"/>
          <a:stretch/>
        </p:blipFill>
        <p:spPr>
          <a:xfrm>
            <a:off x="1692360" y="1989000"/>
            <a:ext cx="400032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9A09-CE90-4ADD-8032-545C3CF6C10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BE49-A889-42B6-8686-7630AAE1DEAA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6CB8EE9B-C5BA-4395-84CE-EA37CC906C31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22:0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 تكوين الرئة الداخلي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125000"/>
            <a:ext cx="70102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تتكون الرئة م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الجزء داخل الرئة من عناصر جذر الرئ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نسيج ضام مرن يملا الساحة الواقعة بين هذه العناصر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كل فص رئوي ينقسم الى شدف , وكل شدفة تتألف من باحة هرمية الشكل ذروتها في سرة الرئة وقاعدتها في محيط الرئة وتصلها قصبة شدفية , بحيث تحتوي كل رئة عشر شدفات قصبية رئو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قصبة فصية &gt;&gt;&gt; قصبة فصيصية  ( تنقسم من 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 مرات 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 &gt;&gt;&gt; قصيبات انتهائية قطر كل واحدة 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 ملم  وغيب الغضروف من جدارها &gt;&gt;&gt; كل قصبية انتهائية &gt;&gt;&gt;&gt; تتس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 لتصبح ممرا فتدعى القناة السنخية &gt;&gt;&gt; تنقسم لتشكل اقنية مغطاة بجدر مقببة  وهذا التقبب ناتج عن اتصال جدر هذه الاقنية السنخية برتوج صغيرة تشكل ما يدعى بالاسناخ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3CFB-1847-449B-B248-5E7C0DDDFD5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740E-60F0-4263-8C83-7254F57C4EDB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F74AC1C6-760E-4353-8480-278FD258F34C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22:0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lungs"/>
          <p:cNvPicPr/>
          <p:nvPr/>
        </p:nvPicPr>
        <p:blipFill>
          <a:blip r:embed="rId1"/>
          <a:stretch/>
        </p:blipFill>
        <p:spPr>
          <a:xfrm>
            <a:off x="1619280" y="1844640"/>
            <a:ext cx="4324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5C84-1E20-470A-A180-6022D566301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9671-7DEF-4083-A978-2C0D68948F8F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4DDAFAE7-5E61-48B2-8126-79D8DF0D3045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22:0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تكوين الرئة الداخلي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illu_bronchi_lungs"/>
          <p:cNvPicPr/>
          <p:nvPr/>
        </p:nvPicPr>
        <p:blipFill>
          <a:blip r:embed="rId1"/>
          <a:stretch/>
        </p:blipFill>
        <p:spPr>
          <a:xfrm>
            <a:off x="1692360" y="1989000"/>
            <a:ext cx="49528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A954-16D9-4055-B221-DAC89813E10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3682-5FD2-4538-B1B2-77A282F9BD72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2E753798-748D-4804-B58E-C7C55BAF5FC5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22:0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lungs"/>
          <p:cNvPicPr/>
          <p:nvPr/>
        </p:nvPicPr>
        <p:blipFill>
          <a:blip r:embed="rId1"/>
          <a:stretch/>
        </p:blipFill>
        <p:spPr>
          <a:xfrm>
            <a:off x="1908000" y="2133720"/>
            <a:ext cx="35434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81A6-38A3-4ADB-9570-E36361CA45F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BC7A-DE04-4E84-BB25-AADB330A7666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05BD6BF8-DD8A-41B3-8733-1FEEC8923386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22:0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1103"/>
          <p:cNvPicPr/>
          <p:nvPr/>
        </p:nvPicPr>
        <p:blipFill>
          <a:blip r:embed="rId1"/>
          <a:stretch/>
        </p:blipFill>
        <p:spPr>
          <a:xfrm>
            <a:off x="1763640" y="1989000"/>
            <a:ext cx="4464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65ED-5C61-44A7-B055-EE8F02AC4E1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ACD6-0A0A-4279-9DF9-20576CD4E0A6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EBBA7623-27D4-4F43-9E74-DD7685AA4D43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22:0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انقسام الرئة وشقوقها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 fontScale="94000"/>
          </a:bodyPr>
          <a:p>
            <a:pPr marL="668520" indent="-668520" algn="r" rtl="1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الرئتان تنقسمان الى عدة فصوص بواسطة الشقوق بين الفصية , وهذه تكون واضحة خاصة على الوجه الوحشي للرئتين . وتتوقف على بعد مسافة قليلة من الوجه الانسي للرئ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8520" indent="-668520" algn="r" rtl="1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 u="sng">
                <a:solidFill>
                  <a:srgbClr val="ffffff"/>
                </a:solidFill>
                <a:uFillTx/>
                <a:latin typeface="Arial"/>
              </a:rPr>
              <a:t>الرئة اليمنى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: لدينا شقان يقسمان الرئة الى ثلاث فصوص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8520" indent="-668520" algn="r" rtl="1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الشق المنحرف : مائل الى الاسفل والأمام , يبدأ في الخلف والأعلى في مستوى المسافة الوربية الثالثة او الرابعة وينتهي في الاسفل والأمام في مستوى الوصل الغضروفي الضلعي السادس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8520" indent="-668520" algn="r" rtl="1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الشق الافقي     : مائل قليلا الى الاسفل والأمام , يبدأ في منتصف الشق المنحرف في مستوى المسافة الوربية الرابعة ويصل الحافة الامامية من الرئة في مستوى الغضروف الضلعي الرابع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8:29:53Z</dcterms:created>
  <dc:creator>د.قدري الحاج مصطفى</dc:creator>
  <dc:description/>
  <dc:language>en-US</dc:language>
  <cp:lastModifiedBy>user</cp:lastModifiedBy>
  <dcterms:modified xsi:type="dcterms:W3CDTF">2009-05-27T18:00:09Z</dcterms:modified>
  <cp:revision>32</cp:revision>
  <dc:subject/>
  <dc:title>Lungs الرئتان</dc:title>
</cp:coreProperties>
</file>