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1551-496C-4BD8-9A50-65DD2D25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0073-12AF-42BF-A7DF-455A6E03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383D-6EA5-4F27-B9A7-6A94938B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791D-80F8-4D77-9434-6B0DD768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5E3-1461-4ECC-82C7-6B2DF67B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69C1-FE6B-41B0-B0A1-295AF579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0AA7-60E9-4E3A-AE42-2C92A8E5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AD98-A55E-4D3D-893B-6628457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4F50-ABCC-413A-A110-29426BA8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662F-67C4-4863-9A8B-A345FA4B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2EC9-E54E-4A6E-9B02-AC53323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92C8-C09F-47A7-B67F-830D593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2CA-CFB1-47C3-801F-D2EA369A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91ED-5C16-4379-B716-20E6D2B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0C3-B14B-40A8-ADA1-191AA6CD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3B6B-B2DE-4374-B20F-26675970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081-353D-4017-93F8-D9200258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3816-0DB2-4ABB-8FCD-1B45199B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D6C0-EEC0-4E81-8473-3588FB52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37C1-19C0-4E76-BD5D-82E6F5BF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0A9E-5D9B-4036-8ECE-D665C73D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3EF4-6740-40AB-8D03-5FB4EA1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46BA-50FD-47AA-B391-B77CE81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8A21-CC4F-4C75-82F5-7002AD1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893-2DE4-4201-879A-A0F4E86B702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E0C-9D8D-4D31-9656-55EA6C23AB84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32F0B7D-4B36-454C-8818-8ED34308E557}" type="datetime10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0CC2-A723-418F-A6BB-73BA14B67711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959D2D6-041B-4F95-83BF-044D8241689E}" type="datetime10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B0D2-EA6E-4F22-8F4F-DDF6ABCF0CE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48E4-D826-42AD-AE2A-92C0D1C4E356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7E6EE80C-1698-4431-A3DF-7A67E5297E22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0DD4-5BC8-494B-B0EC-14D3ADCED19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8832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Lungs</a:t>
            </a:r>
            <a:r>
              <a:rPr b="0" lang="ar-SY" sz="4500" spc="-1" strike="noStrike">
                <a:solidFill>
                  <a:srgbClr val="ffffff"/>
                </a:solidFill>
                <a:latin typeface="Arial"/>
              </a:rPr>
              <a:t> الرئتان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50920" y="105264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هما عضوا التنفس بطرح غاز ثاني اوكسيد الكربون وتامين الاكسجة الكافية للدم تتغطيان بالجنية الحشوية , الرئة اليمنى اكبر من اليسرى (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غ \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غ ) وكذلك حجمها كبر , اليمنى لها ثلاث فصوص , واليسرى فصين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قمة الرئة تقع اعلى ب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2,5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من القسم الانسي من الترقوة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تقدر السعة الرئوية بحوالي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50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مكعب  موزعة كالتالي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1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هواء باقي لايخرج حتى بالزفير القسر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1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هواء يخرج بالزفير القسر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سم حجم الهواء المستنشق بالشهيق العاد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1500</a:t>
            </a: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سم حجم الهواء المستنشق بعد شهيق عادي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ffffff"/>
                </a:solidFill>
                <a:latin typeface="Arial"/>
              </a:rPr>
              <a:t>     كل رئة لها شكل  نصف مخروطي بحيث تبدي ثلاث وجوه ( انسي , وحشي , حاجزي ) . ولها قمة وثلاث حواف ( امامية , خلفية , سفلية )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5C5-4D7D-44EE-BF3A-75C359F7D82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79F-2CD0-407D-BD78-6BCCADB49077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CCB77C9F-FF91-4308-B9B1-316E1B18BF09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483px-Lungs_diagram_simple"/>
          <p:cNvPicPr/>
          <p:nvPr/>
        </p:nvPicPr>
        <p:blipFill>
          <a:blip r:embed="rId1"/>
          <a:stretch/>
        </p:blipFill>
        <p:spPr>
          <a:xfrm rot="367200">
            <a:off x="2050560" y="1711440"/>
            <a:ext cx="4848480" cy="4227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167000" y="3246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C2FA-E4B2-4ABE-851F-44CF192E0E2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17D-2D06-480C-B785-338A188A2F62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00184836-972C-4A3E-B6B7-54B4E978122B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-316080"/>
            <a:ext cx="7010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ة اليمنى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484280"/>
            <a:ext cx="7010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Y" sz="2400" spc="-1" strike="noStrike" u="sng">
                <a:solidFill>
                  <a:srgbClr val="ffffff"/>
                </a:solidFill>
                <a:uFillTx/>
                <a:latin typeface="Arial"/>
              </a:rPr>
              <a:t>الفص الرئوي العلوي الايمن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 يشكل الجزء الامامي العلوي من الرئة اليمنى . ان توزع القصبات الفصية العلوية تسمح بان ينقسم الى ثلاث شدف ( قمية , امامية , خلفية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400" spc="-1" strike="noStrike" u="sng">
                <a:solidFill>
                  <a:srgbClr val="ffffff"/>
                </a:solidFill>
                <a:uFillTx/>
                <a:latin typeface="Arial"/>
              </a:rPr>
              <a:t>الفص الرئوي المتوسط الايمن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يشكل الجزء الامامي السفلي من الرئة . وان توزع القصبة الفصية المتوسطة تسمح بان نقسمه الى شدفتين ( انسية , وحشية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400" spc="-1" strike="noStrike" u="sng">
                <a:solidFill>
                  <a:srgbClr val="ffffff"/>
                </a:solidFill>
                <a:uFillTx/>
                <a:latin typeface="Arial"/>
              </a:rPr>
              <a:t>الفص السفلي الرئوي الايمن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 يشكل الجزء الخلفي السفلي من الرئة , وان توزع القصبة الفصية السفلى يسمح بان نقسم هذا الفص الى خمس شدف ( قمية , قاعدية انسية , قاعدية امامية , قاعدية وحشية , قاعدية خلفية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لايوجد شقوق فاصلة بين الشدف المختلفة . والشدف هي عبارة عن وحدات وظيفية وهي معلمة بمسير الاوردة بين الشدف .وان الفصوص الاضافية عائدة لوجود شقوق غير عاد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A335-4867-4BFE-B748-155B5618083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C439-3A37-4806-A5CF-805E8ACDF2B9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E5516C75-FE40-4BDF-B60D-7C89E31323D6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ة اليسرى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0080" indent="-6400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تحوي شقا مائلا واحدا الى الاسفل والأمام والذي يبدأ من الخلف حذاء المسافة الوربية الثالثة وينتهي في الامام حذاء الوصل الغضروفي الضلعي السادس  , وهو يقسم الرئة الى فصين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0080" indent="-6400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فص العلوي الرئوي الايسر : وهو اضخم من العلوي الايمن ( يعادل العلوي والمتوسط ) . وان توزع القصبة الفصية العلوية يسمح بتقسيمه الى خمس شدف ( قمية , خلفية , امامية , اللسينة العلوية , اللسينة السف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0080" indent="-6400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فص السفلي الايسر الرئوي : مشابه تماما لنظيره الايمن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3CAD-4212-4215-90ED-F9140FE4B1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E118-395E-4B09-B369-97A513D91C01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678A9EDA-87B6-4D98-867F-A88B722365D1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مدخ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مع سر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تقيح رئ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Smokers_Lungs"/>
          <p:cNvPicPr/>
          <p:nvPr/>
        </p:nvPicPr>
        <p:blipFill>
          <a:blip r:embed="rId1"/>
          <a:stretch/>
        </p:blipFill>
        <p:spPr>
          <a:xfrm>
            <a:off x="1692360" y="1773360"/>
            <a:ext cx="561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5061-3AE7-47B1-8197-51FE29B8C8D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E55-D0FF-4704-BDF2-42D41E644F87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71CDD1E9-EB91-4185-B8FD-9DE51B6303D9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سلي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رئة انتفاخ رئ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lungs"/>
          <p:cNvPicPr/>
          <p:nvPr/>
        </p:nvPicPr>
        <p:blipFill>
          <a:blip r:embed="rId1"/>
          <a:stretch/>
        </p:blipFill>
        <p:spPr>
          <a:xfrm>
            <a:off x="1692360" y="1989000"/>
            <a:ext cx="4762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A508-F399-4E8C-A4A2-C7AD0BBB6CC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582-3785-4132-A895-23CFCC514485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8DC7EF5B-9318-4476-8FD3-962CFF83DB12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268280"/>
            <a:ext cx="70102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قاعدة الرئة هلالية ومقعرة وتتوافق مع تحدب السطح العلوي للحجاب الحاجز الذي يفصل الرئة اليمنى عن الفص الكبدي الايمن , والرئة اليسرى عن الفص الكبدي الايسر , وعن قاع المعدة والطحال . ويكون تقعر القاعدة اليمنى اشد من اليسرى . وتتمادى القاعدة في الخلف والوحشي بحافة رقيقة حادة وتبرز لمسافة قصيرة ضمن الجيب الضلعي الحاجزي الجنبي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قمة الرئة مدورة وفي مستوى الفوهة العلوية للصدر . وتكون مغلفة بالقديح الجنبوي , وهذا الجزء يقع ب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سم اعلى من السطح العلوي لغضروف الضلع الاول , لكن في الخلف يقع في مستوى الحد العلوي لعنق الضلع الاول . وهذه القمة اعلى تقريبا ب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2,5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سم من القسم الانسي للترقو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13B6-53BF-4DA7-B78F-7047F29E222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94EC-ACFF-454A-A25F-F82149CCFA7E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4121881D-7CFF-4CE5-B285-12C8E488E07A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-Labelled_Lungs"/>
          <p:cNvPicPr/>
          <p:nvPr/>
        </p:nvPicPr>
        <p:blipFill>
          <a:blip r:embed="rId1"/>
          <a:stretch/>
        </p:blipFill>
        <p:spPr>
          <a:xfrm>
            <a:off x="1692360" y="1989000"/>
            <a:ext cx="40003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0B07-ABFE-49CA-ACD9-F02AAA588C1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0C15-88BE-4808-95CE-822D2B6BBDD9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4EBE4270-CB7F-409E-8B65-726A52D57996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 تكوين الرئة الداخل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125000"/>
            <a:ext cx="70102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تتكون الرئة م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جزء داخل الرئة من عناصر جذر الرئ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نسيج ضام مرن يملا الساحة الواقعة بين هذه العناصر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كل فص رئوي ينقسم الى شدف , وكل شدفة تتألف من باحة هرمية الشكل ذروتها في سرة الرئة وقاعدتها في محيط الرئة وتصلها قصبة شدفية , بحيث تحتوي كل رئة عشر شدفات قصبية رئ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قصبة فصية &gt;&gt;&gt; قصبة فصيصية  ( تنقسم من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مرات 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&gt;&gt;&gt; قصيبات انتهائية قطر كل واحدة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ملم  وغيب الغضروف من جدارها &gt;&gt;&gt; كل قصبية انتهائية &gt;&gt;&gt;&gt; تتس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 لتصبح ممرا فتدعى القناة السنخية &gt;&gt;&gt; تنقسم لتشكل اقنية مغطاة بجدر مقببة  وهذا التقبب ناتج عن اتصال جدر هذه الاقنية السنخية برتوج صغيرة تشكل ما يدعى بالاسناخ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2949-AE1C-42CB-9E21-2B74DA118C7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EA9B-4FD3-4B27-9A75-EE1A2695BEE1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34B623EE-1F3A-4DFF-9CC7-0CFA5B3D77C2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lungs"/>
          <p:cNvPicPr/>
          <p:nvPr/>
        </p:nvPicPr>
        <p:blipFill>
          <a:blip r:embed="rId1"/>
          <a:stretch/>
        </p:blipFill>
        <p:spPr>
          <a:xfrm>
            <a:off x="1619280" y="1844640"/>
            <a:ext cx="4324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4AB-DAC7-4B73-BD37-3BB400AFDE5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170A-17C0-4B8E-B4DD-77824514F6AB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2879B498-FDBD-4616-8F84-F7A4EDAC5770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تكوين الرئة الداخلي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illu_bronchi_lungs"/>
          <p:cNvPicPr/>
          <p:nvPr/>
        </p:nvPicPr>
        <p:blipFill>
          <a:blip r:embed="rId1"/>
          <a:stretch/>
        </p:blipFill>
        <p:spPr>
          <a:xfrm>
            <a:off x="1692360" y="1989000"/>
            <a:ext cx="4952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335D-0EE7-4F1C-A231-95193053402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9682-9992-4D58-9DC8-755FAF4566C2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32A65303-54E4-4449-95BA-F824493A635A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Arial"/>
              </a:rPr>
              <a:t>الرئ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lungs"/>
          <p:cNvPicPr/>
          <p:nvPr/>
        </p:nvPicPr>
        <p:blipFill>
          <a:blip r:embed="rId1"/>
          <a:stretch/>
        </p:blipFill>
        <p:spPr>
          <a:xfrm>
            <a:off x="1908000" y="2133720"/>
            <a:ext cx="35434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0752-332B-4EE7-9413-C867A21761A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A16B-E64A-407E-B38B-B0F45CBF8F5A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1CD2DAA7-FF8A-4F99-BDF7-AE714B5BBF9B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1103"/>
          <p:cNvPicPr/>
          <p:nvPr/>
        </p:nvPicPr>
        <p:blipFill>
          <a:blip r:embed="rId1"/>
          <a:stretch/>
        </p:blipFill>
        <p:spPr>
          <a:xfrm>
            <a:off x="1763640" y="1989000"/>
            <a:ext cx="4464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الاستاذ الدكتور قدري الحاج مصطفى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عنصر نائب لرقم الشريحة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402-D2D3-43D8-8408-31B57B746A5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عنصر نائب للتاريخ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7CB8-39BC-45E6-8639-47FBCCD39A0B}" type="datetime">
              <a:rPr b="0" lang="ar-SA" sz="1200" spc="-1" strike="noStrike">
                <a:solidFill>
                  <a:srgbClr val="ffffff"/>
                </a:solidFill>
                <a:latin typeface="Arial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55DE05CB-249B-45C2-A3CD-AC804BBF70D8}" type="datetime10">
              <a:rPr b="0" lang="ar-SA" sz="1200" spc="-1" strike="noStrike">
                <a:solidFill>
                  <a:srgbClr val="ffffff"/>
                </a:solidFill>
                <a:latin typeface="Arial"/>
              </a:rPr>
              <a:t>12:37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900" spc="-1" strike="noStrike">
                <a:solidFill>
                  <a:srgbClr val="ffffff"/>
                </a:solidFill>
                <a:latin typeface="Arial"/>
              </a:rPr>
              <a:t>انقسام الرئة وشقوقها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4000"/>
          </a:bodyPr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رئتان تنقسمان الى عدة فصوص بواسطة الشقوق بين الفصية , وهذه تكون واضحة خاصة على الوجه الوحشي للرئتين . وتتوقف على بعد مسافة قليلة من الوجه الانسي للرئ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ffffff"/>
                </a:solidFill>
                <a:uFillTx/>
                <a:latin typeface="Arial"/>
              </a:rPr>
              <a:t>الرئة اليمنى</a:t>
            </a: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 : لدينا شقان يقسمان الرئة الى ثلاث فصوص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شق المنحرف : مائل الى الاسفل والأمام , يبدأ في الخلف والأعلى في مستوى المسافة الوربية الثالثة او الرابعة وينتهي في الاسفل والأمام في مستوى الوصل الغضروفي الضلعي السادس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8520" indent="-668520" algn="r" rtl="1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Arial"/>
              </a:rPr>
              <a:t>الشق الافقي     : مائل قليلا الى الاسفل والأمام , يبدأ في منتصف الشق المنحرف في مستوى المسافة الوربية الرابعة ويصل الحافة الامامية من الرئة في مستوى الغضروف الضلعي الراب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8:29:53Z</dcterms:created>
  <dc:creator>د.قدري الحاج مصطفى</dc:creator>
  <dc:description/>
  <dc:language>en-US</dc:language>
  <cp:lastModifiedBy>user</cp:lastModifiedBy>
  <dcterms:modified xsi:type="dcterms:W3CDTF">2009-05-27T18:00:09Z</dcterms:modified>
  <cp:revision>32</cp:revision>
  <dc:subject/>
  <dc:title>Lungs الرئتان</dc:title>
</cp:coreProperties>
</file>