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29EA-954A-4416-8837-40BB27546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BC00-EA4D-45C9-9953-9B9C07FDC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DF9E-EC27-4629-B369-DDA15893E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21DC-1C05-4A80-95FA-A0FAE567B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66AD-CE32-4886-B985-67C1B6D46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BF2A-AB9B-4CD0-8E2D-3EC17164A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16B-5F3A-41AB-85D8-1D241A5F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E7D-669A-416D-8741-8E84DFC9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9B1-6F21-4E59-9DC1-57F93DA8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5B5-8EBF-46E3-A949-1277E59C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957-39F1-4771-ACEF-FDA34FF5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DC4-4E60-4382-AD37-04D52026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ECE-85A7-48AD-B5C4-14307B3A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EE9-D576-402E-87C3-A05002E2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9CA-18A2-4018-AC60-EB4E86C4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F89-267D-4601-A94F-CF71DA67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510-0AAD-4B5A-B540-1308DA50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542-BF4C-4FE6-8B7A-7A477C5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8906-9336-417E-BA3E-50556243F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URAN-UKURAN STATIS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kuran Tendensi Sentral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entral tendency measurement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a-rata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lai tengah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kuran Lokasi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Location measurement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enti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cent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rti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rt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9920" indent="-45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l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CE1-6427-44DE-B7F9-05096968DCC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27000" y="187956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ata-rata Hitung (M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ena banyaknya data genap (70), maka median merupakan rata-rata nilai ke-35 dan ke-36, ya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75 + 475)/2 = 4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d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50 (muncul sebanyak 7 k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701800" y="1955880"/>
                <a:ext cx="42386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14400" y="304920"/>
            <a:ext cx="8077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488-9A77-4455-9E3E-7227D2BA7A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27000" y="1981080"/>
            <a:ext cx="792504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ATA BERKELOM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i contoh Bengkel Hudson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304920"/>
            <a:ext cx="8077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66680" y="3048120"/>
          <a:ext cx="7315200" cy="3305160"/>
        </p:xfrm>
        <a:graphic>
          <a:graphicData uri="http://schemas.openxmlformats.org/drawingml/2006/table">
            <a:tbl>
              <a:tblPr/>
              <a:tblGrid>
                <a:gridCol w="1347840"/>
                <a:gridCol w="1319400"/>
                <a:gridCol w="990360"/>
                <a:gridCol w="1295640"/>
                <a:gridCol w="1218960"/>
                <a:gridCol w="1143000"/>
              </a:tblGrid>
              <a:tr h="68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aya ($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uensi (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kuensi kumulat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Bou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–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–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–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–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– 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– 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27432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274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7C6-8A4F-479A-BC86-2A88BE685B4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ATA BERKELOMPOK 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ata-rata Hitung (M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d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81280" y="2895480"/>
                <a:ext cx="349092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15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,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914400" y="304920"/>
            <a:ext cx="8077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743200" y="4114800"/>
                <a:ext cx="5070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dia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565360" y="5410080"/>
                <a:ext cx="4368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u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467-36EB-43AD-B129-9D2DF7A55E3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LEBIHAN &amp; KEKURANGAN RATA-RATA , MEDIAN &amp; MOD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ata-rata Hitung (M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ebih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ibatkan seluruh observa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ka dengan adanya penambaha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dari data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a-rata = 6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a-rata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kurang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gat peka dengan adanya nilai ekstrim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l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: Dari 2 kelompok data berik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. 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a-rata = 6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03440"/>
                <a:tab algn="l" pos="2054160"/>
                <a:tab algn="l" pos="2517840"/>
                <a:tab algn="l" pos="2968560"/>
                <a:tab algn="l" pos="3432240"/>
                <a:tab algn="l" pos="3882960"/>
                <a:tab algn="l" pos="4346640"/>
                <a:tab algn="l" pos="4797360"/>
                <a:tab algn="l" pos="5365800"/>
                <a:tab algn="l" pos="6056280"/>
                <a:tab algn="l" pos="6745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. I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a-rata = 10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B3D-990D-4409-9827-7B111497CEB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LEBIHAN &amp; KEKURANGAN RATA-RATA , MEDIAN &amp; MOD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ebih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ka terhadap adanya nilai ekst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: Dari 2 kelompok data berik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. 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. I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I = Median II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kurang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gat peka dengan adanya penambahan data (sangat dipengaruhi oleh banyaknya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54160"/>
                <a:tab algn="l" pos="2743200"/>
                <a:tab algn="l" pos="3492360"/>
                <a:tab algn="l" pos="4167360"/>
                <a:tab algn="l" pos="4856040"/>
                <a:tab algn="l" pos="560700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: Jika ada satu observasi baru masuk ke dalam kelompok I, maka median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787-00D3-4A11-98F7-1206951BE7C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LEBIHAN &amp; KEKURANGAN RATA-RATA , MEDIAN &amp; MODU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lebih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ka terhadap adanya nilai ekst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: Dari 2 kelompok data berik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.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l. 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s I = Modus II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kuranga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ka terhadap penambahan jumlah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toh: Pada 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s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24160"/>
                <a:tab algn="l" pos="1889280"/>
                <a:tab algn="l" pos="2459160"/>
                <a:tab algn="l" pos="3087720"/>
                <a:tab algn="l" pos="3657600"/>
                <a:tab algn="l" pos="4227480"/>
                <a:tab algn="l" pos="4797360"/>
                <a:tab algn="l" pos="5365800"/>
                <a:tab algn="l" pos="583092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s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824-A3D2-4581-98A3-9DA9F51F87D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ion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rsentil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Percentile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entil merupakan suatu ukuran yang membagi sekumpulan data menjadi 100 bagian sama be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entil ke-p dari sekumpulan data merupakan nilai data sehingga paling tidak p persen obyek berada pada nilai tersebut atau lebih kecil dan paling tidak (100 - p) percent obyek berada pada nilai tersebut atau lebih be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075-C748-45F7-8E9D-8025E5D75D8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ion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ersentil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Percentile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 (Lanjut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 pencarian perse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utkan dari dari yang terkecil ke terbe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i nilai i yang menunjukkan posisi persentil ke-p dengan rum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(p/100)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i bukan bilangan bulat, maka bulatkan ke atas.  Persentil ke-p merupakan nilai data pada posisi ke-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i merupakan bilangan bulat, maka persentil ke-p merupakan rata-rata nilai pada posisi ke-i dan ke-(i+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6EE1-10A5-42CF-A2EB-4F93511F2DD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dasarkan kasus sewa kamar apar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entil ke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itu posisi data ke-(p/100)n = (90/100)70 =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ena i=63 merupakan bilangan bulat, maka persentil ke-90 merupakan rata-rata nilai data ke 63 dan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entil ke-90 = (580 + 590)/2 = 5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049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52480" y="4267080"/>
          <a:ext cx="641664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267080"/>
                    <a:ext cx="6416640" cy="2286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3C1B-1A40-4F4D-B371-BD4F76906F8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ion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Kuartil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Quartile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rtil merupakan suatu ukuran yang membagi data menjadi 4 (empat) bagian sama b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rtil merupakan bentuk khusus dari persentil, di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artil pertama = Percentile ke-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artil kedua = Percentile ke-50 =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artil ketiga = Percentile ke-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620-F3EE-493C-8D13-888A91D02B1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URAN-UKURAN STATIST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kuran Dispersi/Keragaman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Variability measurement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rak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gam/Varia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angan Baku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a-rata deviasi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7AC-1C88-438C-9325-4665D530EDC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69932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dasarkan kasus sewa kamar apar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artil ke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artil ke-3 = Percentile ke-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itu data ke-(p/100)n = (75/100)70 = 52.5 = 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di kuartil ke-3 = 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84520" y="4098960"/>
          <a:ext cx="6400800" cy="22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4098960"/>
                    <a:ext cx="6400800" cy="2271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14400" y="3049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D5E-52AE-47A7-828C-49E407F4D4C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ion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esil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Decile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upakan suatu ukuran yang membagi sekumpulan data menjadi 10 bagian sama b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upakan bentuk khusus dari persentil, dim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l ke-1 = persentil ke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l ke-2 = persentil ke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l ke-3 = persentil ke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66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l ke-9 = persentil ke-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444-4977-409C-97B0-1609A4DC38E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0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dasarkan kasus sewa kamar apar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l ke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l ke-9 = Percentile ke-90 = 5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049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KURAN LOKASI 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04920" y="3108240"/>
          <a:ext cx="6983280" cy="28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3108240"/>
                    <a:ext cx="6983280" cy="2849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3A9-42AB-4E35-9B20-7111DA6FB3D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KERAGAMAN/ DISPERS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92160"/>
            <a:ext cx="792468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gukur seberapa besar keragam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sama-sama dengan ukuran sentral, ukuran ini berguna untuk membandingkan 2 atau lebih kelompok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am pemilihan 2 suplier A atau B, umumnya kita tidak cukup hanya dengan melihat lamanya rata-rata waktu pengiriman barang yang dilakukan masing-masing suplier, namun juga variasi/keragaman lamanya waktu pengiriman bar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FAF-7ACF-444A-83D6-69A963957D2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KERAGAMAN/ DISPERS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892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Jarak (R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= selisih nilai terbesar dan nilai terke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merupakan ukuran keragaman yang paling seder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gat peka terhadap data dengan nilai terbesar dan nilai terke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: Kasus sewa kamar apar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= 615 - 425 = 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63C-35D3-4AA7-8F1D-C8705E9951D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URAN KERAGAMAN/ DISPERS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arian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Varianc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-410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upakan ukuran keragaman yang melibatkan seluru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-410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asarkan pada perbedaan antara nilai tiap observasi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an rata-ratanya (     untuk sampel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tuk popula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-410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us H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s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 =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275520" y="3139920"/>
                <a:ext cx="35856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057400" y="5181480"/>
                <a:ext cx="205740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562720" y="5238720"/>
                <a:ext cx="2109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A358-8637-4EB0-9CD5-45A2F05E69C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URAN KERAGAMAN/ DISPERS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2"/>
              <a:tabLst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arian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Varianc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 – (Lanjut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4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uk Data Berkelompok, rumus hit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s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 =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yaknya k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kuensi kelas ke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11284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lai tengah kelas ke-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20720" y="3259080"/>
                <a:ext cx="25765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715000" y="3471840"/>
                <a:ext cx="235260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18B-26E5-4138-8944-D52563CC71F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KERAGAMAN/ DISPERS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impangan baku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Standard deviatio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upakan akar positif dari v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ukur pada satuan data yang sama, sehingga mudah untuk diperbanding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us H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:  Simpangan baku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si: Simpangan baku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611680" y="4168800"/>
                <a:ext cx="13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791320" y="5181480"/>
                <a:ext cx="12952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9E8-DC08-47A0-80DA-FCB6D9DE35B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KERAGAMAN/ DISPERS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89216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Koefisien Variasi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Coefficient of Variatio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gindikasikan seberapa besar nilai simpangan baku relatif terhadap rata-rata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us H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: Koefisien Variasi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si: Koefisien Variasi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486400" y="3662280"/>
                <a:ext cx="18176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791320" y="4683240"/>
                <a:ext cx="18288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CD9-A725-4458-AF8A-66818CE0558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040" y="1904760"/>
            <a:ext cx="7699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ATA TIDAK BERKELOM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Kasus Sewa Kamar Apar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angan Ba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efisien Vari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590920" y="3048120"/>
                <a:ext cx="32875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66880" y="4465800"/>
                <a:ext cx="32767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99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666880" y="5562720"/>
                <a:ext cx="3113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914400" y="304920"/>
            <a:ext cx="8077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KERAGAMAN/ DISPER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9E3-27BF-4E00-9F8D-78DE5D84D6E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al tendenc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ata-rata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data berasal dari suatu sampel, maka rata-rata (mean) dirumus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idak Berkelomp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erkelomp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a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ilai tengah kelas ke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rekuensi kelas ke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613400" y="3276720"/>
                <a:ext cx="1116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82880" y="4449600"/>
                <a:ext cx="113508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91C-DCBB-4410-BC33-F6DA6A525C7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ATA BERKELOM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h Kasus Bengkel Hudson 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angan Ba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efisien Vari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124080" y="2819520"/>
                <a:ext cx="453096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914400" y="304920"/>
            <a:ext cx="8077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KERAGAMAN/ DISPERS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riabilit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617920" y="4533840"/>
                <a:ext cx="2993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048120" y="5638680"/>
                <a:ext cx="2925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AA4-638F-45F9-9321-BE5C41C8B86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KIAN &amp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YOU NEXT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F81-7C37-4ACF-9231-2479440ED3A9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al tendenc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ata-rata (</a:t>
            </a:r>
            <a:r>
              <a:rPr b="0" i="1" lang="en-US" sz="2400" spc="-1" strike="noStrike">
                <a:solidFill>
                  <a:srgbClr val="009999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) – (Lanjut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data merupakan data populasi, maka rata-rata dirumus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idak Berkelomp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erkelomp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a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ilai tengah kelas ke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8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rekuensi kelas ke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792600" y="3298680"/>
                <a:ext cx="11160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790800" y="4454640"/>
                <a:ext cx="11178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2FB-5FD8-4A8F-96E0-9899D2B47F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al tendenc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upakan suatu nilai yang terletak di tengah-tengah sekelompok data setelah data tersebut diurutkan dari yang terkecil samp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rbe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atu nilai yang membagi sekelompok data dengan jumlah yang sama be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tuk data ganjil, median merupakan nilai yang terletak di tengah sekumpulan data, yaitu di urutan k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tuk data genap, median merupakan rata-rata nilai yang terletak pada urutan ke-     d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154320" y="4916520"/>
                <a:ext cx="628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735600" y="5867280"/>
                <a:ext cx="274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683480" y="5867280"/>
                <a:ext cx="685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EA9-2A6E-4C85-9E73-84C8CD9741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al tendenc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1320" indent="-48132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2"/>
              <a:tabLst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dian – (Lanjut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-473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datanya berkelompok, maka median dapat dicari dengan rumus berik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wer 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epi bawah kelas med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anyaknya observ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um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rekuensi kumulatif kurang dari kelas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edi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rekuensi kelas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9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nterval k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3276720"/>
                <a:ext cx="39895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dia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m</m:t>
                            </m:r>
                            <m:r>
                              <m:t xml:space="preserve">&lt;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CBE-8F72-4D61-AB73-50155522A1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al tendenc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upakan suatu nilai yang paling sering muncul (nilai dengan frekuensi muncul terbes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data memiliki dua modus, disebut bim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data memiliki modus lebih dari 2, disebut multim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0E7-3BA6-4BE8-8BD1-156418292CB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al tendency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dus – (Lanjut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ka data berkelompok, modus dapat dicari dengan rumus berik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wer Bound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epi bawah kelas deng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frekuensi terbesar/kelas mod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rekuensi kelas modus dikurangi frekuensi kel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sebelum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rekuensi kelas modus dikurangi frekuensi kel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sesudah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interval ke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52680" y="3124080"/>
                <a:ext cx="35751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u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B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1CB-AF34-4976-8B7F-49383CC10B9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27000" y="1981080"/>
            <a:ext cx="792504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ATA TIDAK BERKELOM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ikut adalah data sampel tentang nilai sewa bulanan untuk satu kamar apartemen ($). Berikut adalah data yang berasal dari 70 apartemen di suatu kota tert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447920" y="3733920"/>
          <a:ext cx="6615000" cy="231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615000" cy="23158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914400" y="304920"/>
            <a:ext cx="8077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KURAN TENDENSI SENTRAL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oh Penghitung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D4C-54CD-4108-9280-5D1750C2FDF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4:28:28Z</dcterms:created>
  <dc:creator>UPPM</dc:creator>
  <dc:description/>
  <dc:language>en-US</dc:language>
  <cp:lastModifiedBy>user</cp:lastModifiedBy>
  <dcterms:modified xsi:type="dcterms:W3CDTF">2003-07-24T18:12:30Z</dcterms:modified>
  <cp:revision>76</cp:revision>
  <dc:subject/>
  <dc:title>STATISTIK BISNIS</dc:title>
</cp:coreProperties>
</file>