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1497-062C-4072-B854-C1529FF79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0529-8C1D-48EC-992E-07273D343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EC26-C18D-4C8C-90DC-9BDC13648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1965-0E03-4C31-8385-A8B5A67AA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D424-8FCD-436F-98F5-632D96116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BFA1-8F56-4361-8EBB-93A03F6E3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443E-048A-4548-99D0-D0125A4F1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4863-8BD7-4FFA-B40E-7D48CC47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E3E2-BF1C-459C-B862-277C674A3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7C39-0AB4-4500-AB2C-10533CA3C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5D51-2D88-4F48-BF19-72A549CE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2CD6-7388-408D-BF3A-073384AE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6346-131C-4901-B526-66C1A862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78B3-E9F2-4601-9650-452816E9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0E47-CA06-4326-9525-FBA042AD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CFB5-02A9-4049-A22E-C0B10DE7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4F86-6D4A-45A1-9946-E6A34BF7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2B7B-35A8-4BE1-BD65-AB5D39E6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1EA3-7FF0-48C6-9B91-82D934DCE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KURAN-UKURAN STATIST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Ukuran Tendensi Sentral (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Central tendency measurement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9920" indent="-45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a-rata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9920" indent="-45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lai tengah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di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9920" indent="-45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9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Ukuran Lokasi (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Location measurement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9920" indent="-45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entil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rcenti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9920" indent="-45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artil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uarti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9920" indent="-45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l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ci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1A82-F081-426B-BA80-E2608993192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927000" y="187956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Rata-rata Hitung (Me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ed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ena banyaknya data genap (70), maka median merupakan rata-rata nilai ke-35 dan ke-36, yai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75 + 475)/2 = 4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od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450 (muncul sebanyak 7 ka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701800" y="1955880"/>
                <a:ext cx="423864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914400" y="304920"/>
            <a:ext cx="807732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KURAN TENDENSI SENTRAL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ntoh Penghitungan) (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2FE7-82B2-4388-97CE-082C9A84CE0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927000" y="1981080"/>
            <a:ext cx="792504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DATA BERKELOMP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ri contoh Bengkel Hudson A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304920"/>
            <a:ext cx="807732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KURAN TENDENSI SENTRAL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ntoh Penghitungan) (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066680" y="3048120"/>
          <a:ext cx="7315200" cy="3305160"/>
        </p:xfrm>
        <a:graphic>
          <a:graphicData uri="http://schemas.openxmlformats.org/drawingml/2006/table">
            <a:tbl>
              <a:tblPr/>
              <a:tblGrid>
                <a:gridCol w="1347840"/>
                <a:gridCol w="1319400"/>
                <a:gridCol w="990360"/>
                <a:gridCol w="1295640"/>
                <a:gridCol w="1218960"/>
                <a:gridCol w="1143000"/>
              </a:tblGrid>
              <a:tr h="68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aya (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kuensi (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kuensi kumulat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 Bou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–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–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– 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– 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– 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– 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1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1C5C-5DC0-406B-A3FB-4BA25B1643E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DATA BERKELOMPOK (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Rata-rata Hitung (Me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ed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od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581280" y="2895480"/>
                <a:ext cx="349092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915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t xml:space="preserve">,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914400" y="304920"/>
            <a:ext cx="807732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KURAN TENDENSI SENTRAL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ntoh Penghitungan) (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743200" y="4114800"/>
                <a:ext cx="50706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dia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t xml:space="preserve">,</m:t>
                    </m:r>
                    <m:r>
                      <m:t xml:space="preserve">5</m:t>
                    </m:r>
                    <m:r>
                      <m:t xml:space="preserve">+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565360" y="5410080"/>
                <a:ext cx="43689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u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t xml:space="preserve">,</m:t>
                    </m:r>
                    <m:r>
                      <m:t xml:space="preserve">5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4670-23E6-4455-A39E-3518CC6D5CB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LEBIHAN &amp; KEKURANGAN RATA-RATA , MEDIAN &amp; MODU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1603440"/>
                <a:tab algn="l" pos="2054160"/>
                <a:tab algn="l" pos="2517840"/>
                <a:tab algn="l" pos="2968560"/>
                <a:tab algn="l" pos="3432240"/>
                <a:tab algn="l" pos="3882960"/>
                <a:tab algn="l" pos="4346640"/>
                <a:tab algn="l" pos="4797360"/>
                <a:tab algn="l" pos="5365800"/>
                <a:tab algn="l" pos="6056280"/>
                <a:tab algn="l" pos="6745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Rata-rata Hitung (Me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603440"/>
                <a:tab algn="l" pos="2054160"/>
                <a:tab algn="l" pos="2517840"/>
                <a:tab algn="l" pos="2968560"/>
                <a:tab algn="l" pos="3432240"/>
                <a:tab algn="l" pos="3882960"/>
                <a:tab algn="l" pos="4346640"/>
                <a:tab algn="l" pos="4797360"/>
                <a:tab algn="l" pos="5365800"/>
                <a:tab algn="l" pos="6056280"/>
                <a:tab algn="l" pos="6745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lebiha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603440"/>
                <a:tab algn="l" pos="2054160"/>
                <a:tab algn="l" pos="2517840"/>
                <a:tab algn="l" pos="2968560"/>
                <a:tab algn="l" pos="3432240"/>
                <a:tab algn="l" pos="3882960"/>
                <a:tab algn="l" pos="4346640"/>
                <a:tab algn="l" pos="4797360"/>
                <a:tab algn="l" pos="5365800"/>
                <a:tab algn="l" pos="6056280"/>
                <a:tab algn="l" pos="6745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ibatkan seluruh observa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603440"/>
                <a:tab algn="l" pos="2054160"/>
                <a:tab algn="l" pos="2517840"/>
                <a:tab algn="l" pos="2968560"/>
                <a:tab algn="l" pos="3432240"/>
                <a:tab algn="l" pos="3882960"/>
                <a:tab algn="l" pos="4346640"/>
                <a:tab algn="l" pos="4797360"/>
                <a:tab algn="l" pos="5365800"/>
                <a:tab algn="l" pos="6056280"/>
                <a:tab algn="l" pos="6745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dak peka dengan adanya penambahan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603440"/>
                <a:tab algn="l" pos="2054160"/>
                <a:tab algn="l" pos="2517840"/>
                <a:tab algn="l" pos="2968560"/>
                <a:tab algn="l" pos="3432240"/>
                <a:tab algn="l" pos="3882960"/>
                <a:tab algn="l" pos="4346640"/>
                <a:tab algn="l" pos="4797360"/>
                <a:tab algn="l" pos="5365800"/>
                <a:tab algn="l" pos="6056280"/>
                <a:tab algn="l" pos="6745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oh dari data 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603440"/>
                <a:tab algn="l" pos="2054160"/>
                <a:tab algn="l" pos="2517840"/>
                <a:tab algn="l" pos="2968560"/>
                <a:tab algn="l" pos="3432240"/>
                <a:tab algn="l" pos="3882960"/>
                <a:tab algn="l" pos="4346640"/>
                <a:tab algn="l" pos="4797360"/>
                <a:tab algn="l" pos="5365800"/>
                <a:tab algn="l" pos="6056280"/>
                <a:tab algn="l" pos="6745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a-rata = 6,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603440"/>
                <a:tab algn="l" pos="2054160"/>
                <a:tab algn="l" pos="2517840"/>
                <a:tab algn="l" pos="2968560"/>
                <a:tab algn="l" pos="3432240"/>
                <a:tab algn="l" pos="3882960"/>
                <a:tab algn="l" pos="4346640"/>
                <a:tab algn="l" pos="4797360"/>
                <a:tab algn="l" pos="5365800"/>
                <a:tab algn="l" pos="6056280"/>
                <a:tab algn="l" pos="6745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a-rata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603440"/>
                <a:tab algn="l" pos="2054160"/>
                <a:tab algn="l" pos="2517840"/>
                <a:tab algn="l" pos="2968560"/>
                <a:tab algn="l" pos="3432240"/>
                <a:tab algn="l" pos="3882960"/>
                <a:tab algn="l" pos="4346640"/>
                <a:tab algn="l" pos="4797360"/>
                <a:tab algn="l" pos="5365800"/>
                <a:tab algn="l" pos="6056280"/>
                <a:tab algn="l" pos="67453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603440"/>
                <a:tab algn="l" pos="2054160"/>
                <a:tab algn="l" pos="2517840"/>
                <a:tab algn="l" pos="2968560"/>
                <a:tab algn="l" pos="3432240"/>
                <a:tab algn="l" pos="3882960"/>
                <a:tab algn="l" pos="4346640"/>
                <a:tab algn="l" pos="4797360"/>
                <a:tab algn="l" pos="5365800"/>
                <a:tab algn="l" pos="6056280"/>
                <a:tab algn="l" pos="6745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kuranga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603440"/>
                <a:tab algn="l" pos="2054160"/>
                <a:tab algn="l" pos="2517840"/>
                <a:tab algn="l" pos="2968560"/>
                <a:tab algn="l" pos="3432240"/>
                <a:tab algn="l" pos="3882960"/>
                <a:tab algn="l" pos="4346640"/>
                <a:tab algn="l" pos="4797360"/>
                <a:tab algn="l" pos="5365800"/>
                <a:tab algn="l" pos="6056280"/>
                <a:tab algn="l" pos="6745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ngat peka dengan adanya nilai ekstrim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utli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603440"/>
                <a:tab algn="l" pos="2054160"/>
                <a:tab algn="l" pos="2517840"/>
                <a:tab algn="l" pos="2968560"/>
                <a:tab algn="l" pos="3432240"/>
                <a:tab algn="l" pos="3882960"/>
                <a:tab algn="l" pos="4346640"/>
                <a:tab algn="l" pos="4797360"/>
                <a:tab algn="l" pos="5365800"/>
                <a:tab algn="l" pos="6056280"/>
                <a:tab algn="l" pos="6745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oh: Dari 2 kelompok data berik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603440"/>
                <a:tab algn="l" pos="2054160"/>
                <a:tab algn="l" pos="2517840"/>
                <a:tab algn="l" pos="2968560"/>
                <a:tab algn="l" pos="3432240"/>
                <a:tab algn="l" pos="3882960"/>
                <a:tab algn="l" pos="4346640"/>
                <a:tab algn="l" pos="4797360"/>
                <a:tab algn="l" pos="5365800"/>
                <a:tab algn="l" pos="6056280"/>
                <a:tab algn="l" pos="6745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l. 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a-rata = 6,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603440"/>
                <a:tab algn="l" pos="2054160"/>
                <a:tab algn="l" pos="2517840"/>
                <a:tab algn="l" pos="2968560"/>
                <a:tab algn="l" pos="3432240"/>
                <a:tab algn="l" pos="3882960"/>
                <a:tab algn="l" pos="4346640"/>
                <a:tab algn="l" pos="4797360"/>
                <a:tab algn="l" pos="5365800"/>
                <a:tab algn="l" pos="6056280"/>
                <a:tab algn="l" pos="6745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l. I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a-rata = 10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2322-69FC-4D3E-919D-6FCB55B52A7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LEBIHAN &amp; KEKURANGAN RATA-RATA , MEDIAN &amp; MODU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2054160"/>
                <a:tab algn="l" pos="2743200"/>
                <a:tab algn="l" pos="3492360"/>
                <a:tab algn="l" pos="4167360"/>
                <a:tab algn="l" pos="4856040"/>
                <a:tab algn="l" pos="56070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ed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054160"/>
                <a:tab algn="l" pos="2743200"/>
                <a:tab algn="l" pos="3492360"/>
                <a:tab algn="l" pos="4167360"/>
                <a:tab algn="l" pos="4856040"/>
                <a:tab algn="l" pos="56070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lebiha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54160"/>
                <a:tab algn="l" pos="2743200"/>
                <a:tab algn="l" pos="3492360"/>
                <a:tab algn="l" pos="4167360"/>
                <a:tab algn="l" pos="4856040"/>
                <a:tab algn="l" pos="56070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dak peka terhadap adanya nilai ekst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54160"/>
                <a:tab algn="l" pos="2743200"/>
                <a:tab algn="l" pos="3492360"/>
                <a:tab algn="l" pos="4167360"/>
                <a:tab algn="l" pos="4856040"/>
                <a:tab algn="l" pos="56070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oh: Dari 2 kelompok data berik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054160"/>
                <a:tab algn="l" pos="2743200"/>
                <a:tab algn="l" pos="3492360"/>
                <a:tab algn="l" pos="4167360"/>
                <a:tab algn="l" pos="4856040"/>
                <a:tab algn="l" pos="56070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l. 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054160"/>
                <a:tab algn="l" pos="2743200"/>
                <a:tab algn="l" pos="3492360"/>
                <a:tab algn="l" pos="4167360"/>
                <a:tab algn="l" pos="4856040"/>
                <a:tab algn="l" pos="56070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l. I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054160"/>
                <a:tab algn="l" pos="2743200"/>
                <a:tab algn="l" pos="3492360"/>
                <a:tab algn="l" pos="4167360"/>
                <a:tab algn="l" pos="4856040"/>
                <a:tab algn="l" pos="56070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I = Median II =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054160"/>
                <a:tab algn="l" pos="2743200"/>
                <a:tab algn="l" pos="3492360"/>
                <a:tab algn="l" pos="4167360"/>
                <a:tab algn="l" pos="4856040"/>
                <a:tab algn="l" pos="56070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054160"/>
                <a:tab algn="l" pos="2743200"/>
                <a:tab algn="l" pos="3492360"/>
                <a:tab algn="l" pos="4167360"/>
                <a:tab algn="l" pos="4856040"/>
                <a:tab algn="l" pos="56070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kuranga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54160"/>
                <a:tab algn="l" pos="2743200"/>
                <a:tab algn="l" pos="3492360"/>
                <a:tab algn="l" pos="4167360"/>
                <a:tab algn="l" pos="4856040"/>
                <a:tab algn="l" pos="56070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ngat peka dengan adanya penambahan data (sangat dipengaruhi oleh banyaknya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54160"/>
                <a:tab algn="l" pos="2743200"/>
                <a:tab algn="l" pos="3492360"/>
                <a:tab algn="l" pos="4167360"/>
                <a:tab algn="l" pos="4856040"/>
                <a:tab algn="l" pos="56070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oh: Jika ada satu observasi baru masuk ke dalam kelompok I, maka median =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81CD-5324-49FE-9594-B4159640868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LEBIHAN &amp; KEKURANGAN RATA-RATA , MEDIAN &amp; MODU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1424160"/>
                <a:tab algn="l" pos="1889280"/>
                <a:tab algn="l" pos="2459160"/>
                <a:tab algn="l" pos="3087720"/>
                <a:tab algn="l" pos="3657600"/>
                <a:tab algn="l" pos="4227480"/>
                <a:tab algn="l" pos="4797360"/>
                <a:tab algn="l" pos="5365800"/>
                <a:tab algn="l" pos="583092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od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424160"/>
                <a:tab algn="l" pos="1889280"/>
                <a:tab algn="l" pos="2459160"/>
                <a:tab algn="l" pos="3087720"/>
                <a:tab algn="l" pos="3657600"/>
                <a:tab algn="l" pos="4227480"/>
                <a:tab algn="l" pos="4797360"/>
                <a:tab algn="l" pos="5365800"/>
                <a:tab algn="l" pos="583092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lebiha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1889280"/>
                <a:tab algn="l" pos="2459160"/>
                <a:tab algn="l" pos="3087720"/>
                <a:tab algn="l" pos="3657600"/>
                <a:tab algn="l" pos="4227480"/>
                <a:tab algn="l" pos="4797360"/>
                <a:tab algn="l" pos="5365800"/>
                <a:tab algn="l" pos="583092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dak peka terhadap adanya nilai ekst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1889280"/>
                <a:tab algn="l" pos="2459160"/>
                <a:tab algn="l" pos="3087720"/>
                <a:tab algn="l" pos="3657600"/>
                <a:tab algn="l" pos="4227480"/>
                <a:tab algn="l" pos="4797360"/>
                <a:tab algn="l" pos="5365800"/>
                <a:tab algn="l" pos="583092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oh: Dari 2 kelompok data berik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24160"/>
                <a:tab algn="l" pos="1889280"/>
                <a:tab algn="l" pos="2459160"/>
                <a:tab algn="l" pos="3087720"/>
                <a:tab algn="l" pos="3657600"/>
                <a:tab algn="l" pos="4227480"/>
                <a:tab algn="l" pos="4797360"/>
                <a:tab algn="l" pos="5365800"/>
                <a:tab algn="l" pos="583092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l. 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24160"/>
                <a:tab algn="l" pos="1889280"/>
                <a:tab algn="l" pos="2459160"/>
                <a:tab algn="l" pos="3087720"/>
                <a:tab algn="l" pos="3657600"/>
                <a:tab algn="l" pos="4227480"/>
                <a:tab algn="l" pos="4797360"/>
                <a:tab algn="l" pos="5365800"/>
                <a:tab algn="l" pos="583092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l. I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24160"/>
                <a:tab algn="l" pos="1889280"/>
                <a:tab algn="l" pos="2459160"/>
                <a:tab algn="l" pos="3087720"/>
                <a:tab algn="l" pos="3657600"/>
                <a:tab algn="l" pos="4227480"/>
                <a:tab algn="l" pos="4797360"/>
                <a:tab algn="l" pos="5365800"/>
                <a:tab algn="l" pos="583092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s I = Modus II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424160"/>
                <a:tab algn="l" pos="1889280"/>
                <a:tab algn="l" pos="2459160"/>
                <a:tab algn="l" pos="3087720"/>
                <a:tab algn="l" pos="3657600"/>
                <a:tab algn="l" pos="4227480"/>
                <a:tab algn="l" pos="4797360"/>
                <a:tab algn="l" pos="5365800"/>
                <a:tab algn="l" pos="583092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kuranga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1889280"/>
                <a:tab algn="l" pos="2459160"/>
                <a:tab algn="l" pos="3087720"/>
                <a:tab algn="l" pos="3657600"/>
                <a:tab algn="l" pos="4227480"/>
                <a:tab algn="l" pos="4797360"/>
                <a:tab algn="l" pos="5365800"/>
                <a:tab algn="l" pos="583092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ka terhadap penambahan jumlah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1889280"/>
                <a:tab algn="l" pos="2459160"/>
                <a:tab algn="l" pos="3087720"/>
                <a:tab algn="l" pos="3657600"/>
                <a:tab algn="l" pos="4227480"/>
                <a:tab algn="l" pos="4797360"/>
                <a:tab algn="l" pos="5365800"/>
                <a:tab algn="l" pos="583092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htoh: Pada dat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24160"/>
                <a:tab algn="l" pos="1889280"/>
                <a:tab algn="l" pos="2459160"/>
                <a:tab algn="l" pos="3087720"/>
                <a:tab algn="l" pos="3657600"/>
                <a:tab algn="l" pos="4227480"/>
                <a:tab algn="l" pos="4797360"/>
                <a:tab algn="l" pos="5365800"/>
                <a:tab algn="l" pos="583092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s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24160"/>
                <a:tab algn="l" pos="1889280"/>
                <a:tab algn="l" pos="2459160"/>
                <a:tab algn="l" pos="3087720"/>
                <a:tab algn="l" pos="3657600"/>
                <a:tab algn="l" pos="4227480"/>
                <a:tab algn="l" pos="4797360"/>
                <a:tab algn="l" pos="5365800"/>
                <a:tab algn="l" pos="583092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s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C281-4756-48FA-8458-3EA301731A7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KURAN LOKASI </a:t>
            </a:r>
            <a:br>
              <a:rPr sz="4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cation measur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ersentil (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Percentiles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entil merupakan suatu ukuran yang membagi sekumpulan data menjadi 100 bagian sama bes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entil ke-p dari sekumpulan data merupakan nilai data sehingga paling tidak p persen obyek berada pada nilai tersebut atau lebih kecil dan paling tidak (100 - p) percent obyek berada pada nilai tersebut atau lebih bes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F005-1A15-48CC-80D1-262C410D0A7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KURAN LOKASI </a:t>
            </a:r>
            <a:br>
              <a:rPr sz="4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cation measur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ersentil (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Percentiles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) (Lanjut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a pencarian persent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utkan dari dari yang terkecil ke terbes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i nilai i yang menunjukkan posisi persentil ke-p dengan rum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= (p/100)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ka i bukan bilangan bulat, maka bulatkan ke atas.  Persentil ke-p merupakan nilai data pada posisi ke-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ka i merupakan bilangan bulat, maka persentil ke-p merupakan rata-rata nilai pada posisi ke-i dan ke-(i+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2868-06CA-437B-BA4B-AEDAA3816E5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140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dasarkan kasus sewa kamar apart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entil ke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aitu posisi data ke-(p/100)n = (90/100)70 = 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ena i=63 merupakan bilangan bulat, maka persentil ke-90 merupakan rata-rata nilai data ke 63 dan 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entil ke-90 = (580 + 590)/2 = 5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3049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KURAN LOKASI </a:t>
            </a:r>
            <a:br>
              <a:rPr sz="4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ntoh Penghitung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52480" y="4267080"/>
          <a:ext cx="6416640" cy="228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267080"/>
                    <a:ext cx="6416640" cy="22860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29D9-6A05-4115-990D-15110A4F28E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KURAN LOKASI </a:t>
            </a:r>
            <a:br>
              <a:rPr sz="4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cation measur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Kuartil (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Quartiles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artil merupakan suatu ukuran yang membagi data menjadi 4 (empat) bagian sama be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artil merupakan bentuk khusus dari persentil, di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uartil pertama = Percentile ke-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uartil kedua = Percentile ke-50 =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uartil ketiga = Percentile ke-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8EFF-ABF2-45E9-9910-558020DFAD6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KURAN-UKURAN STATIST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Ukuran Dispersi/Keragaman (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Variability measurement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rak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gam/Varian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ri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angan Baku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ndard dev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a-rata deviasi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an dev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E490-C967-4923-B945-1B8207CE34D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14040" y="1905120"/>
            <a:ext cx="769932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dasarkan kasus sewa kamar apart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artil ke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uartil ke-3 = Percentile ke-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aitu data ke-(p/100)n = (75/100)70 = 52.5 = 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di kuartil ke-3 = 5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784520" y="4098960"/>
          <a:ext cx="6400800" cy="22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4520" y="4098960"/>
                    <a:ext cx="6400800" cy="2271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914400" y="3049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KURAN LOKASI </a:t>
            </a:r>
            <a:br>
              <a:rPr sz="4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ntoh Penghitung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01F2-31BD-45BB-A778-AEF29571ED7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KURAN LOKASI </a:t>
            </a:r>
            <a:br>
              <a:rPr sz="4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cation measur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esil (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Deciles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upakan suatu ukuran yang membagi sekumpulan data menjadi 10 bagian sama be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upakan bentuk khusus dari persentil, dima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l ke-1 = persentil ke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l ke-2 = persentil ke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l ke-3 = persentil ke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66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66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l ke-9 = persentil ke-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39B1-C156-4C4D-891C-ADD8858BB13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1404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dasarkan kasus sewa kamar apart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l ke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l ke-9 = Percentile ke-90 = 5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3049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KURAN LOKASI </a:t>
            </a:r>
            <a:br>
              <a:rPr sz="4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ntoh Penghitung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204920" y="3108240"/>
          <a:ext cx="6983280" cy="2849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4920" y="3108240"/>
                    <a:ext cx="6983280" cy="28497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9F32-7078-412E-9DCB-9252EF9613B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KURAN KERAGAMAN/ DISPERS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iability measur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1892160"/>
            <a:ext cx="7924680" cy="45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gukur seberapa besar keragama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sama-sama dengan ukuran sentral, ukuran ini berguna untuk membandingkan 2 atau lebih kelompok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o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lam pemilihan 2 suplier A atau B, umumnya kita tidak cukup hanya dengan melihat lamanya rata-rata waktu pengiriman barang yang dilakukan masing-masing suplier, namun juga variasi/keragaman lamanya waktu pengiriman bar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6A9C-9862-445A-9D23-67BC9D22C4B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KURAN KERAGAMAN/ DISPERS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iability measur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89216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Jarak (Ran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 = selisih nilai terbesar dan nilai terke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 merupakan ukuran keragaman yang paling sederh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gat peka terhadap data dengan nilai terbesar dan nilai terke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oh: Kasus sewa kamar apart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 = 615 - 425 = 1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420E-2993-47CB-8D87-DDC1BEAA774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KURAN KERAGAMAN/ DISPERSI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Variability measurem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arian (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Variance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2680" indent="-410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upakan ukuran keragaman yang melibatkan seluruh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2680" indent="-410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asarkan pada perbedaan antara nilai tiap observasi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dan rata-ratanya (     untuk sampel,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tuk popula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2680" indent="-410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mus H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2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s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2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n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n =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2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2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2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275520" y="3139920"/>
                <a:ext cx="35856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057400" y="5181480"/>
                <a:ext cx="205740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562720" y="5238720"/>
                <a:ext cx="210960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34FC-D4FB-4B27-9530-A3B2A7901E3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KURAN KERAGAMAN/ DISPERSI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Variability measurem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AutoNum type="arabicPeriod" startAt="2"/>
              <a:tabLst>
                <a:tab algn="l" pos="211284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arian (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Variance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) – (Lanjut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-44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11284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uk Data Berkelompok, rumus hit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11284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s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11284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n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n =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11284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11284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11284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11284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11284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ma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yaknya ke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11284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kuensi kelas ke-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11284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lai tengah kelas ke-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620720" y="3259080"/>
                <a:ext cx="257652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715000" y="3471840"/>
                <a:ext cx="2352600" cy="15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856B-AD35-4132-97B6-67459C43890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KURAN KERAGAMAN/ DISPERS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iability measur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impangan baku (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Standard deviation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upakan akar positif dari var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ukur pada satuan data yang sama, sehingga mudah untuk diperbandingk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mus H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:  Simpangan baku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si: Simpangan baku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611680" y="4168800"/>
                <a:ext cx="13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791320" y="5181480"/>
                <a:ext cx="12952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D6C9-0ED0-4CC9-9358-051EE352D11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KURAN KERAGAMAN/ DISPERS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iability measur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189216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Koefisien Variasi (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Coefficient of Variation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gindikasikan seberapa besar nilai simpangan baku relatif terhadap rata-rata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mus H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: Koefisien Variasi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si: Koefisien Variasi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5486400" y="3662280"/>
                <a:ext cx="181764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791320" y="4683240"/>
                <a:ext cx="182880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55CB-01AF-42CE-8F87-BE64E867EAD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914040" y="19047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DATA TIDAK BERKELOMP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oh Kasus Sewa Kamar Apart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angan Ba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efisien Vari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590920" y="3048120"/>
                <a:ext cx="32875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9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666880" y="4465800"/>
                <a:ext cx="32767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99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666880" y="5562720"/>
                <a:ext cx="3113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914400" y="304920"/>
            <a:ext cx="807732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KURAN KERAGAMAN/ DISPERS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iability measur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ACBB-8D5F-4891-BA52-D342F739A11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KURAN TENDENSI SENTRAL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entral tendency measur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Rata-rata (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mean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ka data berasal dari suatu sampel, maka rata-rata (mean) dirumusk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8436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idak Berkelomp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8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8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843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58436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Berkelomp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8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8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8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an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nilai tengah kelas ke-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8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frekuensi kelas ke-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613400" y="3276720"/>
                <a:ext cx="11160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782880" y="4449600"/>
                <a:ext cx="1135080" cy="7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2ABE-E9FD-4797-92D7-336D8E04DDBA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DATA BERKELOMP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oh Kasus Bengkel Hudson A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angan Ba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efisien Vari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124080" y="2819520"/>
                <a:ext cx="4530960" cy="14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−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914400" y="304920"/>
            <a:ext cx="807732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KURAN KERAGAMAN/ DISPERS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iability measur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617920" y="4533840"/>
                <a:ext cx="29937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87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048120" y="5638680"/>
                <a:ext cx="2925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t xml:space="preserve">,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4891-B150-483E-9224-00F07FCEFF5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KIAN &amp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 YOU NEXT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F1A6-AEF0-431A-B59A-FAAA26055B53}" type="slidenum">
              <a:t>31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KURAN TENDENSI SENTRAL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entral tendency measur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(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Rata-rata (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mean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) – (Lanjut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ka data merupakan data populasi, maka rata-rata dirumusk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8436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idak Berkelomp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8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8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843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58436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Berkelomp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8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8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8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an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nilai tengah kelas ke-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8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frekuensi kelas ke-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792600" y="3298680"/>
                <a:ext cx="111600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790800" y="4454640"/>
                <a:ext cx="111780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FE3A-C267-4C5F-9417-49FA75FBC46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KURAN TENDENSI SENTRAL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entral tendency measur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(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7680" indent="-51768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ed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50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upakan suatu nilai yang terletak di tengah-tengah sekelompok data setelah data tersebut diurutkan dari yang terkecil sampa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rbes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50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atu nilai yang membagi sekelompok data dengan jumlah yang sama bes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50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ntuk data ganjil, median merupakan nilai yang terletak di tengah sekumpulan data, yaitu di urutan k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50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ntuk data genap, median merupakan rata-rata nilai yang terletak pada urutan ke-     d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154320" y="4916520"/>
                <a:ext cx="6285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6735600" y="5867280"/>
                <a:ext cx="2746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7683480" y="5867280"/>
                <a:ext cx="6858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62CE-77DC-42AF-9BCC-969A272FAA2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KURAN TENDENSI SENTRAL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entral tendency measur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(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81320" indent="-48132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Arial"/>
              <a:buAutoNum type="arabicPeriod" startAt="2"/>
              <a:tabLst>
                <a:tab algn="l" pos="199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edian – (Lanjut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1640" indent="-473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99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ka datanya berkelompok, maka median dapat dicari dengan rumus berik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99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99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1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9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m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1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9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B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wer Bound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tepi bawah kelas medi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1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9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banyaknya observ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1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9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um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frekuensi kumulatif kurang dari kelas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1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9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edi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frekuensi kelas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1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9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interval ke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200400" y="3276720"/>
                <a:ext cx="39895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dia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B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um</m:t>
                            </m:r>
                            <m:r>
                              <m:t xml:space="preserve">&lt;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7EA8-8745-4FFC-80CA-B041F4394E3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KURAN TENDENSI SENTRAL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entral tendency measur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(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od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upakan suatu nilai yang paling sering muncul (nilai dengan frekuensi muncul terbes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ka data memiliki dua modus, disebut bimod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ka data memiliki modus lebih dari 2, disebut multimod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1775-C6DA-4B54-9B1E-4194BDC3A0A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KURAN TENDENSI SENTRAL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entral tendency measur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(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odus – (Lanjut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ka data berkelompok, modus dapat dicari dengan rumus berik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m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B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wer Bound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tepi bawah kelas deng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frekuensi terbesar/kelas mod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frekuensi kelas modus dikurangi frekuensi kela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sebelumn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frekuensi kelas modus dikurangi frekuensi kela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sesudahn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interval ke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52680" y="3124080"/>
                <a:ext cx="35751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u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B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81FB-9B8B-449B-A1B4-767B484BD9A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927000" y="1981080"/>
            <a:ext cx="792504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DATA TIDAK BERKELOMP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ikut adalah data sampel tentang nilai sewa bulanan untuk satu kamar apartemen ($). Berikut adalah data yang berasal dari 70 apartemen di suatu kota terten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447920" y="3733920"/>
          <a:ext cx="6615000" cy="231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733920"/>
                    <a:ext cx="6615000" cy="23158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914400" y="304920"/>
            <a:ext cx="807732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KURAN TENDENSI SENTRAL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ntoh Penghitung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CD63-A227-47D2-A321-9C0879409D4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04:28:28Z</dcterms:created>
  <dc:creator>UPPM</dc:creator>
  <dc:description/>
  <dc:language>en-US</dc:language>
  <cp:lastModifiedBy>user</cp:lastModifiedBy>
  <dcterms:modified xsi:type="dcterms:W3CDTF">2003-07-24T18:12:30Z</dcterms:modified>
  <cp:revision>76</cp:revision>
  <dc:subject/>
  <dc:title>STATISTIK BISNIS</dc:title>
</cp:coreProperties>
</file>