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7C6D-06D6-458B-815B-2CFEB45D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3613-0741-489A-9023-D6571835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D644-BE57-432B-9569-4017F8139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1778-A0C0-4C2A-BF1C-C10D4666A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B735-1EED-4F42-B1C9-D0D818F7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0D82-9DDE-41BF-AF36-02691D92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09CB-5C8F-4C4A-BB13-B2BF9C6A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8503-7FDF-40EA-84AE-86398D74C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5CA4-EE63-42B3-B6C0-4FBE263F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7E70-D369-4D9E-93BD-D40DAD67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EDAA-2977-4DC6-BD85-90205E33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A771-7108-4B64-9C3F-A2C948DE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5310-4F70-4CE1-8102-B26A06D564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2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OPIK 8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RITERIA PEMILIHAN AKTIVITI PENDIDIKAN JASM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1.3  Kepaka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is panduan yang perlu dipatuhi bagi mengurang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ko dalam Pendidikan Jasman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ikan bahawa murid yang menjalankan aktiviti cer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tiviti yang dipilih perlu bersesuaian dengan umur dan kebolehan mu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tiviti yang dipilih perlu diluluskan oleh badan profesional dan sekol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ru yang menggendalikan aktiviti fizikal atau kokurikulum mempunyai kepaka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ahan yang diberikan jelas, betul dan pelakuan memanaskan badan bersesuaian dengan aktiviti yang bakal dijalankan terutama aktiviti yang berisiko seperti permainan ragb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mudahan dan peralatan yang digunakan bersesuaian dengan aktivi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2  PERKEMBANGAN MU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 kategori kepada domain-domain berik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Kognitif melibatkan perkembangan pemikiran pelaj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Afektif melibatkan perkembangan sikap dan nilai pelaj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Psikomotor melibatkan perkembagan kemahiran fizikal pelaj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main Sosial melibatkan perkembangan perhubungan sosial pelaj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2.1  Domain Kognit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jadi fokus utama dalam proses pengajaran dan pembelajaran di sekola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sonomi Bloom membahagikan domain kognitif ini kepada enam (6) peringkat, yang bermula dengan tahap yang mudah dicapai kepada tahap yang sukar dicap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2.1  Domain Kognit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ajah 8.1:  Taksonomi objektif domain kognitif Bl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05320" y="2819520"/>
            <a:ext cx="22860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ila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24080" y="3276720"/>
            <a:ext cx="22860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t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4191120"/>
            <a:ext cx="22860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lika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19520" y="3733920"/>
            <a:ext cx="22860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4648320"/>
            <a:ext cx="22860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faha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752480" y="2437920"/>
            <a:ext cx="198144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2.1  Domain Kognit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kembangan domain kognitif pelajar melibatkan cara berfikir, merasa dan bertind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yusunan domain kognitif perlu mengikut keupayaan pelajar dari mudah kepada yang lebih susa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ingkat yang lebih rendah perlu dicapai terlebih dahulu, diikuti peringkat selanjutnya yang lebih susa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2.1  Domain Kognit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ngetahu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Bermaksud keupayaan menging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kta, idea, pendapat, prinsip, prosed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n peristiwa yang berlaku (Abu Bak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din, 1986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faha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Keupayaan pelajar menjelas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getahuan secara yang bermak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2.1  Domain Kognit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lik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Keupayaan menggunakan konsep, prinsi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ori, hukum, prosedur dan kaedah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lam situasi khusus dan situasi 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gajaran dan penilaian peringkat aplik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ga sepatutnya menekankan aplik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getahuan dan kemahiran yang dipelaj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uk menyelesaikan masalah da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hidupan harian, selain dap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yelesaikan masalah yang diberikan gu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lam bilik darja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2.1  Domain Kognit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al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Keupayaan memecahkan sesua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kara kepada unsur-unsur kecil 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ihat pertalian antara unsur-uns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seb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Menekankan kepada keupayaan pelaj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genal pasti unsur-unsur dan struk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ang mengaitkan unsur-unsur tersebut ba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uatu dokumen/kes yang diberik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.2.1  Domain Kognit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t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Membawa maksud keupay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ggabungkan unsur-unsur dan bahagian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hagian supaya sesuatu dokumen i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jadi lebih berstruktur, tersusun 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yeluru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ila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Membawa maksud keupayaan menilai sesua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kara berasaskan kriteria yang perlu diketah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laj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Membuat pertimbangan tentang nilai sesuatu ide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il kerja, penyelesaian, bahan dan sebagainy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2.2  Domain Afekt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ktif Domain Afektif mempunyai hubungan dengan perasaan, emosi, minat, sikap, penghargaan dan nil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ajah 8.2:  Objektif domain afekt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3429000"/>
            <a:ext cx="18288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watak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95680" y="3886200"/>
            <a:ext cx="18288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sa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4343400"/>
            <a:ext cx="18288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ila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4800600"/>
            <a:ext cx="18288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akba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0400" y="5257800"/>
            <a:ext cx="18288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erim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819520" y="3276720"/>
            <a:ext cx="2209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1  INFRASTRUKTUR DAN TENAGA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PENGAJ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ktor utama yang harus diteliti ialah infrastruktur, perkembangan murid dan persekitar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2.2  Domain Afekt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erim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Bermaksud kesediaan seseorang/peneri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uk menerima sesuatu yang in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mpaikan.  Misalnya, penerima se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an irama, lirik lagu, keadaan kehidup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Contoh objektif peringkat ini ialah pelaj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pat membezakan aktiviti luar bilik darjah darip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tiviti formal dalam bilik darja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ak Ba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Bermaksud seseorang akan bertindak ba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hadap rangsangan yang diterima disetopikkan 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punyai motif tersendiri untuk berbuat demiki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2.2  Domain Afekt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ila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Bermaksud seseorang itu memaham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lai sesuatu perbuatan y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lakukannya kepada masyaraka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Nilai ini, yang boleh dianggap sebag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si luaran, akan menja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asan kepada setiap perlaku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ang ditunjukkan oleh indivi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ken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.2.2  Domain Afekti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s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Membawa maksud seseorang itu bole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yusun semula nilai yang diteriman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pada satu sistem yang lebih praktik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Contohnya, menerima peraturan sekol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erusnya dapat mengawal diri mengik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aturan terseb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wata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Bermaksud seseorang itu mematuhi sesua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 nilai dan sanggup mengamalkanny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bagai satu cara hid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2.3  Domain Psiko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lah kemahiran berkaitan pergerakan anggota fizikal seseora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son (1972) mengemukakan tujuh peringkat objektif domain psikomotor, daripada mudah kepada susa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ajah 8.3:  Domain psiko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3886200"/>
            <a:ext cx="243828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gerakan Sua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95680" y="4343400"/>
            <a:ext cx="266724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gerakan Komple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38480" y="4800600"/>
            <a:ext cx="281952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gerakan Mekanist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5257800"/>
            <a:ext cx="274320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gerakan Terkaw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5715000"/>
            <a:ext cx="243828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edi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6172200"/>
            <a:ext cx="2438280" cy="368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ep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590920" y="3581280"/>
            <a:ext cx="251460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2.3  Domain Psiko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ep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Bermaksud seseorang itu mempersepsikan sa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gerakan tertentu, seperti memerhati pergera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taran” dalam permainan bola ba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edi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(Set) bermaksud seseorang bersedia secara menta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osi dan fizikal untuk melakukan sesua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gerak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gerakan Terkaw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(Guided Response) bermaksud seseorang itu dap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akukan pergerakan awal berkaitan kemahi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ang ingin dipelajari, b iasanya dilakukan seca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iruan dan cuba jay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2.3  Domain Psiko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gerakan Mekanist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(Mechanistic Response) bermaksu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eorang itu dapat melakuk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uatu pergerakan yang ingin dipelaj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ara mahir dan yak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gerakan Kompl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Bermaksud seseorang itu dapat melaku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uatu pergerakan yang  kompleks sec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kap dan lic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Melakukan pergerakan “hantaran” dal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ainan bola baling dengan cekap d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c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2.3  Domain Psiko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gerakan Sua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(Adaptive Response) bermaksud seseora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u dapat melakukan sesuatu pergerakan sec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kap dan licin dalam sesuatu keadaan terten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Melakukan pergerakan dengan cekap dan lic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asa berhalang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gerakan Cipt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(Originative Response) bermaksud seseorang i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pat melakukan sesuatu pergerakan baru sec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kap dan licin dalam sesuatu keadaan terten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.2.4  Domain Sos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diri daripada lapan peringkat objektif, iaitu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hub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komunika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ibatkan D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u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kerjas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ghaki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ulak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k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2.4  Domain Sos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hub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Membuat kontak (contact) terhada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eorang lain, seperti membuat kont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a (eye contac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komunika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Cuba memberi atau menerima mesej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erti ingin bertanya tentang sesua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libatkan Di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Secara sukarela mengambil bahagian dal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uatu aktiviti berkumpulan, seperti berbual-b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gan beberapa orang l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2.4  Domain Sos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Berbincang untuk membuat sesua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putus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kerjas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Bekerjasama dengan ahli-ahli kumpu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uk menjayakan sesuatu proj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ghak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Dapat bertindak untuk mendamai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uatu keadaan apabila terdap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bezaan pendapat, seperti meleraikan sa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tengkar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1.1  Kemuda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dudukan Sekola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 Kawasan ba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Kewujudan pertubuhan tertentu 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dar secara tidak langsung yang ada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Di kawasan bandar terdapat persatuan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atuan yang diikhtiraf oleh badan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an kebangsaan yang memboleh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ru mengambil bahagian unt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dapatkan sijil-sijil yang melayak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eka untuk mengajar sesua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mahiran atau suk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2.4  Domain Sos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ula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Dapat memulakan sesuatu aktivi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kumpulan yang baru, walaupun terpak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ghadapi risiko tertentu, seper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khemah di tepi sunga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k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(Converting) berupaya menukarkan ga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dup ahli-ahli kumpulan kepada gaya hid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u, seperti mencintai alam seki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3  PERSEKITA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ekitaran mempengaruhi kegiatan sosial dan aktiviti masyarak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3.1  Budaya Setemp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3.2  Pengaruh Polit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3.3  Penyelarasan Program Suk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3.3  Penyelarasan Program Suk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Gerak Kerja Kokurikulum (Sukan) ya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yeluruh merangkumi tiga aspek utama sel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i program berbentuk Pengajaran (Pendidi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smani dan Kesihatan) iait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Gerak Kerja Kokurikulum dalam Lingkungan Sekolah (Intramural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Gerak Kerja Kokurikulum dalam dan luar (Extramural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Antara Sekola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3.3  Penyelarasan Program Suk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53400" indent="-653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Intramu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Melibatkan semua pelajar tetapi merupakan progr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gukuhan dan pengayaan kurikulum yang diaj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lam ke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Melibatkan semua pelajar; wajib memilih persatuan 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beruniform yang dimina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3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53400" indent="-653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Extramu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Melibatkan mereka yang mempunyai kemahiran y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ebihi rakan.  Contohnya mewakili rumah dal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johanan olahraga antara ruma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3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53400" indent="-653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roman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antara sekol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Meliputi pertandingan peringkat daerah, negeri at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bangsa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Yang terbaik dakan mewakili sekolah keperingkat y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53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erusny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1.1  Kemuda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dudukan Sekol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  Kawasan luar ban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Agak terhad kerana kepakar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kalangan guru dan orang luar amat kur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ka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Penglibatan mereka dalam gerak ker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kurikulum sangat sedikit kerana mereka sib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gan tugas menyara hid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Kegiatan-kegiatan luar kelas juga terhad d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ara tidak langsung menghadkan penyert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rid-murid untuk terlibat dalam aktiviti fizikal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1.1  Kemuda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mampuan Kewangan Seko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untukan kewangan bergantung kepada kapasiti pelaj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kolah yang mempunyai pelajar yang ramai mempunyai peruntukan adalah lebih bany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1.1  Kemuda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mudahan-kemuda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iap kemudahan yang terdapat di sekolah perlu diekploitasikan untuk digunakan semasa proses pemilihan aktivi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kiranya kemudahan-kemudahan yang tidak mencukupi, pihak pentabiran sekolah perlu menggunakan kemudahan yang berhampiran dengan sekola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gi mengelakkan pembaziran masa dan k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1.1  Kemuda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naga Pengaj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tiadaan tenaga pengajar yang berkebolehan di dalam sesuatu bidang sedikit sebanyak menjejaskan perancang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milihan aktiviti berdasarkan kepada kepakaran gur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ihan kemajuan tenaga pengajar perlu dititik beratkan bagi membentuk guru yang mempunyai pengetahuan terkini dalam aktiviti fizik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1.2  Perala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us diteliti yang menjadi asas yang penting dalam memilih alatan ialah faktor keselamatan pengg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aliti alat juga perlu dipertimbangk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1.3  Kepaka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guru perlu mempunyai kepakaran untuk menangani sebarang kemungkinan semasa dan selepas sesuatu aktiviti dijalank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getahuan dan kepatuhan terhadap prosedur dan disiplin dalam aktiviti-aktiviti Pendidikan Jasmani perlu kerana ia dapat mengelakkan sesuatu kejadian yang tidak diingini berlak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23:32:19Z</dcterms:created>
  <dc:creator>SAS</dc:creator>
  <dc:description/>
  <dc:language>en-US</dc:language>
  <cp:lastModifiedBy>SAS</cp:lastModifiedBy>
  <dcterms:modified xsi:type="dcterms:W3CDTF">2006-10-18T01:18:43Z</dcterms:modified>
  <cp:revision>76</cp:revision>
  <dc:subject/>
  <dc:title>TOPIK 3  KONSEP DAN PEMBENTUKAN KURIKULUM</dc:title>
</cp:coreProperties>
</file>