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E61D-3D2E-423C-B6CE-6388D90C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07C5-31E6-4F2B-8652-A7298778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8B4-4F3A-4510-84A9-9FCDC912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978C-77CB-497E-8070-2EB90E6E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9D6-AF58-4801-B4DF-25CEC11C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2681-BBEE-48C6-8446-F30D9547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1030-F1F4-4649-9BD4-B1306550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1A1-F8A4-407F-8F35-206BCCFF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BF3-3FE1-4181-B81C-26F8E3A0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7C94-2364-4365-B645-045A8198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835E-1ADB-42A7-B1FF-A5C24D79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A3A-08EF-40BF-B2FD-C482B9CC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D2356-8110-4060-B0B4-908307C76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68A8F-FAA0-45C9-8EFC-420FC6361CA5}" type="slidenum">
              <a:rPr b="1" lang="en-US" sz="2000" spc="-1" strike="noStrike">
                <a:solidFill>
                  <a:srgbClr val="ed7d31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ed7d31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9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8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1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2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3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4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5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6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7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8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8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8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6:09:53Z</dcterms:created>
  <dc:creator>최봉수</dc:creator>
  <dc:description/>
  <dc:language>en-US</dc:language>
  <cp:lastModifiedBy>Lee Hyun-Wu</cp:lastModifiedBy>
  <dcterms:modified xsi:type="dcterms:W3CDTF">2023-07-04T20:20:20Z</dcterms:modified>
  <cp:revision>4</cp:revision>
  <dc:subject/>
  <dc:title>슬라이드 1</dc:title>
</cp:coreProperties>
</file>