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9CB2-1A93-43F1-A493-BEE850DA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2A0-08FB-4C12-A02B-CAE1B56C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7B9-29E5-443A-9ECF-A711670D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B98-38A0-478E-890C-6F00CB7F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F4F-F36B-4B23-9A00-F68119D0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99E-0413-4501-BB14-74CF9A62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4EE-D4D9-46E6-A135-835B0628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9C9-CCF4-4697-8393-D7041F04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A2D-F131-4D7B-B9FD-D8B64675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5C1-34AD-4EB9-9393-CB62AAC7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E51-0E66-4CEE-BA19-5E822BC6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F03-93BD-42BF-9D2E-1ABC519F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1A7B8-8F63-4C18-AF63-B2BD40525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EEFB1-6DE0-4391-8291-138D3DC5672B}" type="slidenum">
              <a:rPr b="1" lang="en-US" sz="2000" spc="-1" strike="noStrike">
                <a:solidFill>
                  <a:srgbClr val="ed7d31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ed7d31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9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8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1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3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4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6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7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8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8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6:09:53Z</dcterms:created>
  <dc:creator>최봉수</dc:creator>
  <dc:description/>
  <dc:language>en-US</dc:language>
  <cp:lastModifiedBy>Lee Hyun-Wu</cp:lastModifiedBy>
  <dcterms:modified xsi:type="dcterms:W3CDTF">2023-07-04T20:20:20Z</dcterms:modified>
  <cp:revision>4</cp:revision>
  <dc:subject/>
  <dc:title>슬라이드 1</dc:title>
</cp:coreProperties>
</file>