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90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38080" y="666432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empus Sans ITC"/>
              </a:rPr>
              <a:t>By Mamã Sof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07200" y="6165720"/>
            <a:ext cx="287640" cy="28764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846144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8.wmf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68360" y="1089000"/>
            <a:ext cx="8280360" cy="1692360"/>
            <a:chOff x="468360" y="1089000"/>
            <a:chExt cx="8280360" cy="16923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68360" y="1252800"/>
              <a:ext cx="1388880" cy="15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1913040" y="1189080"/>
              <a:ext cx="156852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538440" y="1206720"/>
              <a:ext cx="1546200" cy="15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5141880" y="1089000"/>
              <a:ext cx="154620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6745320" y="1184400"/>
              <a:ext cx="57924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381800" y="1268640"/>
              <a:ext cx="1366920" cy="15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-177840" y="3824280"/>
            <a:ext cx="9451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empus Sans ITC"/>
              </a:rPr>
              <a:t>Descobre a vogal que falt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6040" y="498600"/>
            <a:ext cx="812880" cy="2243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2755800" cy="348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27520" y="549360"/>
            <a:ext cx="36126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ndi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3014640" cy="3260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0040" y="549360"/>
            <a:ext cx="42894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3300"/>
                </a:solidFill>
                <a:latin typeface="Tempus Sans ITC"/>
              </a:rPr>
              <a:t>velh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03640" y="3213000"/>
            <a:ext cx="934920" cy="1024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08720" y="2959200"/>
            <a:ext cx="780840" cy="93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093080" y="294804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219640" y="4797360"/>
            <a:ext cx="943200" cy="95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164360" y="4581360"/>
            <a:ext cx="80640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32040" y="549360"/>
            <a:ext cx="8779320" cy="5954040"/>
            <a:chOff x="-32040" y="549360"/>
            <a:chExt cx="8779320" cy="59540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643280" y="2060640"/>
              <a:ext cx="41040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11280" y="549360"/>
              <a:ext cx="3816360" cy="27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38160">
                    <a:solidFill>
                      <a:srgbClr val="9933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Tempus Sans ITC"/>
                </a:rPr>
                <a:t>Oh!</a:t>
              </a:r>
              <a:endParaRPr b="1" lang="en-US" sz="96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mpus Sans ITC"/>
                <a:ea typeface="Tempus Sans ITC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32040" y="5403960"/>
              <a:ext cx="682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Tempus Sans ITC"/>
                </a:rPr>
                <a:t>Tenta de novo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2280" y="476280"/>
            <a:ext cx="2133720" cy="2165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63960" y="2781360"/>
            <a:ext cx="3014640" cy="3260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0040" y="549360"/>
            <a:ext cx="42894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3300"/>
                </a:solidFill>
                <a:latin typeface="Tempus Sans ITC"/>
              </a:rPr>
              <a:t>velh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2720880"/>
            <a:ext cx="2795400" cy="3533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27680" y="549360"/>
            <a:ext cx="26326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rs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03640" y="3213000"/>
            <a:ext cx="934920" cy="102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08720" y="2959200"/>
            <a:ext cx="780840" cy="939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093080" y="294804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219640" y="4797360"/>
            <a:ext cx="943200" cy="957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164360" y="4581360"/>
            <a:ext cx="80640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-32040" y="549360"/>
            <a:ext cx="8779320" cy="5954040"/>
            <a:chOff x="-32040" y="549360"/>
            <a:chExt cx="8779320" cy="59540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643280" y="2060640"/>
              <a:ext cx="41040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611280" y="549360"/>
              <a:ext cx="3816360" cy="27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38160">
                    <a:solidFill>
                      <a:srgbClr val="9933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Tempus Sans ITC"/>
                </a:rPr>
                <a:t>Oh!</a:t>
              </a:r>
              <a:endParaRPr b="1" lang="en-US" sz="96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mpus Sans ITC"/>
                <a:ea typeface="Tempus Sans ITC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32040" y="5403960"/>
              <a:ext cx="682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Tempus Sans ITC"/>
                </a:rPr>
                <a:t>Tenta de novo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828800" cy="212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73400" y="2708280"/>
            <a:ext cx="2795760" cy="3533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27680" y="549360"/>
            <a:ext cx="26326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rs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1989000"/>
            <a:ext cx="8136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eguiste !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2682720" cy="339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32560" y="549360"/>
            <a:ext cx="653436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lmofad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03640" y="3213000"/>
            <a:ext cx="93492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508720" y="2959200"/>
            <a:ext cx="780840" cy="93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093080" y="294804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219640" y="4797360"/>
            <a:ext cx="943200" cy="95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164360" y="4581360"/>
            <a:ext cx="80640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32040" y="549360"/>
            <a:ext cx="8779320" cy="5954040"/>
            <a:chOff x="-32040" y="549360"/>
            <a:chExt cx="8779320" cy="595404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643280" y="2060640"/>
              <a:ext cx="41040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611280" y="549360"/>
              <a:ext cx="3816360" cy="27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38160">
                    <a:solidFill>
                      <a:srgbClr val="9933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Tempus Sans ITC"/>
                </a:rPr>
                <a:t>Oh!</a:t>
              </a:r>
              <a:endParaRPr b="1" lang="en-US" sz="96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mpus Sans ITC"/>
                <a:ea typeface="Tempus Sans ITC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32040" y="5403960"/>
              <a:ext cx="682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Tempus Sans ITC"/>
                </a:rPr>
                <a:t>Tenta de novo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10348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30640" y="2708280"/>
            <a:ext cx="2682720" cy="3390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32560" y="549360"/>
            <a:ext cx="653436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lmofad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971640" y="342900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45160" y="549360"/>
            <a:ext cx="44982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strel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03640" y="3213000"/>
            <a:ext cx="934920" cy="10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08720" y="2959200"/>
            <a:ext cx="780840" cy="939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093080" y="294804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219640" y="4797360"/>
            <a:ext cx="943200" cy="95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164360" y="4581360"/>
            <a:ext cx="80640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32040" y="549360"/>
            <a:ext cx="8779320" cy="5954040"/>
            <a:chOff x="-32040" y="549360"/>
            <a:chExt cx="8779320" cy="595404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4643280" y="2060640"/>
              <a:ext cx="41040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 txBox="1"/>
            <p:nvPr/>
          </p:nvSpPr>
          <p:spPr>
            <a:xfrm>
              <a:off x="611280" y="549360"/>
              <a:ext cx="3816360" cy="27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38160">
                    <a:solidFill>
                      <a:srgbClr val="9933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Tempus Sans ITC"/>
                </a:rPr>
                <a:t>Oh!</a:t>
              </a:r>
              <a:endParaRPr b="1" lang="en-US" sz="96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mpus Sans ITC"/>
                <a:ea typeface="Tempus Sans IT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32040" y="5403960"/>
              <a:ext cx="682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Tempus Sans ITC"/>
                </a:rPr>
                <a:t>Tenta de novo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0840" y="430200"/>
            <a:ext cx="1820880" cy="2192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0" t="0" r="0" b="6207"/>
          <a:stretch/>
        </p:blipFill>
        <p:spPr>
          <a:xfrm>
            <a:off x="2914560" y="278136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45160" y="549360"/>
            <a:ext cx="44982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strel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23840" y="2781360"/>
            <a:ext cx="2756160" cy="348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27520" y="549360"/>
            <a:ext cx="36126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900" spc="-1" strike="noStrike">
                <a:solidFill>
                  <a:srgbClr val="ff3300"/>
                </a:solidFill>
                <a:latin typeface="Tempus Sans ITC"/>
              </a:rPr>
              <a:t>ndi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03640" y="3213000"/>
            <a:ext cx="934920" cy="102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508720" y="2959200"/>
            <a:ext cx="780840" cy="939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93080" y="294804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5219640" y="4797360"/>
            <a:ext cx="943200" cy="95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164360" y="4581360"/>
            <a:ext cx="80640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32040" y="549360"/>
            <a:ext cx="8779320" cy="5954040"/>
            <a:chOff x="-32040" y="549360"/>
            <a:chExt cx="8779320" cy="59540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643280" y="2060640"/>
              <a:ext cx="41040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611280" y="549360"/>
              <a:ext cx="3816360" cy="27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38160">
                    <a:solidFill>
                      <a:srgbClr val="9933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53966" dir="2700000" blurRad="0" rotWithShape="0">
                      <a:srgbClr val="000000"/>
                    </a:outerShdw>
                  </a:effectLst>
                  <a:latin typeface="Tempus Sans ITC"/>
                </a:rPr>
                <a:t>Oh!</a:t>
              </a:r>
              <a:endParaRPr b="1" lang="en-US" sz="96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000000"/>
                  </a:outerShdw>
                </a:effectLst>
                <a:latin typeface="Tempus Sans ITC"/>
                <a:ea typeface="Tempus Sans ITC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32040" y="5403960"/>
              <a:ext cx="682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9900"/>
                  </a:solidFill>
                  <a:latin typeface="Tempus Sans ITC"/>
                </a:rPr>
                <a:t>Tenta de novo…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5:45:26Z</dcterms:created>
  <dc:creator>iies-consultor590</dc:creator>
  <dc:description/>
  <dc:language>en-US</dc:language>
  <cp:lastModifiedBy>iies-consultor590</cp:lastModifiedBy>
  <dcterms:modified xsi:type="dcterms:W3CDTF">2008-05-20T14:46:51Z</dcterms:modified>
  <cp:revision>13</cp:revision>
  <dc:subject/>
  <dc:title>Diapositivo 1</dc:title>
</cp:coreProperties>
</file>