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4B9C-87A9-4468-ABBC-D7653E9B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FD37-0B99-4570-819E-D9FA21A0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A99F-FF95-4EEA-B99F-C7979D70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0193-8E81-42E1-9C1E-B07AF562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75B9-9E4C-4F3C-974F-2230B4B5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000C-3F62-4ACA-9F16-A989133A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2E02-875A-47CC-975C-A3FA366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9DF1-C4EB-4A4E-9858-08633AEC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39CA-65C3-4726-AAEC-74EEA941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B619-8339-4956-93C4-F5B86BF7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417A-1822-43C9-B4FE-5A72143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696B-3D79-43F4-9553-81840C18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DBD6-5649-4D7C-B1B0-08B5C069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678E-9687-4EFC-B4AC-5ED21E65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8CC8-9CEC-4CA4-811F-46023FFD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D388-1751-4138-989C-FAF50802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2287-318E-4A6D-BCB4-BEB756C8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2C66-E09D-4701-A5C6-A184C6D8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6F58-B757-407F-A262-06C2C47E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1A76-ED9B-4788-BFDA-B5BCDE0F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219F-E65B-4ADA-80B8-5120D2FF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A01B-1499-4A86-B636-CA524699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6F0C-F9F7-46FB-8698-0EBBACC3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CE0E-674F-4700-834A-1E8899FE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E0C-1DC0-4FA1-90ED-BCC5D6F3DF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3559-F91C-41E1-BBE8-52BB5EACB7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apredbook.aappublications.org/week/135_0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960" y="419040"/>
            <a:ext cx="8382240" cy="1067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TIMIKO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TYO S RAHARDJ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g. Farmakologi FK-U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jamur 3 profunda"/>
          <p:cNvPicPr/>
          <p:nvPr/>
        </p:nvPicPr>
        <p:blipFill>
          <a:blip r:embed="rId1"/>
          <a:stretch/>
        </p:blipFill>
        <p:spPr>
          <a:xfrm>
            <a:off x="2271600" y="2033640"/>
            <a:ext cx="4815000" cy="32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80760" y="464760"/>
            <a:ext cx="609588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MIKOSIS DI HATI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jamur hati"/>
          <p:cNvPicPr/>
          <p:nvPr/>
        </p:nvPicPr>
        <p:blipFill>
          <a:blip r:embed="rId1"/>
          <a:stretch/>
        </p:blipFill>
        <p:spPr>
          <a:xfrm>
            <a:off x="2519280" y="2052720"/>
            <a:ext cx="4105440" cy="2752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26600"/>
            <a:ext cx="67053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MIKOSIS DI PARU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jamur paru"/>
          <p:cNvPicPr/>
          <p:nvPr/>
        </p:nvPicPr>
        <p:blipFill>
          <a:blip r:embed="rId1"/>
          <a:stretch/>
        </p:blipFill>
        <p:spPr>
          <a:xfrm>
            <a:off x="2519280" y="2052720"/>
            <a:ext cx="4105440" cy="2752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5240" y="437760"/>
            <a:ext cx="571500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SPOROTRIKOS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esporotrikosis"/>
          <p:cNvPicPr/>
          <p:nvPr/>
        </p:nvPicPr>
        <p:blipFill>
          <a:blip r:embed="rId1"/>
          <a:stretch/>
        </p:blipFill>
        <p:spPr>
          <a:xfrm>
            <a:off x="2519280" y="2052720"/>
            <a:ext cx="4105440" cy="2752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I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ikosis Superfis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Dermatofitosis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“ Penyakit pada jaringan yang mengandung z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nduk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(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ratum korneum pada epidermis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ambut dan kuku) yang disebabkan gol.jamu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rmatofita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Ada 3 genus : Microsporum, Tricophyton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pidermophyt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Contoh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capit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kulit dan rambut kepa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barba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dagu dan jenggo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crur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genito-cruris, anus, glutae, peru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aw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pedis et manu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kaki dan tang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6091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unguinu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kuku jari tangan dan kak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korpor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bagian l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.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on Dermatofit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itriasis versikolor : penyakit jamur superfici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panu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iedr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: infeksi jamur pada ramb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eratomikos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: infeksi jamur pada mat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korne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. nigra palmaris    : penyakit jamur superficial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simptomati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00120" y="304920"/>
            <a:ext cx="4267080" cy="7617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PED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135_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2232000"/>
            <a:ext cx="4724280" cy="3162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28400" y="380520"/>
            <a:ext cx="4496040" cy="838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CORPOR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tinea corporis"/>
          <p:cNvPicPr/>
          <p:nvPr/>
        </p:nvPicPr>
        <p:blipFill>
          <a:blip r:embed="rId1"/>
          <a:stretch/>
        </p:blipFill>
        <p:spPr>
          <a:xfrm>
            <a:off x="2266920" y="1979640"/>
            <a:ext cx="4610160" cy="3811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029200" cy="876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CAPIT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tinea capitis"/>
          <p:cNvPicPr/>
          <p:nvPr/>
        </p:nvPicPr>
        <p:blipFill>
          <a:blip r:embed="rId1"/>
          <a:stretch/>
        </p:blipFill>
        <p:spPr>
          <a:xfrm>
            <a:off x="1371600" y="1905120"/>
            <a:ext cx="6311880" cy="419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71560" y="399960"/>
            <a:ext cx="5562720" cy="884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VERSIKOLOR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sn7_tineaversicolor"/>
          <p:cNvPicPr/>
          <p:nvPr/>
        </p:nvPicPr>
        <p:blipFill>
          <a:blip r:embed="rId1"/>
          <a:stretch/>
        </p:blipFill>
        <p:spPr>
          <a:xfrm>
            <a:off x="2781360" y="1981080"/>
            <a:ext cx="3647880" cy="373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1800" y="171360"/>
            <a:ext cx="83822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ENDAHULUA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ningkatan luar biasa kasus infeksi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asus utama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Mikosis kulit oleh dermatof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 Infeksi mukosa mulut, bronkia, usus, vagina dll oleh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andida albic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nyebab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Penggunaan antibiotika berspektrum lu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 Penggunaan kortikosteroi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 Penggunaan hormon kelamin (pil anti hami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. Faktor hygien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. Kontak internasional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24160" y="312480"/>
            <a:ext cx="4572000" cy="71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CORPOR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5" descr="TineaCorporis2"/>
          <p:cNvPicPr/>
          <p:nvPr/>
        </p:nvPicPr>
        <p:blipFill>
          <a:blip r:embed="rId1"/>
          <a:stretch/>
        </p:blipFill>
        <p:spPr>
          <a:xfrm>
            <a:off x="3333600" y="1771560"/>
            <a:ext cx="257508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71200" y="456840"/>
            <a:ext cx="571500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unguinum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4" descr="Tinea_Unguium-119"/>
          <p:cNvPicPr/>
          <p:nvPr/>
        </p:nvPicPr>
        <p:blipFill>
          <a:blip r:embed="rId1"/>
          <a:stretch/>
        </p:blipFill>
        <p:spPr>
          <a:xfrm>
            <a:off x="1542960" y="2176560"/>
            <a:ext cx="6210360" cy="3425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9280" y="533520"/>
            <a:ext cx="6324480" cy="7156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crur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mycosis fungoides"/>
          <p:cNvPicPr/>
          <p:nvPr/>
        </p:nvPicPr>
        <p:blipFill>
          <a:blip r:embed="rId1"/>
          <a:stretch/>
        </p:blipFill>
        <p:spPr>
          <a:xfrm>
            <a:off x="2076480" y="2057400"/>
            <a:ext cx="5486400" cy="351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8520" y="337680"/>
            <a:ext cx="6933960" cy="692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AT JAMU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feksi jamur : - Sistem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Topik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ti jamur untuk INFEKSI SISTEMIK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mfoterisin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rupakan hasil fermentasi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treptomyces nodus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nyerang sel yang sedang tumbuh dan sel mata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ungisidal dan fungistat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erol (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ada membran sel jamur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Amfo B (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berikatan kua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mbran sel boc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erusakan sel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kit diserap saluran ce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dar mantap tercapai setelah beberapa bulan pember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erapi : kulit panas, keringatan, sakit kepala, demam, menggigil,lesu, penurunan faal ginj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koksidiodomikosis, kandidiosis, aspergilosis dl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5181480" y="1143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5181480" y="2057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68580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ngan pengobatan ini : harus mondok di 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Injeksi (vial 50 mg bubuk lipofiloik), krem, salep, lo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lusitos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pektrum anti jamur agak sempi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riptokokosis, kandidosis , kromomikosis,terulopsis,aspergil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serap cepat dan baik lewat saluran ce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dar puncak 1-2 j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erapi : kurang toksik dibanding amfo. B   ( anemia, leukopenia, trombositopenia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ual, muntah, diare, enterokoliti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k nefrotoks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akit kepala, kebingungan, pusing, ngantuk, halusinas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obat jamur berharga ( kurang toksik, oral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ntuk obat tunggal : kromoblastomik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sedia bentuk kapsu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indari wanita ham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etokon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ktivitas sistemik / non sistem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eroral diserap baik melalui sal. Ce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erapi : efek toksik lebih ringan dari Amfo. B, nyeri kepala, vertigo, nyeri epigastrik, fotobia, parestesia, gusi berdarah, erupsi kulit, trombositopenia, pada laki-laki :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ginekomasti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infertilitas, penurunan libido, oligosperm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Histoplasmosis paru, tulang, sendi, jaringan lemak, kandidosis (mukokutan, oral, vagin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.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trakon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urunan tri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rat hub. Dengan ketokon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anti jamur lebih lebar, efek samping lebih kec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hampir sama dengan ketokonazo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5.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Flukon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urunan tri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siat baru/l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serap sempurna oleh saluran ce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sebar rata dalam cairan tubuh, juga pada sputum, sal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oral : kapsul 50, 100, 150, dan 200 mg, dosis 100-400 mg/ ha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ncegah relaps meningitis oleh kriptokokus setelah pengobatan Amfo.B, Tx kandiasis mulut dan tenggorokan pada penderita AID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768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6. Kaspofung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elas baru, kerja menghambat sintesa ß (1,3)-D-glukan (komponen pembentuk dinding sel jamu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kandidiasis invasif, kandidiasis oesoagus, kandidiasis orofaring, aspergilosis invasi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toleransi lebih baik dari amfoterisisn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sis hari I  70 mg IV, dilanjutkan 50 mg perhari selama 14 hari (diberikan IV dalam 1 ja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46584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amur/fungi (non klorofi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asit                               saprof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yphen                      mycelli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amur membentuk sel :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po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a 100.000 jenis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Menguntungk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 Merugikan (fungi patoge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2305080" y="314316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3276360" y="914400"/>
            <a:ext cx="11430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648320" y="914400"/>
            <a:ext cx="99036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304920"/>
            <a:ext cx="82296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7. Terbinaf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rivat alilamin sintet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dermatofitosis (onikomikosis), candidiasis kutaneus, tinea versikolor (digabung dg imidazol &amp; triazo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serap baik melalui sal cerna, t½ awal 12 jam, bila mencapai kadar mantap t½ 200-400 j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mpengaruhi biosintesa ergoste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samping jarang (gangguan sal cera, sakit kepala atau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as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talet oral 250 mg, diberikan 1 x sehar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I. Anti jamur untuk                                               INFEKSI DERMATOFIT &amp; MUKOKUT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riseoful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946 (Brian dkk) : Curting Faktor griseofulvin (P. Jonozski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tif terhadap jamur dermatofit : Trikophyton, Epidermophyton, Microspor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ungisid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erja : menghambat mitosis jamur ( mengikat protein mikrotubuler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enyerapan kurang baik pada saluran cerna bagian atas (tak larut ai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rsama makanan berlemak penyerapan ba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x : yang berat jarang, sakit kepala : uta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efektif untuk infeksi pada kulit, kuku, rambut, kandidiasis dan T. versikolor TAK BI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tab 125mg &amp; 500mg, susp 125mg/m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Imidazol &amp; Tri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ol Imidazol punya spectrum lu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masuk kelompok ini : mikonazol, kotrimazol, ekonazol d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ikon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urunan Imidazol sintet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pectrum anti jamur leb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Mikonazol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7" descr="mikonazol"/>
          <p:cNvPicPr/>
          <p:nvPr/>
        </p:nvPicPr>
        <p:blipFill>
          <a:blip r:embed="rId1"/>
          <a:stretch/>
        </p:blipFill>
        <p:spPr>
          <a:xfrm>
            <a:off x="4952880" y="2286000"/>
            <a:ext cx="3200400" cy="251928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190" name="Picture 9" descr="1171468607_24922"/>
          <p:cNvPicPr/>
          <p:nvPr/>
        </p:nvPicPr>
        <p:blipFill>
          <a:blip r:embed="rId2"/>
          <a:stretch/>
        </p:blipFill>
        <p:spPr>
          <a:xfrm>
            <a:off x="685800" y="2514600"/>
            <a:ext cx="3809880" cy="22701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kanisme kerja belum jelas diperkiraka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Menghambat sintesa ergoste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Gangguan sintesis asam nukle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enimbunan peroksida dalam sel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Ketiganya menyebabkan sel jamur rus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konazol topikal : dermatitis, t versikolor, kandiasis mukokut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x : iritasi, rasa terbakar, maseras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krem 2%, bedak tabur, gel 2% o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Kotrimazo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kanisme kerja mirip mikonazol topikal : T. pedis, krunis, T. versikolor, infeksi kulit dan vulvovaginistis oleh C. Albican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533520"/>
            <a:ext cx="8534160" cy="586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Krem/ larutan 1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rem vaginal 1% / tab 1x sehari mal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ari 7 har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pemakaian topikal : rasa terbakar, eritema, edema, gatal, urtika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istat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hasilkan oleh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treptomyces nours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bih toksik dari Amfo.B (tak digunakan sistemik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k diserap melalui sal cerna, kulit, vagi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nghambat pertumbuhan jamur dan rag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ktivitas anti jamur tergantung ikatan dengan sterol pada membran sel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Nistatin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Picture 5" descr="nistatin"/>
          <p:cNvPicPr/>
          <p:nvPr/>
        </p:nvPicPr>
        <p:blipFill>
          <a:blip r:embed="rId1"/>
          <a:stretch/>
        </p:blipFill>
        <p:spPr>
          <a:xfrm>
            <a:off x="914400" y="3048120"/>
            <a:ext cx="2743200" cy="16761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198" name="Picture 7" descr="tablets"/>
          <p:cNvPicPr/>
          <p:nvPr/>
        </p:nvPicPr>
        <p:blipFill>
          <a:blip r:embed="rId2"/>
          <a:stretch/>
        </p:blipFill>
        <p:spPr>
          <a:xfrm>
            <a:off x="3962520" y="3048120"/>
            <a:ext cx="1676160" cy="16761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199" name="Picture 9" descr="25098"/>
          <p:cNvPicPr/>
          <p:nvPr/>
        </p:nvPicPr>
        <p:blipFill>
          <a:blip r:embed="rId3"/>
          <a:stretch/>
        </p:blipFill>
        <p:spPr>
          <a:xfrm>
            <a:off x="6095880" y="2971800"/>
            <a:ext cx="1828800" cy="18288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685440"/>
            <a:ext cx="8534160" cy="5791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krem, salep, tablet vagina, tetes o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erapi jarang : mual, muntah, di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infeksi kandida di : kulit, selaput lendir, saluran  cern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.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nti jamur Topikal l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Kandisid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ntuk kandidiasis vagi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b. Salep vaginal 2x sehari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/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2 mingg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s. Benzoat dan As. Salisil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erbandingan 2:1 (6% dan 3%) : whitfiel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s. Benzoat : fungistat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533160"/>
            <a:ext cx="8382240" cy="601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s. Salisilat : keratolit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Tinea pedis, Tinea capit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Notamis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ntuk keratitis karena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spensi 5% dan salep 1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Siklopiroks Olam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pikal, spektrum lu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rmatofitosis, kandidiasis dan T. versikol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rem 1% 2x sehar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5040" y="304560"/>
            <a:ext cx="8915400" cy="609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sam undesilen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pidermophyton, trichophyton, microspor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salep campuran 5% undesilenat dengan 20% seng undesilen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dak dan aerosol 2% undesilenat dengan 20% seng undesilen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Holoprog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rsifat fungisidal thd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pidermophyton, trichophyton, microsporum, Melassezia furf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lama pengoatan dapat timbul : iritasi lokal, rasa terbakar, vesikel, maserasi dan sensitisas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krem dan larutan 1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86040" y="495000"/>
            <a:ext cx="548640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SEL JAMUR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jamur 2"/>
          <p:cNvPicPr/>
          <p:nvPr/>
        </p:nvPicPr>
        <p:blipFill>
          <a:blip r:embed="rId1"/>
          <a:stretch/>
        </p:blipFill>
        <p:spPr>
          <a:xfrm>
            <a:off x="2448000" y="1650960"/>
            <a:ext cx="4248000" cy="355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1809720" y="318132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838224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lora Organisme Normal dari Kulit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ora Tetap (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esident flora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rdiri dari mikroorganisme tet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ila susunan terganggu keseimbangan segera puli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uk mempertahankan kesehatan dan fungsi normal tubu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sal : di usus utk mensintesa vit k, membantu penyerapan giz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ora Selewat (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ransient flor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rdiri dari mikroorganisme nonpatogen maupun potensi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togen tetapi tak menyebabkan penyaki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ila flora tetap terganggu dpt berkembang biak ya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nbimbulkan penyak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42840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oh : Flora normal pd vagi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bag. Besar terdiri dari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actobacil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arbohidrat            asam lakt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kroorganisme patoge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hamb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mber penular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ora &amp; serpih kulit pender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celium            enzim         peradang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8320" y="16765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5753160" y="232416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7467480" y="2552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019400" y="520056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762440" y="58104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667560" y="5810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47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MIKOSI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enyakit yang disebabkan oleh jamur”</a:t>
            </a:r>
            <a:r>
              <a:rPr b="1" lang="en-US" sz="3200" spc="-1" strike="noStrike">
                <a:solidFill>
                  <a:srgbClr val="e5e5ff"/>
                </a:solidFill>
                <a:latin typeface="Bookman Old Style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-80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lasifikasi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.  Mikosis Profun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I. Mikosis Superfis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ikosis Profun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diri atas beberapa penyakit yang disebabkan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x klinis terten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nyerang alat-alat dibawah kulit : trac. Imtestinal, respiratorius, urogenital, system kardiovaskuler, SSP, otot tulang, kadang kul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lihat dalam klinik sebagai penyakit kronik dan residi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anifestasi klinik dapat berupa : tumor, infiltrasi, peradangan, vegetasi, ulkus, sinus, fist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toh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ktinomikos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5. Aspergil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kardios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6. Blastomik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porotrikosis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7. Koksidiodomik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istoplasmos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8. Mukormikosis d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ASPERGILOSIS SUPRACLAVICUL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aspergilosis clavicula"/>
          <p:cNvPicPr/>
          <p:nvPr/>
        </p:nvPicPr>
        <p:blipFill>
          <a:blip r:embed="rId1"/>
          <a:stretch/>
        </p:blipFill>
        <p:spPr>
          <a:xfrm>
            <a:off x="2743200" y="1878120"/>
            <a:ext cx="3962520" cy="336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8:12Z</dcterms:created>
  <dc:creator>SETYO</dc:creator>
  <dc:description/>
  <dc:language>en-US</dc:language>
  <cp:lastModifiedBy>DarkUser</cp:lastModifiedBy>
  <dcterms:modified xsi:type="dcterms:W3CDTF">2012-11-01T00:39:43Z</dcterms:modified>
  <cp:revision>34</cp:revision>
  <dc:subject/>
  <dc:title>ANTIMIKOTIKA</dc:title>
</cp:coreProperties>
</file>