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61B6-A3BF-4EB2-820E-1411EBF4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19F2F-BE58-47D9-9C2D-E8086856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AEED-A7CA-49CA-9C46-95FE1E87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0208-BF23-43C6-ADDF-E2B9DEC1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EDF-A7DC-4E8A-8C4F-7DD39F0E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DF8-80D2-421C-95C9-034534A0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658-56D6-45D5-B708-7573D24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38E0-EF5E-46E3-B666-A79C071B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76E9-B877-4D25-BFBA-37CC831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2D04-47DC-41FC-9CCE-BCE1D7A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69FF-EA22-47ED-A7BB-B273A6D9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D9F1-B50D-4A6E-9E35-FD8BF1A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84B-BCFF-4D18-85A6-BADDD69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164B-2496-45AC-87A7-6AF163D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B065-B0EF-4AC3-8B77-AE230DD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404A-95C8-4C28-994B-145BD029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E712-2BDE-4803-9E00-B98BB635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219C-C636-4993-838F-6DB5D57F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0C8C-BEFA-42F2-A611-A2138A0E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C4CC-6921-464B-8E29-DECCFCC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4EBD-1E47-4140-9336-F86C27D8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AEFA-1BC9-4906-9AA0-FD06A23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5921-B4F9-4F71-9548-46D3FD4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6B80-988E-4CA2-91D5-F946145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8046-8913-49F9-A9C8-2CE0374FC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B7B-6F63-4F59-B054-3527EBF350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apredbook.aappublications.org/week/135_0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419040"/>
            <a:ext cx="838224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NTIMIKO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TYO S RAHARD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g. Farmakologi FK-U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jamur 3 profunda"/>
          <p:cNvPicPr/>
          <p:nvPr/>
        </p:nvPicPr>
        <p:blipFill>
          <a:blip r:embed="rId1"/>
          <a:stretch/>
        </p:blipFill>
        <p:spPr>
          <a:xfrm>
            <a:off x="2271600" y="2033640"/>
            <a:ext cx="4815000" cy="32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0760" y="464760"/>
            <a:ext cx="609588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SIS DI HATI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jamur hati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26600"/>
            <a:ext cx="6705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SIS DI PARU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jamur paru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5240" y="437760"/>
            <a:ext cx="5715000" cy="7621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SPOROTRIKOS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esporotrikosis"/>
          <p:cNvPicPr/>
          <p:nvPr/>
        </p:nvPicPr>
        <p:blipFill>
          <a:blip r:embed="rId1"/>
          <a:stretch/>
        </p:blipFill>
        <p:spPr>
          <a:xfrm>
            <a:off x="2519280" y="2052720"/>
            <a:ext cx="4105440" cy="275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II.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ikosis Superfis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Dermatofitosis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“ Penyakit pada jaringan yang mengandung z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nduk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ratum korneum pada epidermis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ambut dan kuku) yang disebabkan gol.jamu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matofita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Ada 3 genus : Microsporum, Tricophyto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pidermophyt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Conto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capit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ulit dan rambut kepa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barba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dagu dan jengg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cru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genito-cruris, anus, glutae, peru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awa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pedis et man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aki dan tang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6091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unguinum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kuku jari tangan dan kak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nea korpo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: bagian 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on Dermatofit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itriasis versikolor : penyakit jamur superfici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panu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iedr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: infeksi jamur pada ram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atomik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: infeksi jamur pada mat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korne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. nigra palmaris    : penyakit jamur superficial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imptomatik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00120" y="304920"/>
            <a:ext cx="4267080" cy="761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PED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5" descr="135_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232000"/>
            <a:ext cx="4724280" cy="3162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28400" y="380520"/>
            <a:ext cx="4496040" cy="838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ORPO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4" descr="tinea corporis"/>
          <p:cNvPicPr/>
          <p:nvPr/>
        </p:nvPicPr>
        <p:blipFill>
          <a:blip r:embed="rId1"/>
          <a:stretch/>
        </p:blipFill>
        <p:spPr>
          <a:xfrm>
            <a:off x="2266920" y="1979640"/>
            <a:ext cx="4610160" cy="3811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5029200" cy="876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APIT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tinea capitis"/>
          <p:cNvPicPr/>
          <p:nvPr/>
        </p:nvPicPr>
        <p:blipFill>
          <a:blip r:embed="rId1"/>
          <a:stretch/>
        </p:blipFill>
        <p:spPr>
          <a:xfrm>
            <a:off x="1371600" y="1905120"/>
            <a:ext cx="6311880" cy="419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71560" y="399960"/>
            <a:ext cx="5562720" cy="8841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VERSIKOLO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5" descr="sn7_tineaversicolor"/>
          <p:cNvPicPr/>
          <p:nvPr/>
        </p:nvPicPr>
        <p:blipFill>
          <a:blip r:embed="rId1"/>
          <a:stretch/>
        </p:blipFill>
        <p:spPr>
          <a:xfrm>
            <a:off x="2781360" y="1981080"/>
            <a:ext cx="3647880" cy="373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1800" y="171360"/>
            <a:ext cx="83822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ENDAHULU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ingkatan luar biasa kasus infeksi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sus utama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Mikosis kulit oleh dermato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Infeksi mukosa mulut, bronkia, usus, vagina dll oleh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nyebab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Penggunaan antibiotika berspek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Penggunaan kortikosteroi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. Penggunaan hormon kelamin (pil anti hami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. Faktor hygien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. Kontak internasiona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4160" y="312480"/>
            <a:ext cx="4572000" cy="71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ORPO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5" descr="TineaCorporis2"/>
          <p:cNvPicPr/>
          <p:nvPr/>
        </p:nvPicPr>
        <p:blipFill>
          <a:blip r:embed="rId1"/>
          <a:stretch/>
        </p:blipFill>
        <p:spPr>
          <a:xfrm>
            <a:off x="3333600" y="1771560"/>
            <a:ext cx="25750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71200" y="456840"/>
            <a:ext cx="57150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unguinum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4" descr="Tinea_Unguium-119"/>
          <p:cNvPicPr/>
          <p:nvPr/>
        </p:nvPicPr>
        <p:blipFill>
          <a:blip r:embed="rId1"/>
          <a:stretch/>
        </p:blipFill>
        <p:spPr>
          <a:xfrm>
            <a:off x="1542960" y="2176560"/>
            <a:ext cx="6210360" cy="3425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533520"/>
            <a:ext cx="6324480" cy="7156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Tinea cruri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mycosis fungoides"/>
          <p:cNvPicPr/>
          <p:nvPr/>
        </p:nvPicPr>
        <p:blipFill>
          <a:blip r:embed="rId1"/>
          <a:stretch/>
        </p:blipFill>
        <p:spPr>
          <a:xfrm>
            <a:off x="2076480" y="2057400"/>
            <a:ext cx="5486400" cy="351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8520" y="337680"/>
            <a:ext cx="6933960" cy="692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BAT JAMU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feksi jamur : - Sistem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Topik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ti jamur untuk INFEKSI SISTEMIK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mfoterisin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rupakan hasil fermentasi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treptomyces nodus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yerang sel yang sedang tumbuh dan sel mat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ngisidal dan fungista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erol (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pada membran sel jamur)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+ Amfo B (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berikatan kua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mbran sel boc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usakan se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kit diserap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dar mantap tercapai setelah beberapa bulan pemberi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kulit panas, keringatan, sakit kepala, demam, menggigil,lesu, penurunan faal ginj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koksidiodomikosis, kandidiosis, aspergilosis dl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5181480" y="1143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518148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68580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ngan pengobatan ini : harus mondok di 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Injeksi (vial 50 mg bubuk lipofiloik), krem, salep, lo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Flusitos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ektrum anti jamur agak semp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iptokokosis, kandidosis , kromomikosis,terulopsis,aspergil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cepat dan baik lewat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dar puncak 1-2 j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kurang toksik dibanding amfo. B   ( anemia, leukopenia, trombositopenia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al, muntah, diare, enterokoliti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k nefrotoks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akit kepala, kebingungan, pusing, ngantuk, halusin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obat jamur berharga ( kurang toksik, oral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obat tunggal : kromoblast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sedia bentuk kapsu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ndari wanita ham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Keto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vitas sistemik / non sistem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roral diserap baik melalui sal.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: efek toksik lebih ringan dari Amfo. B, nyeri kepala, vertigo, nyeri epigastrik, fotobia, parestesia, gusi berdarah, erupsi kulit, trombositopenia, pada laki-laki :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ginekomasti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, infertilitas, penurunan libido, oligosperm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Histoplasmosis paru, tulang, sendi, jaringan lemak, kandidosis (mukokutan, oral, vagin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Itra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rat hub. Dengan keto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anti jamur lebih lebar, efek samping lebih kec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hampir sama dengan ketokonaz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5.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Flu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siat baru/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sempurna oleh saluran cer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sebar rata dalam cairan tubuh, juga pada sputum, sal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oral : kapsul 50, 100, 150, dan 200 mg, dosis 100-400 mg/ har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cegah relaps meningitis oleh kriptokokus setelah pengobatan Amfo.B, Tx kandiasis mulut dan tenggorokan pada penderita AID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768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6. Kaspofun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las baru, kerja menghambat sintesa ß (1,3)-D-glukan (komponen pembentuk dinding sel jamu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kandidiasis invasif, kandidiasis oesoagus, kandidiasis orofaring, aspergilosis invasi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toleransi lebih baik dari amfoterisisn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osis hari I  70 mg IV, dilanjutkan 50 mg perhari selama 14 hari (diberikan IV dalam 1 j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46584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mur/fungi (non klorofi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asit                               saprof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yphen                      mycell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mur membentuk sel 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p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a 100.000 jenis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Menguntungk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. Merugikan (fungi patoge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2305080" y="314316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3276360" y="9144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648320" y="914400"/>
            <a:ext cx="99036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304920"/>
            <a:ext cx="822960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7. Terbinaf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ivat alilamin sinte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dermatofitosis (onikomikosis), candidiasis kutaneus, tinea versikolor (digabung dg imidazol &amp; triazo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erap baik melalui sal cerna, t½ awal 12 jam, bila mencapai kadar mantap t½ 200-400 j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mpengaruhi biosintesa ergoste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samping jarang (gangguan sal cera, sakit kepala atau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ras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talet oral 250 mg, diberikan 1 x seha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I. Anti jamur untuk                                               INFEKSI DERMATOFIT &amp; MUKOKU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Griseofulv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1946 (Brian dkk) : Curting Faktor griseofulvin (P. Jonozski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tif terhadap jamur dermatofit : Trikophyton, Epidermophyton, Microspor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ngis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erja : menghambat mitosis jamur ( mengikat protein mikrotubuler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nyerapan kurang baik pada saluran cerna bagian atas (tak larut ai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rsama makanan berlemak penyerapan ba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x : yang berat jarang, sakit kepala : utam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efektif untuk infeksi pada kulit, kuku, rambut, kandidiasis dan T. versikolor TAK BI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tab 125mg &amp; 500mg, susp 125mg/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 Imidazol &amp; Tri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ol Imidazol punya spec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masuk kelompok ini : mikonazol, kotrimazol, ekonazol d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Mikonaz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urunan Imidazol sinte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ectrum anti jamur leb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Mikonazol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7" descr="mikonazol"/>
          <p:cNvPicPr/>
          <p:nvPr/>
        </p:nvPicPr>
        <p:blipFill>
          <a:blip r:embed="rId1"/>
          <a:stretch/>
        </p:blipFill>
        <p:spPr>
          <a:xfrm>
            <a:off x="4952880" y="2286000"/>
            <a:ext cx="3200400" cy="251928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0" name="Picture 9" descr="1171468607_24922"/>
          <p:cNvPicPr/>
          <p:nvPr/>
        </p:nvPicPr>
        <p:blipFill>
          <a:blip r:embed="rId2"/>
          <a:stretch/>
        </p:blipFill>
        <p:spPr>
          <a:xfrm>
            <a:off x="685800" y="2514600"/>
            <a:ext cx="3809880" cy="2270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kanisme kerja belum jelas diperkirakan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Menghambat sintesa ergoste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Gangguan sintesis asam nukle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Penimbunan peroksida dalam sel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Ketiganya menyebabkan sel jamur ru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ikonazol topikal : dermatitis, t versikolor, kandiasis mukokut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x : iritasi, rasa terbakar, maser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 2%, bedak tabur, gel 2% 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Kotrimaz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kanisme kerja mirip mikonazol topikal : T. pedis, krunis, T. versikolor, infeksi kulit dan vulvovaginistis oleh C. Albican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5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/ larutan 1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em vaginal 1% / tab 1x sehari mal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ari 7 har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pemakaian topikal : rasa terbakar, eritema, edema, gatal, urtika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Nistat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hasilkan oleh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Streptomyces nours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ebih toksik dari Amfo.B (tak digunakan sistemi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k diserap melalui sal cerna, kulit, vag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ghambat pertumbuhan jamur dan ra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vitas anti jamur tergantung ikatan dengan sterol pada membran sel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Nistatin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5" descr="nistatin"/>
          <p:cNvPicPr/>
          <p:nvPr/>
        </p:nvPicPr>
        <p:blipFill>
          <a:blip r:embed="rId1"/>
          <a:stretch/>
        </p:blipFill>
        <p:spPr>
          <a:xfrm>
            <a:off x="914400" y="3048120"/>
            <a:ext cx="2743200" cy="1676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8" name="Picture 7" descr="tablets"/>
          <p:cNvPicPr/>
          <p:nvPr/>
        </p:nvPicPr>
        <p:blipFill>
          <a:blip r:embed="rId2"/>
          <a:stretch/>
        </p:blipFill>
        <p:spPr>
          <a:xfrm>
            <a:off x="3962520" y="3048120"/>
            <a:ext cx="1676160" cy="16761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pic>
        <p:nvPicPr>
          <p:cNvPr id="199" name="Picture 9" descr="25098"/>
          <p:cNvPicPr/>
          <p:nvPr/>
        </p:nvPicPr>
        <p:blipFill>
          <a:blip r:embed="rId3"/>
          <a:stretch/>
        </p:blipFill>
        <p:spPr>
          <a:xfrm>
            <a:off x="6095880" y="2971800"/>
            <a:ext cx="1828800" cy="18288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685440"/>
            <a:ext cx="853416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, salep, tablet vagina, tetes o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fek non terapi jarang : mual, muntah, di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Bookman Old Style"/>
              <a:buChar char="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infeksi kandida di : kulit, selaput lendir, saluran  cer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Anti jamur Topikal l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Kandisid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kandidiasis vagi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ab. Salep vaginal 2x sehari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/d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2 mingg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s. Benzoat dan As. Salisil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erbandingan 2:1 (6% dan 3%) : whitfie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. Benzoat : fungista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1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533160"/>
            <a:ext cx="8382240" cy="601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s. Salisilat : keratolit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Tinea pedis, Tinea capit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Notamis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ntuk keratitis karena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pensi 5% dan salep 1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Siklopiroks Olam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opikal, spektrum lu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rmatofitosis, kandidiasis dan T. versikol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rem 1% 2x sehar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5040" y="304560"/>
            <a:ext cx="8915400" cy="6095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Asam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dikasi :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pidermophyton, trichophyton, microspor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salep campuran 5% undesilenat dengan 20% seng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dak dan aerosol 2% undesilenat dengan 20% seng undesilen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Holoprog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ersifat fungisidal thd </a:t>
            </a:r>
            <a:r>
              <a:rPr b="0" i="1" lang="en-US" sz="2400" spc="-1" strike="noStrike">
                <a:solidFill>
                  <a:srgbClr val="ffffff"/>
                </a:solidFill>
                <a:latin typeface="Bookman Old Style"/>
              </a:rPr>
              <a:t>epidermophyton, trichophyton, microsporum, Melassezia furf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lama pengoatan dapat timbul : iritasi lokal, rasa terbakar, vesikel, maserasi dan sensitisas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diaan : krem dan larutan 1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86040" y="495000"/>
            <a:ext cx="548640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SEL JAMU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jamur 2"/>
          <p:cNvPicPr/>
          <p:nvPr/>
        </p:nvPicPr>
        <p:blipFill>
          <a:blip r:embed="rId1"/>
          <a:stretch/>
        </p:blipFill>
        <p:spPr>
          <a:xfrm>
            <a:off x="2448000" y="1650960"/>
            <a:ext cx="4248000" cy="355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1809720" y="318132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838224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Flora Organisme Normal dari Kuli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ora Tetap (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esident flora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diri dari mikroorganisme tet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a susunan terganggu keseimbangan segera puli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uk mempertahankan kesehatan dan fungsi normal tubu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sal : di usus utk mensintesa vit k, membantu penyerapan giz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ora Selewat (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ransient flor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diri dari mikroorganisme nonpatogen maupun potensi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togen tetapi tak menyebabkan penyaki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ila flora tetap terganggu dpt berkembang biak ya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nbimbulkan penyak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42840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oh : Flora normal pd vagi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bag. Besar terdiri dari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actobacil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arbohidrat            asam lakt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ikroorganisme patog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hamb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umber penular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ora &amp; serpih kulit pender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celium            enzim         peradang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648320" y="1676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5753160" y="232416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7467480" y="255276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019400" y="520056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762440" y="5810400"/>
            <a:ext cx="838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667560" y="5810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47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MIKOSI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Penyakit yang disebabkan oleh jamur”</a:t>
            </a:r>
            <a:r>
              <a:rPr b="1" lang="en-US" sz="3200" spc="-1" strike="noStrike">
                <a:solidFill>
                  <a:srgbClr val="e5e5ff"/>
                </a:solidFill>
                <a:latin typeface="Bookman Old Style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lasifikasi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.  Mikosis Profu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I. Mikosis Superfis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Mikosis Profun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diri atas beberapa penyakit yang disebabkan jamu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x klinis tertent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enyerang alat-alat dibawah kulit : trac. Imtestinal, respiratorius, urogenital, system kardiovaskuler, SSP, otot tulang, kadang kul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04600" indent="-80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d-ID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erlihat dalam klinik sebagai penyakit kronik dan residi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nifestasi klinik dapat berupa : tumor, infiltrasi, peradangan, vegetasi, ulkus, sinus, fiste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oh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ktinomik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5. Aspergil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kardi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. Blast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orotrikosis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7. Koksidiodomiko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stoplasmos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8. Mukormikosis d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Tahoma"/>
              </a:rPr>
              <a:t>ASPERGILOSIS SUPRACLAVICUL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4" descr="aspergilosis clavicula"/>
          <p:cNvPicPr/>
          <p:nvPr/>
        </p:nvPicPr>
        <p:blipFill>
          <a:blip r:embed="rId1"/>
          <a:stretch/>
        </p:blipFill>
        <p:spPr>
          <a:xfrm>
            <a:off x="2743200" y="1878120"/>
            <a:ext cx="3962520" cy="336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3:18:12Z</dcterms:created>
  <dc:creator>SETYO</dc:creator>
  <dc:description/>
  <dc:language>en-US</dc:language>
  <cp:lastModifiedBy>DarkUser</cp:lastModifiedBy>
  <dcterms:modified xsi:type="dcterms:W3CDTF">2012-11-01T00:39:43Z</dcterms:modified>
  <cp:revision>34</cp:revision>
  <dc:subject/>
  <dc:title>ANTIMIKOTIKA</dc:title>
</cp:coreProperties>
</file>