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30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06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5"/>
          </p:nvPr>
        </p:nvSpPr>
        <p:spPr>
          <a:xfrm>
            <a:off x="0" y="8686440"/>
            <a:ext cx="2930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440"/>
            <a:ext cx="2930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5647D-7FD9-4F3A-8580-704BCE4D55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D96AA-FD94-4D24-976D-6B21A58A3E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3697C-429A-4BF6-B37B-0481E28F27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9B054-BE31-4750-8877-B5D0C9AB92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1143000" y="685800"/>
            <a:ext cx="454176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41177-3D6D-4D8E-98C1-0A8D7A61B1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82360-684A-441B-9CC6-2CC3F5F3BD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1513B-6D56-4DA1-ABE2-369329CB4C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E06AF-2E23-4711-8ED0-9F30ABB591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233F7-CDE5-4733-98B4-6E78CE39D3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"/>
          <p:cNvSpPr/>
          <p:nvPr/>
        </p:nvSpPr>
        <p:spPr>
          <a:xfrm>
            <a:off x="1206360" y="704880"/>
            <a:ext cx="4684680" cy="351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6CC9B-2B32-43EB-B54A-F8C9CC55B5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1206360" y="704880"/>
            <a:ext cx="468468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0A2F7-8025-40A2-BEF1-ED908E7D8A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1206360" y="704880"/>
            <a:ext cx="4684680" cy="351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7C344-52F6-4DA4-AF1C-BA3F09C348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"/>
          <p:cNvSpPr/>
          <p:nvPr/>
        </p:nvSpPr>
        <p:spPr>
          <a:xfrm>
            <a:off x="1206360" y="704880"/>
            <a:ext cx="468468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CE3DF-3E04-493E-806B-2CBE82FF65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3B9E6-68CD-4B93-BF35-6AAEA5FDF9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"/>
          <p:cNvSpPr/>
          <p:nvPr/>
        </p:nvSpPr>
        <p:spPr>
          <a:xfrm>
            <a:off x="1206360" y="704880"/>
            <a:ext cx="4684680" cy="351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39445-279F-4196-9108-A8D06747EF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"/>
          <p:cNvSpPr/>
          <p:nvPr/>
        </p:nvSpPr>
        <p:spPr>
          <a:xfrm>
            <a:off x="1206360" y="704880"/>
            <a:ext cx="468468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253F9-6D3F-4114-9158-B3C5CCE2B8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"/>
          <p:cNvSpPr/>
          <p:nvPr/>
        </p:nvSpPr>
        <p:spPr>
          <a:xfrm>
            <a:off x="1206360" y="704880"/>
            <a:ext cx="468468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4EAF9-E815-436C-B9CD-140401DE70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"/>
          <p:cNvSpPr/>
          <p:nvPr/>
        </p:nvSpPr>
        <p:spPr>
          <a:xfrm>
            <a:off x="1206360" y="704880"/>
            <a:ext cx="468468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845B3-EF49-4727-932E-6762E5B678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"/>
          <p:cNvSpPr/>
          <p:nvPr/>
        </p:nvSpPr>
        <p:spPr>
          <a:xfrm>
            <a:off x="1206360" y="704880"/>
            <a:ext cx="468000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6DB67-2C08-48AA-9550-E58539EE67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123920" y="687240"/>
            <a:ext cx="461664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501156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99B0C-5D78-4AC6-B3FE-5CCE38A6B1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1123920" y="687240"/>
            <a:ext cx="461664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501156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DE20B-158D-43B6-8347-38BC3FEB27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1123920" y="687240"/>
            <a:ext cx="461664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501156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F2976-C57A-4305-8995-3446CDB18C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1123920" y="687240"/>
            <a:ext cx="461664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501156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4AB08-61D1-4D8E-A9D6-4555D5EB30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"/>
          <p:cNvSpPr/>
          <p:nvPr/>
        </p:nvSpPr>
        <p:spPr>
          <a:xfrm>
            <a:off x="1206360" y="704880"/>
            <a:ext cx="4684680" cy="351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14190-27F8-45A0-B3E8-6C8465FB71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C1AD9-82EA-49E3-B8ED-8189539B30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"/>
          <p:cNvSpPr/>
          <p:nvPr/>
        </p:nvSpPr>
        <p:spPr>
          <a:xfrm>
            <a:off x="1206360" y="704880"/>
            <a:ext cx="468000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B32DA-C256-412C-B3E9-E3D38455B7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"/>
          <p:cNvSpPr/>
          <p:nvPr/>
        </p:nvSpPr>
        <p:spPr>
          <a:xfrm>
            <a:off x="1206360" y="704880"/>
            <a:ext cx="4684680" cy="351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B10DE-3C14-42FA-A589-D2126D30FA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"/>
          <p:cNvSpPr/>
          <p:nvPr/>
        </p:nvSpPr>
        <p:spPr>
          <a:xfrm>
            <a:off x="1206360" y="704880"/>
            <a:ext cx="4684680" cy="351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68283-1002-416A-9F1E-C148BB6366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"/>
          <p:cNvSpPr/>
          <p:nvPr/>
        </p:nvSpPr>
        <p:spPr>
          <a:xfrm>
            <a:off x="1206360" y="704880"/>
            <a:ext cx="468000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E93DF-BC77-4934-ADCA-614DD22352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"/>
          <p:cNvSpPr/>
          <p:nvPr/>
        </p:nvSpPr>
        <p:spPr>
          <a:xfrm>
            <a:off x="1206360" y="704880"/>
            <a:ext cx="468000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62340-7EC9-4DFD-A18D-CB66D3F171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EF22F-2123-447F-8F74-403C616A87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"/>
          <p:cNvSpPr/>
          <p:nvPr/>
        </p:nvSpPr>
        <p:spPr>
          <a:xfrm>
            <a:off x="1204920" y="704880"/>
            <a:ext cx="468468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FB3BD-BC60-486E-97DB-C15453984C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"/>
          <p:cNvSpPr/>
          <p:nvPr/>
        </p:nvSpPr>
        <p:spPr>
          <a:xfrm>
            <a:off x="1206360" y="704880"/>
            <a:ext cx="4687920" cy="35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04C4E-4618-40B1-B147-3530E4E640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"/>
          <p:cNvSpPr/>
          <p:nvPr/>
        </p:nvSpPr>
        <p:spPr>
          <a:xfrm>
            <a:off x="1206360" y="704880"/>
            <a:ext cx="4687920" cy="35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7DFD6-4375-45A7-B7CC-3188159CBB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"/>
          <p:cNvSpPr/>
          <p:nvPr/>
        </p:nvSpPr>
        <p:spPr>
          <a:xfrm>
            <a:off x="1206360" y="704880"/>
            <a:ext cx="4687920" cy="35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028B2-5BF2-4291-8EEC-BF40143F4F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099CF-47B7-4082-803A-E73B24927A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83D2D-C152-4313-9DF4-F947496BC6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1206360" y="704880"/>
            <a:ext cx="4687920" cy="35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42E17-12B0-4652-9EB1-70EA42D933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"/>
          <p:cNvSpPr/>
          <p:nvPr/>
        </p:nvSpPr>
        <p:spPr>
          <a:xfrm>
            <a:off x="1206360" y="704880"/>
            <a:ext cx="4687920" cy="35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07EF1-B526-4939-B6B3-07F340682C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"/>
          <p:cNvSpPr/>
          <p:nvPr/>
        </p:nvSpPr>
        <p:spPr>
          <a:xfrm>
            <a:off x="1143000" y="685800"/>
            <a:ext cx="453564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3399B-FA5B-4F3A-ADB7-8BE6C769F7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A6BDA-CE2A-43BB-A375-34F3BAF83D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1143000" y="685800"/>
            <a:ext cx="453384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BD41B-E553-495C-859A-2FB0972993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5D8FF-C395-4AFC-BFC4-FD4FA73653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F4D-5AC1-4A5E-8B04-ED46AA35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89A-96E1-44A2-8B6F-B65E44CB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754-4FF3-4B52-B65F-901B416E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E1D-8689-4766-9FC8-E82DBB15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E37-130A-4D4F-9A8D-092CB59B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905-8C86-4DAC-B6D5-3CF95282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E32-1D5E-474C-A2D6-A3CF3279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023-7634-465D-82BA-2612E4C4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F38-96F5-4BB9-9FD2-8A0D7C57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ABF-49A9-49BB-8916-CE224612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BA3-56A0-4BC7-B44D-0EFE537A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EF4-28E3-4500-A237-1EF154F4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D58D9-DAAE-43F9-8053-FA2EE5E65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6200" y="3666960"/>
            <a:ext cx="5029200" cy="28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GRC Organizational Strengthening Worksho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pril 3, 2006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gaytay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82760" y="1625760"/>
            <a:ext cx="70866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Knowledge Management  for Local Gover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6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181480" cy="5113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41760" y="-988200"/>
            <a:ext cx="6129360" cy="25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ledge in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cal Government Manage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4039920" y="4267080"/>
            <a:ext cx="15858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4"/>
          <p:cNvSpPr/>
          <p:nvPr/>
        </p:nvSpPr>
        <p:spPr>
          <a:xfrm>
            <a:off x="5181480" y="3048120"/>
            <a:ext cx="129564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uation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5"/>
          <p:cNvSpPr/>
          <p:nvPr/>
        </p:nvSpPr>
        <p:spPr>
          <a:xfrm>
            <a:off x="5105520" y="5181480"/>
            <a:ext cx="144756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ning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e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6"/>
          <p:cNvSpPr/>
          <p:nvPr/>
        </p:nvSpPr>
        <p:spPr>
          <a:xfrm>
            <a:off x="3124080" y="5181480"/>
            <a:ext cx="121932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lemen-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3200400" y="3200400"/>
            <a:ext cx="121932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&amp;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5486400" y="563868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Budgeting, 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1"/>
          <p:cNvSpPr/>
          <p:nvPr/>
        </p:nvSpPr>
        <p:spPr>
          <a:xfrm>
            <a:off x="6477120" y="4114800"/>
            <a:ext cx="15238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808000"/>
                </a:solidFill>
                <a:latin typeface="Times New Roman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2"/>
          <p:cNvSpPr/>
          <p:nvPr/>
        </p:nvSpPr>
        <p:spPr>
          <a:xfrm>
            <a:off x="4191120" y="1905120"/>
            <a:ext cx="15238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808000"/>
                </a:solidFill>
                <a:latin typeface="Times New Roman"/>
              </a:rPr>
              <a:t>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3"/>
          <p:cNvSpPr/>
          <p:nvPr/>
        </p:nvSpPr>
        <p:spPr>
          <a:xfrm>
            <a:off x="1752480" y="4114800"/>
            <a:ext cx="1524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808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4"/>
          <p:cNvSpPr/>
          <p:nvPr/>
        </p:nvSpPr>
        <p:spPr>
          <a:xfrm>
            <a:off x="686880" y="4648320"/>
            <a:ext cx="16725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808000"/>
                </a:solidFill>
                <a:latin typeface="Times New Roman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808000"/>
                </a:solidFill>
                <a:latin typeface="Times New Roman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42840" y="481680"/>
            <a:ext cx="61405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rivers for KM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 Local Gover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8640" y="2027160"/>
            <a:ext cx="5257800" cy="70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10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cending the bureaucracy and inertia (eg, performance management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d demand for accountability and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ing more with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ing role of national and loc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rmo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vasive knowledge loss and isolat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0" y="1725480"/>
            <a:ext cx="3200400" cy="51325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2697120"/>
            <a:ext cx="320040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3200400"/>
            <a:ext cx="7848360" cy="26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merging Principles and Features of LG K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merging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30080" y="2027160"/>
            <a:ext cx="5180040" cy="45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al Network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d value pro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 sharing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onopoly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M as a convergence mecha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big, start small,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Ts for LG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27082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875880"/>
            <a:ext cx="769608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sible Features of LG K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37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on infrastructure and tools, taxonomy, standards,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on resour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ledge dissemination (push-pull approach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ies of Practice (Knowledge Commun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ledge Champions/Coordinators per LGU, partner o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entives, motivation schemes for voluntary knowled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cit knowled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ent development and 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ts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on Help Desk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200400"/>
            <a:ext cx="7467480" cy="17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KM Processes and 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Key Result Are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40520"/>
            <a:ext cx="77090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 Process: 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994520" cy="63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ledge Creation entail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knowledge plan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data/information-gathering, processing and synthesis; and, packaging into reusable/repurposed fo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planning aims to identify and map knowledge resources and gaps and needs of general user groups. It guides the process of knowledge capital build-up and info/knowledge product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creation is not just information acquisition; it involves the process of drawing-out what is not yet known, and synthesizing it with what is already known to develop/create new insights, skills and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950040"/>
            <a:ext cx="82346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eation: Key Result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2018880"/>
            <a:ext cx="8234280" cy="48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rehensive map/analysis of knowledge (re)sources internally and extern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ledge capital plan to build up knowledg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evant data/information acquired accurately and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info/knowledge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and relevant info/ knowledge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37280"/>
            <a:ext cx="8082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 Process: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2520" y="2093760"/>
            <a:ext cx="7548480" cy="49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9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ing venues, channels, tools, and organizing activities for knowledge dissemination, sharing, and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rtals, Databases, e-Groups, Discussion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ums, Workshops, Symposia,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unities or Practice, Expert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9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seminating and promoting knowledge exchange thru the effective utilization of  appropriate communication chann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0760" y="915120"/>
            <a:ext cx="82342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aring: Key Result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4800" y="1907640"/>
            <a:ext cx="7284960" cy="758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creased outreach and client base for info/ knowledge products and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asy access to information channels, tools, and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nhanced knowledge “pull” by cust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mproved and enhanced participation in tacit knowledge sharing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sponsive and timely responses to customers‘ request for inf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41760" y="913680"/>
            <a:ext cx="615600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2027160"/>
            <a:ext cx="8001000" cy="51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M Revis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M in Development and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rivers for KM in L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inciples and Features of LG 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M Processes &amp; Key Result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GRC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LGRC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0760" y="915120"/>
            <a:ext cx="82342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 Process: U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72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suring actual use and application and fit to customer needs - customers receive only what they need where and when they need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ing use of/access to knowledge products that meet the specified needs of customers, helping provide supplementary info or context thru subjec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ails knowledge equipping, coaching, customer support, and linking to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ludes monitoring and evaluation of utilization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ting customer feedback to enable new knowledge creation and/or upda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2160" y="910440"/>
            <a:ext cx="82342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tilization: Key Result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dentified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knowledge needs of target users and reque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ustomers equipped with their specific knowledg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etermined relevance and potential reusability of collected data/inf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ide and appropriate utilization of info/knowledge products in decisions, actions, and polic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ptured and evaluated metrics and feedback on info/knowledge uti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34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 Process: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valuation &amp;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balance the interdependent elements of th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ing an environment for knowledge sharing (more than bits and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all coordination, oversight, and management of the various processes and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 of utilization metrics, and analyzing customer 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f you can’t measure it, you can’t manag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ing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al marketing of KM4Dev and local governance excel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34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valuation &amp; Management: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50444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tured and evaluated metrics and feedback on info/knowledge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ed, reviewed and analyzed business/knowledg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ed and implemented  improvements and enhancements to processes an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d overall satisfaction rating from customers and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t and enhanced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52480" y="2514600"/>
            <a:ext cx="6400800" cy="6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67000"/>
              </a:lnSpc>
              <a:spcBef>
                <a:spcPts val="1349"/>
              </a:spcBef>
              <a:buNone/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LGRC Progra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61760" y="990720"/>
            <a:ext cx="792468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1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sitory and channel for communication and information sharing of books, publications, exemplary and replicable practices, audio-visual materials, and other knowledge products,. Provides acces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1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GRC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1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Librar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1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ccess to and use of LGP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7315200" cy="58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5080" indent="-31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ue to deliver or facilitate the delivery of quality, strategic and responsive capacity development by promoting and undertaking replication of exemplary practices through Go-F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080" indent="-31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upport to local development planning i.e. CDP, 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080" indent="-31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080" indent="-31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development and pack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080" indent="-31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assis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371600" y="53352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pacity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380880"/>
            <a:ext cx="7620120" cy="62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2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rs link between LGUs and other local governance stakeholders and programs (eg, Go-FAR, LGPMS and local development planning) and provides access to network of coaches, experts and the local resource institutions (LRIs). Activities and servic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2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2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Directory-Lo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2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Desk and Information Referral Service Ho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143000" y="60948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620120" cy="60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28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 to promote good local governance practices and innovations throug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28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Sharing and Knowledge Exchange Programs through  conferences, roundtable discussions, forum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ary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28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28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28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hips with media for public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3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LGRC Programs fulfil 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undamental KM proces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152280" y="2003400"/>
            <a:ext cx="4189680" cy="4276800"/>
            <a:chOff x="152280" y="2003400"/>
            <a:chExt cx="4189680" cy="4276800"/>
          </a:xfrm>
        </p:grpSpPr>
        <p:sp>
          <p:nvSpPr>
            <p:cNvPr id="169" name="Oval 3"/>
            <p:cNvSpPr/>
            <p:nvPr/>
          </p:nvSpPr>
          <p:spPr>
            <a:xfrm>
              <a:off x="152280" y="2003400"/>
              <a:ext cx="4189680" cy="4229280"/>
            </a:xfrm>
            <a:prstGeom prst="ellipse">
              <a:avLst/>
            </a:prstGeom>
            <a:solidFill>
              <a:srgbClr val="ff94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"/>
            <p:cNvSpPr/>
            <p:nvPr/>
          </p:nvSpPr>
          <p:spPr>
            <a:xfrm>
              <a:off x="1347120" y="3190320"/>
              <a:ext cx="1797840" cy="1856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"/>
            <p:cNvSpPr/>
            <p:nvPr/>
          </p:nvSpPr>
          <p:spPr>
            <a:xfrm flipV="1" rot="10800000">
              <a:off x="421560" y="4237560"/>
              <a:ext cx="3107160" cy="16264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 flipH="1">
              <a:off x="2500920" y="2404800"/>
              <a:ext cx="1573920" cy="29023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"/>
            <p:cNvSpPr/>
            <p:nvPr/>
          </p:nvSpPr>
          <p:spPr>
            <a:xfrm flipH="1">
              <a:off x="543600" y="2044440"/>
              <a:ext cx="2341800" cy="26276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937440" y="5838840"/>
              <a:ext cx="27730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Measure &amp; Man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 rot="19680000">
              <a:off x="502920" y="4318200"/>
              <a:ext cx="10616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re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1432800" y="2607840"/>
              <a:ext cx="9428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h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/>
            <p:cNvSpPr/>
            <p:nvPr/>
          </p:nvSpPr>
          <p:spPr>
            <a:xfrm>
              <a:off x="1446480" y="3915720"/>
              <a:ext cx="16376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2"/>
            <p:cNvSpPr/>
            <p:nvPr/>
          </p:nvSpPr>
          <p:spPr>
            <a:xfrm rot="1740000">
              <a:off x="2662200" y="4478760"/>
              <a:ext cx="9763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pp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4800600" y="2286000"/>
            <a:ext cx="4114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19240">
              <a:lnSpc>
                <a:spcPct val="87000"/>
              </a:lnSpc>
              <a:spcAft>
                <a:spcPts val="575"/>
              </a:spcAft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19240">
              <a:lnSpc>
                <a:spcPct val="87000"/>
              </a:lnSpc>
              <a:spcAft>
                <a:spcPts val="575"/>
              </a:spcAft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19240">
              <a:lnSpc>
                <a:spcPct val="87000"/>
              </a:lnSpc>
              <a:spcAft>
                <a:spcPts val="575"/>
              </a:spcAft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19240">
              <a:lnSpc>
                <a:spcPct val="87000"/>
              </a:lnSpc>
              <a:spcAft>
                <a:spcPts val="575"/>
              </a:spcAft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19240">
              <a:lnSpc>
                <a:spcPct val="87000"/>
              </a:lnSpc>
              <a:spcAft>
                <a:spcPts val="575"/>
              </a:spcAft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 &amp; Man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19240">
              <a:lnSpc>
                <a:spcPct val="87000"/>
              </a:lnSpc>
              <a:spcAft>
                <a:spcPts val="575"/>
              </a:spcAft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19240">
              <a:lnSpc>
                <a:spcPct val="87000"/>
              </a:lnSpc>
              <a:spcAft>
                <a:spcPts val="575"/>
              </a:spcAft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 as input and output to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3200400"/>
            <a:ext cx="7848360" cy="26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Knowledge Management Revisit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5438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apping of KM Processes to  LGRC Progra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2"/>
          <p:cNvGrpSpPr/>
          <p:nvPr/>
        </p:nvGrpSpPr>
        <p:grpSpPr>
          <a:xfrm>
            <a:off x="457200" y="2057400"/>
            <a:ext cx="8381520" cy="4478040"/>
            <a:chOff x="457200" y="2057400"/>
            <a:chExt cx="8381520" cy="4478040"/>
          </a:xfrm>
        </p:grpSpPr>
        <p:sp>
          <p:nvSpPr>
            <p:cNvPr id="182" name="Rectangle 3"/>
            <p:cNvSpPr/>
            <p:nvPr/>
          </p:nvSpPr>
          <p:spPr>
            <a:xfrm>
              <a:off x="6742440" y="5695920"/>
              <a:ext cx="2094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4"/>
            <p:cNvSpPr/>
            <p:nvPr/>
          </p:nvSpPr>
          <p:spPr>
            <a:xfrm>
              <a:off x="4647240" y="5695920"/>
              <a:ext cx="20948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"/>
            <p:cNvSpPr/>
            <p:nvPr/>
          </p:nvSpPr>
          <p:spPr>
            <a:xfrm>
              <a:off x="2552040" y="5695920"/>
              <a:ext cx="20948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"/>
            <p:cNvSpPr/>
            <p:nvPr/>
          </p:nvSpPr>
          <p:spPr>
            <a:xfrm>
              <a:off x="457200" y="5695920"/>
              <a:ext cx="20948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ublic Edu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6742440" y="4802760"/>
              <a:ext cx="2094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8"/>
            <p:cNvSpPr/>
            <p:nvPr/>
          </p:nvSpPr>
          <p:spPr>
            <a:xfrm>
              <a:off x="4647240" y="4802760"/>
              <a:ext cx="209484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9"/>
            <p:cNvSpPr/>
            <p:nvPr/>
          </p:nvSpPr>
          <p:spPr>
            <a:xfrm>
              <a:off x="2552040" y="4802760"/>
              <a:ext cx="209484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0"/>
            <p:cNvSpPr/>
            <p:nvPr/>
          </p:nvSpPr>
          <p:spPr>
            <a:xfrm>
              <a:off x="457200" y="4802760"/>
              <a:ext cx="209484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Link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1"/>
            <p:cNvSpPr/>
            <p:nvPr/>
          </p:nvSpPr>
          <p:spPr>
            <a:xfrm>
              <a:off x="6742440" y="3886920"/>
              <a:ext cx="20944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2"/>
            <p:cNvSpPr/>
            <p:nvPr/>
          </p:nvSpPr>
          <p:spPr>
            <a:xfrm>
              <a:off x="4647240" y="3886920"/>
              <a:ext cx="20948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3"/>
            <p:cNvSpPr/>
            <p:nvPr/>
          </p:nvSpPr>
          <p:spPr>
            <a:xfrm>
              <a:off x="2552040" y="3886920"/>
              <a:ext cx="20948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>
              <a:off x="457200" y="3886920"/>
              <a:ext cx="20948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ultimedia K &amp; Inf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5"/>
            <p:cNvSpPr/>
            <p:nvPr/>
          </p:nvSpPr>
          <p:spPr>
            <a:xfrm>
              <a:off x="6742440" y="2972880"/>
              <a:ext cx="20944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6"/>
            <p:cNvSpPr/>
            <p:nvPr/>
          </p:nvSpPr>
          <p:spPr>
            <a:xfrm>
              <a:off x="4647240" y="2972880"/>
              <a:ext cx="20948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7"/>
            <p:cNvSpPr/>
            <p:nvPr/>
          </p:nvSpPr>
          <p:spPr>
            <a:xfrm>
              <a:off x="2552040" y="2972880"/>
              <a:ext cx="20948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8"/>
            <p:cNvSpPr/>
            <p:nvPr/>
          </p:nvSpPr>
          <p:spPr>
            <a:xfrm>
              <a:off x="457200" y="2972880"/>
              <a:ext cx="20948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apacity Dev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9"/>
            <p:cNvSpPr/>
            <p:nvPr/>
          </p:nvSpPr>
          <p:spPr>
            <a:xfrm>
              <a:off x="6742440" y="2057400"/>
              <a:ext cx="20944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Utiliz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0"/>
            <p:cNvSpPr/>
            <p:nvPr/>
          </p:nvSpPr>
          <p:spPr>
            <a:xfrm>
              <a:off x="4647240" y="2057400"/>
              <a:ext cx="2094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h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1"/>
            <p:cNvSpPr/>
            <p:nvPr/>
          </p:nvSpPr>
          <p:spPr>
            <a:xfrm>
              <a:off x="2552040" y="2057400"/>
              <a:ext cx="2094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re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2"/>
            <p:cNvSpPr/>
            <p:nvPr/>
          </p:nvSpPr>
          <p:spPr>
            <a:xfrm>
              <a:off x="457200" y="2057400"/>
              <a:ext cx="2094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KM Process / Progr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3"/>
            <p:cNvSpPr/>
            <p:nvPr/>
          </p:nvSpPr>
          <p:spPr>
            <a:xfrm>
              <a:off x="457200" y="2057400"/>
              <a:ext cx="83800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4"/>
            <p:cNvSpPr/>
            <p:nvPr/>
          </p:nvSpPr>
          <p:spPr>
            <a:xfrm>
              <a:off x="457200" y="2972880"/>
              <a:ext cx="8380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5"/>
            <p:cNvSpPr/>
            <p:nvPr/>
          </p:nvSpPr>
          <p:spPr>
            <a:xfrm>
              <a:off x="457200" y="3886920"/>
              <a:ext cx="8380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6"/>
            <p:cNvSpPr/>
            <p:nvPr/>
          </p:nvSpPr>
          <p:spPr>
            <a:xfrm>
              <a:off x="457200" y="4802760"/>
              <a:ext cx="8380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457200" y="5695920"/>
              <a:ext cx="8380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8"/>
            <p:cNvSpPr/>
            <p:nvPr/>
          </p:nvSpPr>
          <p:spPr>
            <a:xfrm>
              <a:off x="457200" y="6534360"/>
              <a:ext cx="83800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9"/>
            <p:cNvSpPr/>
            <p:nvPr/>
          </p:nvSpPr>
          <p:spPr>
            <a:xfrm>
              <a:off x="457200" y="2057400"/>
              <a:ext cx="1080" cy="447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0"/>
            <p:cNvSpPr/>
            <p:nvPr/>
          </p:nvSpPr>
          <p:spPr>
            <a:xfrm>
              <a:off x="2552040" y="2057400"/>
              <a:ext cx="1080" cy="447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>
              <a:off x="4647240" y="2057400"/>
              <a:ext cx="1080" cy="447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2"/>
            <p:cNvSpPr/>
            <p:nvPr/>
          </p:nvSpPr>
          <p:spPr>
            <a:xfrm>
              <a:off x="6742440" y="2057400"/>
              <a:ext cx="1080" cy="447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3"/>
            <p:cNvSpPr/>
            <p:nvPr/>
          </p:nvSpPr>
          <p:spPr>
            <a:xfrm>
              <a:off x="8837280" y="2057400"/>
              <a:ext cx="1440" cy="447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34"/>
          <p:cNvSpPr/>
          <p:nvPr/>
        </p:nvSpPr>
        <p:spPr>
          <a:xfrm>
            <a:off x="5486400" y="3200400"/>
            <a:ext cx="34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2560" y="641520"/>
            <a:ext cx="7926480" cy="8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LGRC Team ro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40040"/>
            <a:ext cx="822636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3360" indent="-60336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45000"/>
              <a:buFont typeface="Wingdings" charset="2"/>
              <a:buChar char=""/>
              <a:tabLst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518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er/Technical Wr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45000"/>
              <a:buFont typeface="Wingdings" charset="2"/>
              <a:buChar char=""/>
              <a:tabLst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518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45000"/>
              <a:buFont typeface="Wingdings" charset="2"/>
              <a:buChar char=""/>
              <a:tabLst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518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Off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45000"/>
              <a:buFont typeface="Wingdings" charset="2"/>
              <a:buChar char=""/>
              <a:tabLst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518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ledge Sharing/Community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45000"/>
              <a:buFont typeface="Wingdings" charset="2"/>
              <a:buChar char=""/>
              <a:tabLst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518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GRC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9000"/>
              </a:lnSpc>
              <a:spcBef>
                <a:spcPts val="799"/>
              </a:spcBef>
              <a:buNone/>
              <a:tabLst>
                <a:tab algn="l" pos="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5187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9000"/>
              </a:lnSpc>
              <a:spcBef>
                <a:spcPts val="799"/>
              </a:spcBef>
              <a:buNone/>
              <a:tabLst>
                <a:tab algn="l" pos="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5187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139840" y="6172200"/>
            <a:ext cx="4032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439560"/>
            <a:ext cx="8077320" cy="15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Team roles cover all knowledge process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6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er/Technical Wr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 Devel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ormation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Sharing/Community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GRC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2139840" y="6172200"/>
            <a:ext cx="181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61020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GRC Matrix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2"/>
          <p:cNvGrpSpPr/>
          <p:nvPr/>
        </p:nvGrpSpPr>
        <p:grpSpPr>
          <a:xfrm>
            <a:off x="380880" y="1828800"/>
            <a:ext cx="8532720" cy="4836600"/>
            <a:chOff x="380880" y="1828800"/>
            <a:chExt cx="8532720" cy="4836600"/>
          </a:xfrm>
        </p:grpSpPr>
        <p:sp>
          <p:nvSpPr>
            <p:cNvPr id="222" name="Rectangle 3"/>
            <p:cNvSpPr/>
            <p:nvPr/>
          </p:nvSpPr>
          <p:spPr>
            <a:xfrm>
              <a:off x="7237440" y="4875480"/>
              <a:ext cx="1674720" cy="11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5826600" y="4875480"/>
              <a:ext cx="1412640" cy="11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4282200" y="4875480"/>
              <a:ext cx="1542960" cy="11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6"/>
            <p:cNvSpPr/>
            <p:nvPr/>
          </p:nvSpPr>
          <p:spPr>
            <a:xfrm>
              <a:off x="2741040" y="4875480"/>
              <a:ext cx="1540800" cy="11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>
              <a:off x="380880" y="4875480"/>
              <a:ext cx="2361600" cy="11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Knowledge Sharing/Community Coor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"/>
            <p:cNvSpPr/>
            <p:nvPr/>
          </p:nvSpPr>
          <p:spPr>
            <a:xfrm>
              <a:off x="7237440" y="6029280"/>
              <a:ext cx="167472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>
              <a:off x="5826600" y="6029280"/>
              <a:ext cx="141264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"/>
            <p:cNvSpPr/>
            <p:nvPr/>
          </p:nvSpPr>
          <p:spPr>
            <a:xfrm>
              <a:off x="4282200" y="6029280"/>
              <a:ext cx="154296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969696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"/>
            <p:cNvSpPr/>
            <p:nvPr/>
          </p:nvSpPr>
          <p:spPr>
            <a:xfrm>
              <a:off x="2741040" y="6029280"/>
              <a:ext cx="15408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969696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2"/>
            <p:cNvSpPr/>
            <p:nvPr/>
          </p:nvSpPr>
          <p:spPr>
            <a:xfrm>
              <a:off x="380880" y="6029280"/>
              <a:ext cx="23616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GRC Coordin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3"/>
            <p:cNvSpPr/>
            <p:nvPr/>
          </p:nvSpPr>
          <p:spPr>
            <a:xfrm>
              <a:off x="7237440" y="4231080"/>
              <a:ext cx="16747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4"/>
            <p:cNvSpPr/>
            <p:nvPr/>
          </p:nvSpPr>
          <p:spPr>
            <a:xfrm>
              <a:off x="7237440" y="3594960"/>
              <a:ext cx="167472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5"/>
            <p:cNvSpPr/>
            <p:nvPr/>
          </p:nvSpPr>
          <p:spPr>
            <a:xfrm>
              <a:off x="7237440" y="2898000"/>
              <a:ext cx="167472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6"/>
            <p:cNvSpPr/>
            <p:nvPr/>
          </p:nvSpPr>
          <p:spPr>
            <a:xfrm>
              <a:off x="7237440" y="1828800"/>
              <a:ext cx="1674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ublic Edu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7"/>
            <p:cNvSpPr/>
            <p:nvPr/>
          </p:nvSpPr>
          <p:spPr>
            <a:xfrm>
              <a:off x="5826600" y="4231080"/>
              <a:ext cx="14126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/>
            <p:cNvSpPr/>
            <p:nvPr/>
          </p:nvSpPr>
          <p:spPr>
            <a:xfrm>
              <a:off x="5826600" y="3594960"/>
              <a:ext cx="14126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9"/>
            <p:cNvSpPr/>
            <p:nvPr/>
          </p:nvSpPr>
          <p:spPr>
            <a:xfrm>
              <a:off x="5826600" y="2898000"/>
              <a:ext cx="141264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5826600" y="1828800"/>
              <a:ext cx="141264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k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4282200" y="4231080"/>
              <a:ext cx="15429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2"/>
            <p:cNvSpPr/>
            <p:nvPr/>
          </p:nvSpPr>
          <p:spPr>
            <a:xfrm>
              <a:off x="2741040" y="4231080"/>
              <a:ext cx="15408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3"/>
            <p:cNvSpPr/>
            <p:nvPr/>
          </p:nvSpPr>
          <p:spPr>
            <a:xfrm>
              <a:off x="380880" y="4231080"/>
              <a:ext cx="23616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fo Offi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4"/>
            <p:cNvSpPr/>
            <p:nvPr/>
          </p:nvSpPr>
          <p:spPr>
            <a:xfrm>
              <a:off x="4282200" y="3594960"/>
              <a:ext cx="154296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5"/>
            <p:cNvSpPr/>
            <p:nvPr/>
          </p:nvSpPr>
          <p:spPr>
            <a:xfrm>
              <a:off x="2741040" y="3594960"/>
              <a:ext cx="15408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6"/>
            <p:cNvSpPr/>
            <p:nvPr/>
          </p:nvSpPr>
          <p:spPr>
            <a:xfrm>
              <a:off x="380880" y="3594960"/>
              <a:ext cx="23616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ent Develop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7"/>
            <p:cNvSpPr/>
            <p:nvPr/>
          </p:nvSpPr>
          <p:spPr>
            <a:xfrm>
              <a:off x="4282200" y="2898000"/>
              <a:ext cx="154296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8"/>
            <p:cNvSpPr/>
            <p:nvPr/>
          </p:nvSpPr>
          <p:spPr>
            <a:xfrm>
              <a:off x="2741040" y="2898000"/>
              <a:ext cx="154080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9"/>
            <p:cNvSpPr/>
            <p:nvPr/>
          </p:nvSpPr>
          <p:spPr>
            <a:xfrm>
              <a:off x="380880" y="2898000"/>
              <a:ext cx="236160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er/ Wr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30"/>
            <p:cNvSpPr/>
            <p:nvPr/>
          </p:nvSpPr>
          <p:spPr>
            <a:xfrm>
              <a:off x="4282200" y="1828800"/>
              <a:ext cx="15429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ultimedia K &amp; 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1"/>
            <p:cNvSpPr/>
            <p:nvPr/>
          </p:nvSpPr>
          <p:spPr>
            <a:xfrm>
              <a:off x="2741040" y="1828800"/>
              <a:ext cx="15408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apacity Dev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2"/>
            <p:cNvSpPr/>
            <p:nvPr/>
          </p:nvSpPr>
          <p:spPr>
            <a:xfrm>
              <a:off x="380880" y="1828800"/>
              <a:ext cx="23616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GRC team memb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33"/>
            <p:cNvSpPr/>
            <p:nvPr/>
          </p:nvSpPr>
          <p:spPr>
            <a:xfrm>
              <a:off x="380880" y="1828800"/>
              <a:ext cx="85316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4"/>
            <p:cNvSpPr/>
            <p:nvPr/>
          </p:nvSpPr>
          <p:spPr>
            <a:xfrm>
              <a:off x="380880" y="2898000"/>
              <a:ext cx="8531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5"/>
            <p:cNvSpPr/>
            <p:nvPr/>
          </p:nvSpPr>
          <p:spPr>
            <a:xfrm>
              <a:off x="380880" y="3594960"/>
              <a:ext cx="8531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6"/>
            <p:cNvSpPr/>
            <p:nvPr/>
          </p:nvSpPr>
          <p:spPr>
            <a:xfrm>
              <a:off x="380880" y="4231080"/>
              <a:ext cx="8531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7"/>
            <p:cNvSpPr/>
            <p:nvPr/>
          </p:nvSpPr>
          <p:spPr>
            <a:xfrm>
              <a:off x="380880" y="4875480"/>
              <a:ext cx="8531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38"/>
            <p:cNvSpPr/>
            <p:nvPr/>
          </p:nvSpPr>
          <p:spPr>
            <a:xfrm>
              <a:off x="380880" y="6663960"/>
              <a:ext cx="8531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9"/>
            <p:cNvSpPr/>
            <p:nvPr/>
          </p:nvSpPr>
          <p:spPr>
            <a:xfrm>
              <a:off x="380880" y="1828800"/>
              <a:ext cx="1440" cy="48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40"/>
            <p:cNvSpPr/>
            <p:nvPr/>
          </p:nvSpPr>
          <p:spPr>
            <a:xfrm>
              <a:off x="2741040" y="1828800"/>
              <a:ext cx="1080" cy="48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1"/>
            <p:cNvSpPr/>
            <p:nvPr/>
          </p:nvSpPr>
          <p:spPr>
            <a:xfrm>
              <a:off x="4282200" y="1828800"/>
              <a:ext cx="1440" cy="48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42"/>
            <p:cNvSpPr/>
            <p:nvPr/>
          </p:nvSpPr>
          <p:spPr>
            <a:xfrm>
              <a:off x="5826600" y="1828800"/>
              <a:ext cx="1440" cy="48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43"/>
            <p:cNvSpPr/>
            <p:nvPr/>
          </p:nvSpPr>
          <p:spPr>
            <a:xfrm>
              <a:off x="8912520" y="1828800"/>
              <a:ext cx="1080" cy="48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4"/>
            <p:cNvSpPr/>
            <p:nvPr/>
          </p:nvSpPr>
          <p:spPr>
            <a:xfrm>
              <a:off x="7237440" y="1828800"/>
              <a:ext cx="1440" cy="48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5"/>
            <p:cNvSpPr/>
            <p:nvPr/>
          </p:nvSpPr>
          <p:spPr>
            <a:xfrm>
              <a:off x="380880" y="6029280"/>
              <a:ext cx="8531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m Members by Compon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38840" cy="51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pacity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archer/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 Devel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GRC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media Knowledge and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archer/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 Devel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GRC Coordin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3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 Sharing/Community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GRC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 Sharing/Community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GRC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3200400"/>
            <a:ext cx="8381880" cy="17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RLGRC and NLGRC: 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he LGRC Net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150840"/>
            <a:ext cx="7621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LGRCs and NLG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974520"/>
            <a:ext cx="853452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LGR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onal-level LG sector knowledge management offering knowledge products/services to regional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LGRC is a member/node in the national network of LG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LG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lar to RLGRC (but national-level), plu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ilitator, broker, and network operat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mary knowledge developer (both supply and demand-driv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6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2" name="Rectangle 6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00cc66">
                    <a:alpha val="48235"/>
                  </a:srgbClr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"/>
            <p:cNvSpPr/>
            <p:nvPr/>
          </p:nvSpPr>
          <p:spPr>
            <a:xfrm>
              <a:off x="3505320" y="2971800"/>
              <a:ext cx="1828800" cy="1523880"/>
            </a:xfrm>
            <a:prstGeom prst="hexagon">
              <a:avLst>
                <a:gd name="adj" fmla="val 30002"/>
                <a:gd name="vf" fmla="val 1154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imes New Roman"/>
                </a:rPr>
                <a:t>LG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Times New Roman"/>
                </a:rPr>
                <a:t>N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imes New Roman"/>
                </a:rPr>
                <a:t>LGR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2"/>
            <p:cNvGrpSpPr/>
            <p:nvPr/>
          </p:nvGrpSpPr>
          <p:grpSpPr>
            <a:xfrm>
              <a:off x="6934320" y="4495680"/>
              <a:ext cx="1218960" cy="1140120"/>
              <a:chOff x="6934320" y="4495680"/>
              <a:chExt cx="1218960" cy="1140120"/>
            </a:xfrm>
          </p:grpSpPr>
          <p:sp>
            <p:nvSpPr>
              <p:cNvPr id="275" name="Rectangle 3"/>
              <p:cNvSpPr/>
              <p:nvPr/>
            </p:nvSpPr>
            <p:spPr>
              <a:xfrm>
                <a:off x="6934320" y="4495680"/>
                <a:ext cx="1218960" cy="11401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LGU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4"/>
              <p:cNvSpPr/>
              <p:nvPr/>
            </p:nvSpPr>
            <p:spPr>
              <a:xfrm>
                <a:off x="7149600" y="4915080"/>
                <a:ext cx="788040" cy="6588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LGR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5"/>
            <p:cNvGrpSpPr/>
            <p:nvPr/>
          </p:nvGrpSpPr>
          <p:grpSpPr>
            <a:xfrm>
              <a:off x="7391520" y="3352680"/>
              <a:ext cx="1218960" cy="1063800"/>
              <a:chOff x="7391520" y="3352680"/>
              <a:chExt cx="1218960" cy="1063800"/>
            </a:xfrm>
          </p:grpSpPr>
          <p:sp>
            <p:nvSpPr>
              <p:cNvPr id="278" name="Rectangle 6"/>
              <p:cNvSpPr/>
              <p:nvPr/>
            </p:nvSpPr>
            <p:spPr>
              <a:xfrm>
                <a:off x="7391520" y="3352680"/>
                <a:ext cx="1218960" cy="10638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LGU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7"/>
              <p:cNvSpPr/>
              <p:nvPr/>
            </p:nvSpPr>
            <p:spPr>
              <a:xfrm>
                <a:off x="7606800" y="3744000"/>
                <a:ext cx="788040" cy="61452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LGR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11"/>
            <p:cNvGrpSpPr/>
            <p:nvPr/>
          </p:nvGrpSpPr>
          <p:grpSpPr>
            <a:xfrm>
              <a:off x="5791320" y="3429000"/>
              <a:ext cx="1218960" cy="1139760"/>
              <a:chOff x="5791320" y="3429000"/>
              <a:chExt cx="1218960" cy="1139760"/>
            </a:xfrm>
          </p:grpSpPr>
          <p:sp>
            <p:nvSpPr>
              <p:cNvPr id="281" name="Rectangle 12"/>
              <p:cNvSpPr/>
              <p:nvPr/>
            </p:nvSpPr>
            <p:spPr>
              <a:xfrm>
                <a:off x="5791320" y="3429000"/>
                <a:ext cx="1218960" cy="11397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Reg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13"/>
              <p:cNvSpPr/>
              <p:nvPr/>
            </p:nvSpPr>
            <p:spPr>
              <a:xfrm>
                <a:off x="6006600" y="3848400"/>
                <a:ext cx="788040" cy="65844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LGR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17"/>
            <p:cNvGrpSpPr/>
            <p:nvPr/>
          </p:nvGrpSpPr>
          <p:grpSpPr>
            <a:xfrm>
              <a:off x="7620120" y="5562720"/>
              <a:ext cx="1218960" cy="1063440"/>
              <a:chOff x="7620120" y="5562720"/>
              <a:chExt cx="1218960" cy="1063440"/>
            </a:xfrm>
          </p:grpSpPr>
          <p:sp>
            <p:nvSpPr>
              <p:cNvPr id="284" name="Rectangle 18"/>
              <p:cNvSpPr/>
              <p:nvPr/>
            </p:nvSpPr>
            <p:spPr>
              <a:xfrm>
                <a:off x="7620120" y="5562720"/>
                <a:ext cx="1218960" cy="1063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LGU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19"/>
              <p:cNvSpPr/>
              <p:nvPr/>
            </p:nvSpPr>
            <p:spPr>
              <a:xfrm>
                <a:off x="7835400" y="5955120"/>
                <a:ext cx="788040" cy="6156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LGR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Line 22"/>
            <p:cNvSpPr/>
            <p:nvPr/>
          </p:nvSpPr>
          <p:spPr>
            <a:xfrm>
              <a:off x="4952880" y="4419720"/>
              <a:ext cx="12193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>
              <a:off x="5334120" y="3657600"/>
              <a:ext cx="2286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 flipV="1">
              <a:off x="5029200" y="2286000"/>
              <a:ext cx="7621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 flipV="1">
              <a:off x="1817280" y="2503080"/>
              <a:ext cx="191628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 flipH="1" flipV="1">
              <a:off x="5334120" y="388584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7"/>
            <p:cNvSpPr/>
            <p:nvPr/>
          </p:nvSpPr>
          <p:spPr>
            <a:xfrm>
              <a:off x="609480" y="4572000"/>
              <a:ext cx="1644840" cy="73188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Religiou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ctor/Med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9"/>
            <p:cNvSpPr/>
            <p:nvPr/>
          </p:nvSpPr>
          <p:spPr>
            <a:xfrm>
              <a:off x="380880" y="3733920"/>
              <a:ext cx="1644840" cy="6858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cademe/LR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0"/>
            <p:cNvSpPr/>
            <p:nvPr/>
          </p:nvSpPr>
          <p:spPr>
            <a:xfrm>
              <a:off x="5181480" y="4038480"/>
              <a:ext cx="17528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31"/>
            <p:cNvSpPr/>
            <p:nvPr/>
          </p:nvSpPr>
          <p:spPr>
            <a:xfrm>
              <a:off x="762120" y="2057400"/>
              <a:ext cx="1644480" cy="6858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S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3"/>
            <p:cNvSpPr/>
            <p:nvPr/>
          </p:nvSpPr>
          <p:spPr>
            <a:xfrm>
              <a:off x="380880" y="2895480"/>
              <a:ext cx="1644840" cy="6858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riva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 flipV="1">
              <a:off x="5181480" y="2971800"/>
              <a:ext cx="1752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5"/>
            <p:cNvSpPr/>
            <p:nvPr/>
          </p:nvSpPr>
          <p:spPr>
            <a:xfrm>
              <a:off x="2831040" y="0"/>
              <a:ext cx="347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Lucida Console"/>
                </a:rPr>
                <a:t>LGRC Networ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6"/>
            <p:cNvSpPr/>
            <p:nvPr/>
          </p:nvSpPr>
          <p:spPr>
            <a:xfrm>
              <a:off x="2133720" y="1447920"/>
              <a:ext cx="1644480" cy="6858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N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7"/>
            <p:cNvSpPr/>
            <p:nvPr/>
          </p:nvSpPr>
          <p:spPr>
            <a:xfrm>
              <a:off x="2362320" y="5791320"/>
              <a:ext cx="1644480" cy="6858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n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39"/>
            <p:cNvGrpSpPr/>
            <p:nvPr/>
          </p:nvGrpSpPr>
          <p:grpSpPr>
            <a:xfrm>
              <a:off x="5791320" y="1752480"/>
              <a:ext cx="1218960" cy="1140120"/>
              <a:chOff x="5791320" y="1752480"/>
              <a:chExt cx="1218960" cy="1140120"/>
            </a:xfrm>
          </p:grpSpPr>
          <p:sp>
            <p:nvSpPr>
              <p:cNvPr id="301" name="Rectangle 40"/>
              <p:cNvSpPr/>
              <p:nvPr/>
            </p:nvSpPr>
            <p:spPr>
              <a:xfrm>
                <a:off x="5791320" y="1752480"/>
                <a:ext cx="1218960" cy="11401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Reg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41"/>
              <p:cNvSpPr/>
              <p:nvPr/>
            </p:nvSpPr>
            <p:spPr>
              <a:xfrm>
                <a:off x="6006600" y="2173320"/>
                <a:ext cx="788040" cy="66024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LGR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Line 42"/>
            <p:cNvSpPr/>
            <p:nvPr/>
          </p:nvSpPr>
          <p:spPr>
            <a:xfrm>
              <a:off x="5029200" y="4191120"/>
              <a:ext cx="25909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14"/>
            <p:cNvGrpSpPr/>
            <p:nvPr/>
          </p:nvGrpSpPr>
          <p:grpSpPr>
            <a:xfrm>
              <a:off x="6934320" y="2133720"/>
              <a:ext cx="1143000" cy="1139760"/>
              <a:chOff x="6934320" y="2133720"/>
              <a:chExt cx="1143000" cy="1139760"/>
            </a:xfrm>
          </p:grpSpPr>
          <p:sp>
            <p:nvSpPr>
              <p:cNvPr id="305" name="Rectangle 15"/>
              <p:cNvSpPr/>
              <p:nvPr/>
            </p:nvSpPr>
            <p:spPr>
              <a:xfrm>
                <a:off x="6934320" y="2133720"/>
                <a:ext cx="1143000" cy="11397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LGU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16"/>
              <p:cNvSpPr/>
              <p:nvPr/>
            </p:nvSpPr>
            <p:spPr>
              <a:xfrm>
                <a:off x="7134840" y="2553120"/>
                <a:ext cx="739080" cy="65844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LGR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Text Box 45"/>
            <p:cNvSpPr/>
            <p:nvPr/>
          </p:nvSpPr>
          <p:spPr>
            <a:xfrm>
              <a:off x="533520" y="685800"/>
              <a:ext cx="3352680" cy="583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7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LTI-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6"/>
            <p:cNvSpPr/>
            <p:nvPr/>
          </p:nvSpPr>
          <p:spPr>
            <a:xfrm>
              <a:off x="5410080" y="685800"/>
              <a:ext cx="3429000" cy="628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7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LOT REGION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7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1, 2, 3, 4, 5, 6, 7, 1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47"/>
            <p:cNvGrpSpPr/>
            <p:nvPr/>
          </p:nvGrpSpPr>
          <p:grpSpPr>
            <a:xfrm>
              <a:off x="5791320" y="5257800"/>
              <a:ext cx="1294920" cy="1139760"/>
              <a:chOff x="5791320" y="5257800"/>
              <a:chExt cx="1294920" cy="1139760"/>
            </a:xfrm>
          </p:grpSpPr>
          <p:sp>
            <p:nvSpPr>
              <p:cNvPr id="310" name="Rectangle 48"/>
              <p:cNvSpPr/>
              <p:nvPr/>
            </p:nvSpPr>
            <p:spPr>
              <a:xfrm>
                <a:off x="5791320" y="5257800"/>
                <a:ext cx="1294920" cy="11397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Reg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49"/>
              <p:cNvSpPr/>
              <p:nvPr/>
            </p:nvSpPr>
            <p:spPr>
              <a:xfrm>
                <a:off x="6019920" y="5677200"/>
                <a:ext cx="837360" cy="65844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LGR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Rectangle 50"/>
            <p:cNvSpPr/>
            <p:nvPr/>
          </p:nvSpPr>
          <p:spPr>
            <a:xfrm>
              <a:off x="914400" y="5486400"/>
              <a:ext cx="1644480" cy="6858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N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53"/>
            <p:cNvSpPr/>
            <p:nvPr/>
          </p:nvSpPr>
          <p:spPr>
            <a:xfrm>
              <a:off x="3048120" y="2209680"/>
              <a:ext cx="7617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55"/>
            <p:cNvSpPr/>
            <p:nvPr/>
          </p:nvSpPr>
          <p:spPr>
            <a:xfrm>
              <a:off x="2057400" y="3276720"/>
              <a:ext cx="1523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57"/>
            <p:cNvSpPr/>
            <p:nvPr/>
          </p:nvSpPr>
          <p:spPr>
            <a:xfrm flipV="1">
              <a:off x="1981080" y="3733920"/>
              <a:ext cx="1524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8"/>
            <p:cNvSpPr/>
            <p:nvPr/>
          </p:nvSpPr>
          <p:spPr>
            <a:xfrm flipV="1">
              <a:off x="2286000" y="3962160"/>
              <a:ext cx="13716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0"/>
            <p:cNvSpPr/>
            <p:nvPr/>
          </p:nvSpPr>
          <p:spPr>
            <a:xfrm flipV="1">
              <a:off x="2514600" y="4267080"/>
              <a:ext cx="12952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V="1">
              <a:off x="3352680" y="4495320"/>
              <a:ext cx="60984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915320" cy="72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is the LGRC network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GRC network is a 'community of practice' collaborating to leverage and share knowledge for local governance capacity building and performance excell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 of the network include national government agencies (eg, DILG, LGA), local government, civil society, donor/international organizations, and LGR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twork is essentially self-regulating but coordinated mainly be NGL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1760" y="303840"/>
            <a:ext cx="7769160" cy="6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Roles in the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488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77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M spon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7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LG-LGA and LG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7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M stewardship, leadership,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7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GA management, 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7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re KM Team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GA KM team, RLG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7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M Network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7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GA KM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7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tners and collabo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7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RIs, other NGAs, civil society, donor orgs, other learning/research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8DF97-A2E4-45E0-8932-7FEE243B4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7280" y="344160"/>
            <a:ext cx="6170400" cy="13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ledge  Management: 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686480" y="1969920"/>
            <a:ext cx="427176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19240">
              <a:lnSpc>
                <a:spcPct val="93000"/>
              </a:lnSpc>
              <a:spcAft>
                <a:spcPts val="575"/>
              </a:spcAft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ystematic process for acquiring, synthesizing, creating, storing, retrieval, sharing and use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ata, information, insights and experienc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achieve organizational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19240">
              <a:lnSpc>
                <a:spcPct val="93000"/>
              </a:lnSpc>
              <a:spcAft>
                <a:spcPts val="575"/>
              </a:spcAft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ing people to find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formatio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y nee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19240">
              <a:lnSpc>
                <a:spcPct val="93000"/>
              </a:lnSpc>
              <a:spcAft>
                <a:spcPts val="575"/>
              </a:spcAft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ose who kn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o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o need to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/>
          <p:cNvSpPr/>
          <p:nvPr/>
        </p:nvSpPr>
        <p:spPr>
          <a:xfrm>
            <a:off x="152280" y="2036880"/>
            <a:ext cx="4191120" cy="4230720"/>
          </a:xfrm>
          <a:prstGeom prst="ellipse">
            <a:avLst/>
          </a:prstGeom>
          <a:solidFill>
            <a:srgbClr val="ff94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6"/>
          <p:cNvGrpSpPr/>
          <p:nvPr/>
        </p:nvGrpSpPr>
        <p:grpSpPr>
          <a:xfrm>
            <a:off x="457200" y="2077920"/>
            <a:ext cx="3619440" cy="4129560"/>
            <a:chOff x="457200" y="2077920"/>
            <a:chExt cx="3619440" cy="4129560"/>
          </a:xfrm>
        </p:grpSpPr>
        <p:sp>
          <p:nvSpPr>
            <p:cNvPr id="84" name="Oval 5"/>
            <p:cNvSpPr/>
            <p:nvPr/>
          </p:nvSpPr>
          <p:spPr>
            <a:xfrm>
              <a:off x="1347840" y="3224160"/>
              <a:ext cx="1798560" cy="1857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 flipV="1" rot="10800000">
              <a:off x="457200" y="4267080"/>
              <a:ext cx="3108240" cy="15508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 flipH="1">
              <a:off x="2502000" y="2438280"/>
              <a:ext cx="1574640" cy="29037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 flipH="1">
              <a:off x="543600" y="2077920"/>
              <a:ext cx="2343240" cy="2646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1039320" y="5766120"/>
              <a:ext cx="26222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valuate &amp; Man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0"/>
            <p:cNvSpPr/>
            <p:nvPr/>
          </p:nvSpPr>
          <p:spPr>
            <a:xfrm rot="19680000">
              <a:off x="608400" y="4495680"/>
              <a:ext cx="97776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re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1"/>
            <p:cNvSpPr/>
            <p:nvPr/>
          </p:nvSpPr>
          <p:spPr>
            <a:xfrm>
              <a:off x="1599840" y="2590560"/>
              <a:ext cx="8755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h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2"/>
            <p:cNvSpPr/>
            <p:nvPr/>
          </p:nvSpPr>
          <p:spPr>
            <a:xfrm>
              <a:off x="1447560" y="3949560"/>
              <a:ext cx="15858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3"/>
            <p:cNvSpPr/>
            <p:nvPr/>
          </p:nvSpPr>
          <p:spPr>
            <a:xfrm rot="1740000">
              <a:off x="2820240" y="4640400"/>
              <a:ext cx="9428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pp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9320" y="2133720"/>
            <a:ext cx="632448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3"/>
          <p:cNvSpPr/>
          <p:nvPr/>
        </p:nvSpPr>
        <p:spPr>
          <a:xfrm>
            <a:off x="0" y="1447920"/>
            <a:ext cx="9144000" cy="5105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"/>
          <p:cNvSpPr/>
          <p:nvPr/>
        </p:nvSpPr>
        <p:spPr>
          <a:xfrm>
            <a:off x="2057400" y="2209680"/>
            <a:ext cx="5562720" cy="4343400"/>
          </a:xfrm>
          <a:prstGeom prst="roundRect">
            <a:avLst>
              <a:gd name="adj" fmla="val 4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05120" y="227160"/>
            <a:ext cx="5486400" cy="12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instreaming KM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DILG 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3809880" y="3809880"/>
            <a:ext cx="182880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G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9"/>
          <p:cNvSpPr/>
          <p:nvPr/>
        </p:nvSpPr>
        <p:spPr>
          <a:xfrm>
            <a:off x="3276720" y="2438280"/>
            <a:ext cx="3276360" cy="1067040"/>
          </a:xfrm>
          <a:custGeom>
            <a:avLst/>
            <a:gdLst>
              <a:gd name="textAreaLeft" fmla="*/ 573120 w 3276360"/>
              <a:gd name="textAreaRight" fmla="*/ 2375280 w 327636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LG 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0"/>
          <p:cNvSpPr/>
          <p:nvPr/>
        </p:nvSpPr>
        <p:spPr>
          <a:xfrm rot="10800000">
            <a:off x="2971800" y="5410080"/>
            <a:ext cx="3276720" cy="1067040"/>
          </a:xfrm>
          <a:custGeom>
            <a:avLst/>
            <a:gdLst>
              <a:gd name="textAreaLeft" fmla="*/ 573480 w 3276720"/>
              <a:gd name="textAreaRight" fmla="*/ 2375640 w 327672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LG 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2135520" y="2362320"/>
            <a:ext cx="14929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LG 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2133720" y="3429000"/>
            <a:ext cx="838080" cy="182880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/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ci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5"/>
          <p:cNvSpPr/>
          <p:nvPr/>
        </p:nvSpPr>
        <p:spPr>
          <a:xfrm>
            <a:off x="6324480" y="3429000"/>
            <a:ext cx="1219320" cy="1828800"/>
          </a:xfrm>
          <a:prstGeom prst="cube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7"/>
          <p:cNvSpPr/>
          <p:nvPr/>
        </p:nvSpPr>
        <p:spPr>
          <a:xfrm flipV="1">
            <a:off x="5562720" y="2209680"/>
            <a:ext cx="220968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8"/>
          <p:cNvSpPr/>
          <p:nvPr/>
        </p:nvSpPr>
        <p:spPr>
          <a:xfrm flipH="1" flipV="1">
            <a:off x="1600200" y="2362320"/>
            <a:ext cx="236232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9"/>
          <p:cNvSpPr/>
          <p:nvPr/>
        </p:nvSpPr>
        <p:spPr>
          <a:xfrm flipH="1">
            <a:off x="1752120" y="4876920"/>
            <a:ext cx="21337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0"/>
          <p:cNvSpPr/>
          <p:nvPr/>
        </p:nvSpPr>
        <p:spPr>
          <a:xfrm>
            <a:off x="5562720" y="4724280"/>
            <a:ext cx="220968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0481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5715000" y="441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5"/>
          <p:cNvSpPr/>
          <p:nvPr/>
        </p:nvSpPr>
        <p:spPr>
          <a:xfrm>
            <a:off x="0" y="1828800"/>
            <a:ext cx="15397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6"/>
          <p:cNvSpPr/>
          <p:nvPr/>
        </p:nvSpPr>
        <p:spPr>
          <a:xfrm>
            <a:off x="4724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7"/>
          <p:cNvSpPr/>
          <p:nvPr/>
        </p:nvSpPr>
        <p:spPr>
          <a:xfrm>
            <a:off x="472428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8"/>
          <p:cNvSpPr/>
          <p:nvPr/>
        </p:nvSpPr>
        <p:spPr>
          <a:xfrm>
            <a:off x="457200" y="6095880"/>
            <a:ext cx="129528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9"/>
          <p:cNvSpPr/>
          <p:nvPr/>
        </p:nvSpPr>
        <p:spPr>
          <a:xfrm>
            <a:off x="7848720" y="6248520"/>
            <a:ext cx="129528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0"/>
          <p:cNvSpPr/>
          <p:nvPr/>
        </p:nvSpPr>
        <p:spPr>
          <a:xfrm>
            <a:off x="7848720" y="1828800"/>
            <a:ext cx="129528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7543800" cy="6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Communities that learn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289800" y="1967040"/>
            <a:ext cx="106164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4"/>
          <p:cNvGrpSpPr/>
          <p:nvPr/>
        </p:nvGrpSpPr>
        <p:grpSpPr>
          <a:xfrm>
            <a:off x="533520" y="1294920"/>
            <a:ext cx="7848360" cy="4877280"/>
            <a:chOff x="533520" y="1294920"/>
            <a:chExt cx="7848360" cy="4877280"/>
          </a:xfrm>
        </p:grpSpPr>
        <p:sp>
          <p:nvSpPr>
            <p:cNvPr id="348" name="Rectangle 6"/>
            <p:cNvSpPr/>
            <p:nvPr/>
          </p:nvSpPr>
          <p:spPr>
            <a:xfrm>
              <a:off x="2819520" y="2209680"/>
              <a:ext cx="4114800" cy="685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Knowledge Provi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LGU, NGA, Experts, Practitioner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7"/>
            <p:cNvSpPr/>
            <p:nvPr/>
          </p:nvSpPr>
          <p:spPr>
            <a:xfrm>
              <a:off x="2895480" y="5410440"/>
              <a:ext cx="4114800" cy="7617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Knowledge Users </a:t>
              </a:r>
              <a:br>
                <a:rPr sz="24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LGU, Citizens, NGOs, CSO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3048120" y="3276360"/>
              <a:ext cx="3657600" cy="1752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GRC and other brokers</a:t>
              </a:r>
              <a:br>
                <a:rPr sz="24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media, CSOs, donor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10"/>
            <p:cNvSpPr/>
            <p:nvPr/>
          </p:nvSpPr>
          <p:spPr>
            <a:xfrm>
              <a:off x="7010280" y="1295280"/>
              <a:ext cx="1218960" cy="2667240"/>
            </a:xfrm>
            <a:custGeom>
              <a:avLst/>
              <a:gdLst>
                <a:gd name="textAreaLeft" fmla="*/ 163080 w 1218960"/>
                <a:gd name="textAreaRight" fmla="*/ 1055880 w 1218960"/>
                <a:gd name="textAreaTop" fmla="*/ 466560 h 2667240"/>
                <a:gd name="textAreaBottom" fmla="*/ 1933920 h 266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e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11"/>
            <p:cNvSpPr/>
            <p:nvPr/>
          </p:nvSpPr>
          <p:spPr>
            <a:xfrm>
              <a:off x="7238880" y="4038480"/>
              <a:ext cx="1143000" cy="2133720"/>
            </a:xfrm>
            <a:custGeom>
              <a:avLst/>
              <a:gdLst>
                <a:gd name="textAreaLeft" fmla="*/ 153000 w 1143000"/>
                <a:gd name="textAreaRight" fmla="*/ 990000 w 1143000"/>
                <a:gd name="textAreaTop" fmla="*/ 373320 h 2133720"/>
                <a:gd name="textAreaBottom" fmla="*/ 154692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3"/>
            <p:cNvSpPr/>
            <p:nvPr/>
          </p:nvSpPr>
          <p:spPr>
            <a:xfrm rot="16200000">
              <a:off x="914040" y="4343040"/>
              <a:ext cx="2133720" cy="1218960"/>
            </a:xfrm>
            <a:custGeom>
              <a:avLst/>
              <a:gdLst>
                <a:gd name="textAreaLeft" fmla="*/ 373320 w 2133720"/>
                <a:gd name="textAreaRight" fmla="*/ 1546920 w 2133720"/>
                <a:gd name="textAreaTop" fmla="*/ 163080 h 1218960"/>
                <a:gd name="textAreaBottom" fmla="*/ 10558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4"/>
            <p:cNvSpPr/>
            <p:nvPr/>
          </p:nvSpPr>
          <p:spPr>
            <a:xfrm rot="16200000">
              <a:off x="647280" y="1942560"/>
              <a:ext cx="2514600" cy="121896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63080 h 1218960"/>
                <a:gd name="textAreaBottom" fmla="*/ 10558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al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5"/>
            <p:cNvSpPr/>
            <p:nvPr/>
          </p:nvSpPr>
          <p:spPr>
            <a:xfrm flipV="1">
              <a:off x="4876920" y="28954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6"/>
            <p:cNvSpPr/>
            <p:nvPr/>
          </p:nvSpPr>
          <p:spPr>
            <a:xfrm>
              <a:off x="4952880" y="5105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17"/>
            <p:cNvSpPr/>
            <p:nvPr/>
          </p:nvSpPr>
          <p:spPr>
            <a:xfrm>
              <a:off x="2514600" y="1295280"/>
              <a:ext cx="4419360" cy="838080"/>
            </a:xfrm>
            <a:prstGeom prst="leftRightArrow">
              <a:avLst>
                <a:gd name="adj1" fmla="val 50000"/>
                <a:gd name="adj2" fmla="val 10497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earn and Innov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8"/>
            <p:cNvSpPr/>
            <p:nvPr/>
          </p:nvSpPr>
          <p:spPr>
            <a:xfrm>
              <a:off x="533520" y="3352680"/>
              <a:ext cx="1447560" cy="1218960"/>
            </a:xfrm>
            <a:prstGeom prst="diamond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G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cell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1B522-2FBE-44B0-9BC0-5DCAB5D5A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3733920" y="2057400"/>
            <a:ext cx="4952880" cy="4114800"/>
          </a:xfrm>
          <a:prstGeom prst="roundRect">
            <a:avLst>
              <a:gd name="adj" fmla="val 37"/>
            </a:avLst>
          </a:prstGeom>
          <a:solidFill>
            <a:srgbClr val="0066cc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2488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ystems View of K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3"/>
          <p:cNvSpPr/>
          <p:nvPr/>
        </p:nvSpPr>
        <p:spPr>
          <a:xfrm>
            <a:off x="5029200" y="2286000"/>
            <a:ext cx="2286000" cy="2286000"/>
          </a:xfrm>
          <a:prstGeom prst="ellipse">
            <a:avLst/>
          </a:prstGeom>
          <a:noFill/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4267080" y="3352680"/>
            <a:ext cx="2286000" cy="2362320"/>
          </a:xfrm>
          <a:prstGeom prst="ellipse">
            <a:avLst/>
          </a:prstGeom>
          <a:noFill/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5867280" y="3352680"/>
            <a:ext cx="2286000" cy="2286000"/>
          </a:xfrm>
          <a:prstGeom prst="ellipse">
            <a:avLst/>
          </a:prstGeom>
          <a:noFill/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26880" y="2081160"/>
            <a:ext cx="32544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191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M as the intersection of interdependent organizational elements: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o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echnolo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ope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91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trate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guided through effectiv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adership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91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ystem w/ inter-related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hange in one element affects the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733920" y="2133720"/>
            <a:ext cx="152388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trategy/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adership/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g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0133C-4299-4775-80D7-AFCB4CB13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0" y="1752480"/>
            <a:ext cx="3198960" cy="51055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295280" y="1752480"/>
            <a:ext cx="2438640" cy="51055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27432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97280" y="-280800"/>
            <a:ext cx="6170400" cy="195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ledge  Management: Value and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27320" y="2057040"/>
            <a:ext cx="4889520" cy="537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d productivity (efficiency and effect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d rate of 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reased time to competency (individual and organizational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ter customer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2320" y="27781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6320" y="1905120"/>
            <a:ext cx="350496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many benefits to knowledge management; all of them improve organizational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0" y="405756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8268D-358D-47F0-BBBF-E0451E69A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10600"/>
            <a:ext cx="7959600" cy="17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ges of KM Adoption Toward the Knowledge-Centric Organization (* KC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371600" y="5715000"/>
            <a:ext cx="6858000" cy="762120"/>
          </a:xfrm>
          <a:prstGeom prst="roundRect">
            <a:avLst>
              <a:gd name="adj" fmla="val 2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d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1828800" y="5029200"/>
            <a:ext cx="5943600" cy="685800"/>
          </a:xfrm>
          <a:prstGeom prst="roundRect">
            <a:avLst>
              <a:gd name="adj" fmla="val 2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par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2286000" y="4343400"/>
            <a:ext cx="5029200" cy="685800"/>
          </a:xfrm>
          <a:prstGeom prst="roundRect">
            <a:avLst>
              <a:gd name="adj" fmla="val 2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lore, Experiment, &amp; Build KCO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2743200" y="3657600"/>
            <a:ext cx="4114800" cy="685800"/>
          </a:xfrm>
          <a:prstGeom prst="roundRect">
            <a:avLst>
              <a:gd name="adj" fmla="val 2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stain and Expand KCO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3200400" y="2743200"/>
            <a:ext cx="3429000" cy="914400"/>
          </a:xfrm>
          <a:prstGeom prst="roundRect">
            <a:avLst>
              <a:gd name="adj" fmla="val 2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itutionalize &amp;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742840"/>
            <a:ext cx="7162920" cy="34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Knowledge Management in Development and Local Govern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6520" y="2507040"/>
            <a:ext cx="6284880" cy="195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ledge in the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vernance Reform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153000" y="5730840"/>
            <a:ext cx="7920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B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0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8153280" cy="509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sie Remoreras</cp:lastModifiedBy>
  <dcterms:modified xsi:type="dcterms:W3CDTF">2008-02-13T02:44:03Z</dcterms:modified>
  <cp:revision>25</cp:revision>
  <dc:subject/>
  <dc:title>LGRC Organizational Strengthening Workshop April 3, 2006 Tagaytay City</dc:title>
</cp:coreProperties>
</file>