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0C2-35AF-49FE-AEE5-1DE0445A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F4A-351D-46C2-81F3-4D4C0E96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293-D12E-46C4-8727-D75BF29A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FC3-BDC1-42DF-A2DD-7F28B39F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F5E-660E-48C3-9787-9D0986BA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6B3F-86C3-4A45-A758-138B144E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D4E-EA29-4431-9F63-1FA4CE0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63A-C132-4EE4-BFB4-64B12C7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520-5CB0-46F1-8C69-7AC77DFE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FED-4208-4436-867A-2E1DB847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761-9734-4EC0-BBD1-81E1B81C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1DE-FB9A-4F8C-856C-6CBAAE0C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67EE-7435-42B2-8E31-EDE27A273A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antoloan.co.uk/car-loan.html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loantoloan.co.uk/applyform.php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1080" y="5084640"/>
            <a:ext cx="4321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Arial"/>
              </a:rPr>
              <a:t>Car Loans</a:t>
            </a:r>
            <a:endParaRPr b="0" lang="en-US" sz="4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250920" y="5786280"/>
            <a:ext cx="53928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ar Finance at best interes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C:\Users\node12\Documents\ca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447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:\projects\Loan to Loan\image\logo - Copy.jpg"/>
          <p:cNvPicPr/>
          <p:nvPr/>
        </p:nvPicPr>
        <p:blipFill>
          <a:blip r:embed="rId3"/>
          <a:stretch/>
        </p:blipFill>
        <p:spPr>
          <a:xfrm>
            <a:off x="0" y="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  <a:ea typeface="Calibri"/>
              </a:rPr>
              <a:t>Car Loans</a:t>
            </a:r>
            <a:endParaRPr b="0" lang="en-US" sz="6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w-rate loan is almost always a much better way of paying for a car than a hire purchase agreement. the lowest personal loan rates are often limited to loans of between £7,500 and £15,000. So if you were thinking about borrowing £6,000, it may be worth increasing the amount to £7,500 to take advantage of the cheapest interest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D:\projects\Loan to Loan\image\logo - Copy.jpg"/>
          <p:cNvPicPr/>
          <p:nvPr/>
        </p:nvPicPr>
        <p:blipFill>
          <a:blip r:embed="rId1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0726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The best way to finance buying a car?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ing a car is no simple decision. There’s a lot of money involved. From buying outright, to buying a car on finance, there are many options. In fact, it’s probably the second most expensive thing you’ll buy after a home. So it’s important to make sure you get the best deal on financing. We investigate the option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D:\projects\Loan to Loan\image\logo - Copy.jpg"/>
          <p:cNvPicPr/>
          <p:nvPr/>
        </p:nvPicPr>
        <p:blipFill>
          <a:blip r:embed="rId1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Fast approval for Car Loan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looking for a straight deal for your brand new car? We offer you an secure and hassle free options that will suit your any financial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node12\Documents\Cars-lined-up-on-the-fore-008.jpg"/>
          <p:cNvPicPr/>
          <p:nvPr/>
        </p:nvPicPr>
        <p:blipFill>
          <a:blip r:embed="rId1"/>
          <a:stretch/>
        </p:blipFill>
        <p:spPr>
          <a:xfrm>
            <a:off x="1500120" y="1143000"/>
            <a:ext cx="621504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D:\projects\Loan to Loan\image\logo - Copy.jpg"/>
          <p:cNvPicPr/>
          <p:nvPr/>
        </p:nvPicPr>
        <p:blipFill>
          <a:blip r:embed="rId2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ad Credit Car Loan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86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Bad credit car lo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help you to get a new car. It’s common for the majority of people not to have the savings they need to buy their new vehicle outright. </a:t>
            </a:r>
            <a:r>
              <a:rPr b="0" lang="en-US" sz="3200" spc="-1" strike="noStrike">
                <a:solidFill>
                  <a:srgbClr val="08121f"/>
                </a:solidFill>
                <a:latin typeface="Arial"/>
              </a:rPr>
              <a:t>We offer the lowest car loan rates of interest on car financing lo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714240" y="150012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etting your dream car with bad credi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s not an issue anymore 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Users\node12\Documents\bigstock-Car-Finance-Uk-46835248.png"/>
          <p:cNvPicPr/>
          <p:nvPr/>
        </p:nvPicPr>
        <p:blipFill>
          <a:blip r:embed="rId2"/>
          <a:stretch/>
        </p:blipFill>
        <p:spPr>
          <a:xfrm>
            <a:off x="5429160" y="1357200"/>
            <a:ext cx="307188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D:\projects\Loan to Loan\image\logo - Copy.jpg"/>
          <p:cNvPicPr/>
          <p:nvPr/>
        </p:nvPicPr>
        <p:blipFill>
          <a:blip r:embed="rId3"/>
          <a:stretch/>
        </p:blipFill>
        <p:spPr>
          <a:xfrm>
            <a:off x="7000920" y="6572160"/>
            <a:ext cx="21430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Arial"/>
              </a:rPr>
              <a:t>Apply now for car loans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35744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loantoloan.co.uk/applyform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node12\Documents\whats-the-best-way-to-finance-buying-a-car.jpg"/>
          <p:cNvPicPr/>
          <p:nvPr/>
        </p:nvPicPr>
        <p:blipFill>
          <a:blip r:embed="rId2"/>
          <a:stretch/>
        </p:blipFill>
        <p:spPr>
          <a:xfrm>
            <a:off x="1214280" y="1214280"/>
            <a:ext cx="6643800" cy="28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D:\projects\Loan to Loan\image\logo - Copy.jpg"/>
          <p:cNvPicPr/>
          <p:nvPr/>
        </p:nvPicPr>
        <p:blipFill>
          <a:blip r:embed="rId3"/>
          <a:stretch/>
        </p:blipFill>
        <p:spPr>
          <a:xfrm>
            <a:off x="3143160" y="5286240"/>
            <a:ext cx="321480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00240" y="6143760"/>
          <a:ext cx="3500640" cy="436320"/>
        </p:xfrm>
        <a:graphic>
          <a:graphicData uri="http://schemas.openxmlformats.org/drawingml/2006/table">
            <a:tbl>
              <a:tblPr/>
              <a:tblGrid>
                <a:gridCol w="3500640"/>
              </a:tblGrid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loantoloan.co.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ode12</cp:lastModifiedBy>
  <dcterms:modified xsi:type="dcterms:W3CDTF">2014-02-03T11:54:30Z</dcterms:modified>
  <cp:revision>733</cp:revision>
  <dc:subject/>
  <dc:title>Diapositiva 1</dc:title>
</cp:coreProperties>
</file>