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3D2-6AEF-481F-8905-31B95840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C74-4FE1-4CA6-A6F5-1FE92EE5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918-5F1F-4953-A1AE-3C2B02AD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401-71BE-44C9-B522-A9CD9EE7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B48-1E26-48B5-AFE4-A1F256C5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11B-44F5-4065-82CF-D7C48566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1BA-524F-4F5C-87BF-C29CB5C1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D7E-B5AF-401B-8D95-EA9BE797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643-CEAC-4A74-82C1-CA2900C1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B2A-F4E9-4D05-BAF9-A622300C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E13-1BDB-4B23-B775-97DF2FE2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C7A-DCA4-4009-8D26-7B0E316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758F-71C5-4FC7-88E1-415706BCE9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antoloan.co.uk/car-loan.html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oantoloan.co.uk/applyform.php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1080" y="5084640"/>
            <a:ext cx="4321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ffffff"/>
                </a:solidFill>
                <a:latin typeface="Arial"/>
              </a:rPr>
              <a:t>Car Loans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250920" y="5786280"/>
            <a:ext cx="53928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ar Finance at best interes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:\Users\node12\Documents\ca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447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:\projects\Loan to Loan\image\logo - Copy.jpg"/>
          <p:cNvPicPr/>
          <p:nvPr/>
        </p:nvPicPr>
        <p:blipFill>
          <a:blip r:embed="rId3"/>
          <a:stretch/>
        </p:blipFill>
        <p:spPr>
          <a:xfrm>
            <a:off x="0" y="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Car Loans</a:t>
            </a:r>
            <a:endParaRPr b="0" lang="en-US" sz="6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w-rate loan is almost always a much better way of paying for a car than a hire purchase agreement. the lowest personal loan rates are often limited to loans of between £7,500 and £15,000. So if you were thinking about borrowing £6,000, it may be worth increasing the amount to £7,500 to take advantage of the cheapest interest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D:\projects\Loan to Loan\image\logo - Copy.jpg"/>
          <p:cNvPicPr/>
          <p:nvPr/>
        </p:nvPicPr>
        <p:blipFill>
          <a:blip r:embed="rId1"/>
          <a:stretch/>
        </p:blipFill>
        <p:spPr>
          <a:xfrm>
            <a:off x="7000920" y="657216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072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The best way to finance buying a car?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a car is no simple decision. There’s a lot of money involved. From buying outright, to buying a car on finance, there are many options. In fact, it’s probably the second most expensive thing you’ll buy after a home. So it’s important to make sure you get the best deal on financing. We investigate the option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D:\projects\Loan to Loan\image\logo - Copy.jpg"/>
          <p:cNvPicPr/>
          <p:nvPr/>
        </p:nvPicPr>
        <p:blipFill>
          <a:blip r:embed="rId1"/>
          <a:stretch/>
        </p:blipFill>
        <p:spPr>
          <a:xfrm>
            <a:off x="7000920" y="657216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Fast approval for Car Loan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you looking for a straight deal for your brand new car? We offer you an secure and hassle free options that will suit your any financial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node12\Documents\Cars-lined-up-on-the-fore-008.jpg"/>
          <p:cNvPicPr/>
          <p:nvPr/>
        </p:nvPicPr>
        <p:blipFill>
          <a:blip r:embed="rId1"/>
          <a:stretch/>
        </p:blipFill>
        <p:spPr>
          <a:xfrm>
            <a:off x="1500120" y="1143000"/>
            <a:ext cx="621504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D:\projects\Loan to Loan\image\logo - Copy.jpg"/>
          <p:cNvPicPr/>
          <p:nvPr/>
        </p:nvPicPr>
        <p:blipFill>
          <a:blip r:embed="rId2"/>
          <a:stretch/>
        </p:blipFill>
        <p:spPr>
          <a:xfrm>
            <a:off x="7000920" y="657216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ad Credit Car Loan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860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ad credit car lo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help you to get a new car. It’s common for the majority of people not to have the savings they need to buy their new vehicle outright. </a:t>
            </a:r>
            <a:r>
              <a:rPr b="0" lang="en-US" sz="3200" spc="-1" strike="noStrike">
                <a:solidFill>
                  <a:srgbClr val="08121f"/>
                </a:solidFill>
                <a:latin typeface="Arial"/>
              </a:rPr>
              <a:t>We offer the lowest car loan rates of interest on car financing lo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14240" y="150012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etting your dream car with bad credi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s not an issue anymore 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node12\Documents\bigstock-Car-Finance-Uk-46835248.png"/>
          <p:cNvPicPr/>
          <p:nvPr/>
        </p:nvPicPr>
        <p:blipFill>
          <a:blip r:embed="rId2"/>
          <a:stretch/>
        </p:blipFill>
        <p:spPr>
          <a:xfrm>
            <a:off x="5429160" y="1357200"/>
            <a:ext cx="307188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D:\projects\Loan to Loan\image\logo - Copy.jpg"/>
          <p:cNvPicPr/>
          <p:nvPr/>
        </p:nvPicPr>
        <p:blipFill>
          <a:blip r:embed="rId3"/>
          <a:stretch/>
        </p:blipFill>
        <p:spPr>
          <a:xfrm>
            <a:off x="7000920" y="657216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Arial"/>
              </a:rPr>
              <a:t>Apply now for car loans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35744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loantoloan.co.uk/applyform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node12\Documents\whats-the-best-way-to-finance-buying-a-car.jpg"/>
          <p:cNvPicPr/>
          <p:nvPr/>
        </p:nvPicPr>
        <p:blipFill>
          <a:blip r:embed="rId2"/>
          <a:stretch/>
        </p:blipFill>
        <p:spPr>
          <a:xfrm>
            <a:off x="1214280" y="1214280"/>
            <a:ext cx="6643800" cy="28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D:\projects\Loan to Loan\image\logo - Copy.jpg"/>
          <p:cNvPicPr/>
          <p:nvPr/>
        </p:nvPicPr>
        <p:blipFill>
          <a:blip r:embed="rId3"/>
          <a:stretch/>
        </p:blipFill>
        <p:spPr>
          <a:xfrm>
            <a:off x="3143160" y="5286240"/>
            <a:ext cx="321480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00240" y="6143760"/>
          <a:ext cx="3500640" cy="43632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ww.loantoloan.co.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ode12</cp:lastModifiedBy>
  <dcterms:modified xsi:type="dcterms:W3CDTF">2014-02-03T11:54:30Z</dcterms:modified>
  <cp:revision>733</cp:revision>
  <dc:subject/>
  <dc:title>Diapositiva 1</dc:title>
</cp:coreProperties>
</file>