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80A-CCD9-420E-A6F6-197C1F89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C84-9461-4A36-BEF6-E8BD3BC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6DF-F4FB-4F2D-BE72-DB9D782B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531-92B8-479C-8040-68D99D51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76A-40C0-4696-8F54-4A415D17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AD5-4C0B-4224-A039-B0253E7B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160-3A18-4B68-9B77-A2E42062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006-D7C5-4170-B94F-7B4EE14A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B28-E8E7-4A41-B4FE-F5F4319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7BF-5BF4-4F18-86E0-BF5C2B2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A9A-CEC1-48EA-A0E1-7E1C49C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30D-DD0E-45FB-BFC2-BE98898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85F4-AD24-44D0-A089-DBDA5945F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00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219320" y="1676520"/>
            <a:ext cx="4952880" cy="25905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3333cc"/>
                </a:solidFill>
                <a:latin typeface="Times New Roman"/>
                <a:cs typeface="MCS Hijaz S_U adorn."/>
              </a:rPr>
              <a:t>الحوالة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676520"/>
            <a:ext cx="4952880" cy="25905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3333cc"/>
                </a:solidFill>
                <a:latin typeface="Times New Roman"/>
                <a:cs typeface="MCS Hijaz S_U adorn."/>
              </a:rPr>
              <a:t>الحوالة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371600" y="1447920"/>
            <a:ext cx="57150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CS FREEDOM"/>
              </a:rPr>
              <a:t>إذا سلم المكفول إلى المكفول له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80880"/>
            <a:ext cx="4419720" cy="838440"/>
          </a:xfrm>
          <a:prstGeom prst="flowChartOffpageConnector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تى تبرأ ذمة الكفيل في كفالة النفس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733920"/>
            <a:ext cx="57150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CS FREEDOM"/>
              </a:rPr>
              <a:t>إذا مات المكفول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666880"/>
            <a:ext cx="4419720" cy="838440"/>
          </a:xfrm>
          <a:prstGeom prst="flowChartOffpageConnector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تى تسقط الكفالة بالنفس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715000"/>
            <a:ext cx="69339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إذا عجز المكفول عن سداد الد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إذا اشترط المكفول له مطالبة الكفيل والمكفول مع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800600"/>
            <a:ext cx="5257800" cy="838080"/>
          </a:xfrm>
          <a:prstGeom prst="flowChartOffpageConnector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تى يجوز للمكفول له مطالبة الكفيل بالدين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400800" y="1828800"/>
            <a:ext cx="2057400" cy="2531880"/>
          </a:xfrm>
          <a:prstGeom prst="rect">
            <a:avLst/>
          </a:prstGeom>
          <a:solidFill>
            <a:srgbClr val="ffffff"/>
          </a:solidFill>
          <a:ln w="76320">
            <a:solidFill>
              <a:srgbClr val="66ccff"/>
            </a:solidFill>
            <a:prstDash val="lgDash"/>
            <a:miter/>
          </a:ln>
          <a:effectLst>
            <a:outerShdw dist="125751" dir="135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hick Naskh"/>
              </a:rPr>
              <a:t>ما تعريف الحـــوالة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733920"/>
            <a:ext cx="510552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غة : الانتقال من حال إلى حا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19680"/>
            <a:ext cx="5105520" cy="1556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صطلاحاً : نقل الدين من ذمة إلى ذمة أخرى تبرأ بها الذمة الأولى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029200" y="304920"/>
            <a:ext cx="3352680" cy="137160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MCS TOPAZ HIGH"/>
              </a:rPr>
              <a:t>ما أدلة مشروع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MCS TOPAZ HIGH"/>
              </a:rPr>
              <a:t>الحوال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447920" cy="22885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سنــــة النبــ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409920"/>
            <a:ext cx="6248520" cy="1739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DecoType Naskh Variants"/>
              </a:rPr>
              <a:t>قال            :” مطل الغني ظلم وإذا أتبع أحدكم على مليء فليتبع 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971800"/>
            <a:ext cx="16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378400"/>
            <a:ext cx="1447920" cy="11912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إجما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057640"/>
            <a:ext cx="624852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cc"/>
                </a:solidFill>
                <a:latin typeface="Times New Roman"/>
                <a:cs typeface="DecoType Naskh Variants"/>
              </a:rPr>
              <a:t>اجمعت الأمة على جواز الره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DecoType Naskh Variants"/>
              </a:rPr>
              <a:t>  لما فيها من التيسير على النا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429000" y="533520"/>
            <a:ext cx="525780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حدد أركان الحوالة من خلال المثال التالي: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981080"/>
            <a:ext cx="8001000" cy="22269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Dot"/>
            <a:miter/>
          </a:ln>
          <a:effectLst>
            <a:outerShdw dist="153009" dir="13293983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يمتلك محمد رصيداً ماليا في مصرف اسـلامي قدره مائتي ألف درهم ، فاشترى  سيارة بقيمة مائة ألف درهم ، وفي عقد الشراء قام بتحويل شركة السيارات إلى البنك الإسلامي لاستلام قيمة السيار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114800"/>
            <a:ext cx="533376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ن الذي  يشترط رضاه في عقد الحوالة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195880"/>
            <a:ext cx="617220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Dot"/>
            <a:miter/>
          </a:ln>
          <a:effectLst>
            <a:outerShdw dist="153009" dir="13293983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 المحال  ــــ  المحال عليه ــــ المحيل   }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1538280"/>
            <a:ext cx="830556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ماا لحكم الشرعي لو أحال عبد الله دائنه لاستلام الحق الذي عليه من أخيه  وليس بينهما دين لاز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016080"/>
            <a:ext cx="830556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هل تصح الحوالة إذا كان الدين المحال أكثر من الدين المحال عل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052880"/>
            <a:ext cx="83055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متى تبرأ ذمة المحيل في عقد الحوالة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043600"/>
            <a:ext cx="830592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99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متى يرجع المحال إلى المحيل في مطالبة الحق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05520" y="304920"/>
            <a:ext cx="350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حكام في الحوالة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90920" y="304920"/>
            <a:ext cx="4114800" cy="18288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006600"/>
                </a:solidFill>
                <a:latin typeface="Times New Roman"/>
                <a:cs typeface="MCS Hijaz S_U adorn."/>
              </a:rPr>
              <a:t>الكفال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438280"/>
            <a:ext cx="2057400" cy="2775240"/>
          </a:xfrm>
          <a:prstGeom prst="rect">
            <a:avLst/>
          </a:prstGeom>
          <a:solidFill>
            <a:srgbClr val="ffffff"/>
          </a:solidFill>
          <a:ln w="76320">
            <a:solidFill>
              <a:srgbClr val="99cc00"/>
            </a:solidFill>
            <a:prstDash val="lgDash"/>
            <a:miter/>
          </a:ln>
          <a:effectLst>
            <a:outerShdw dist="125751" dir="135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MCS Diwany1 S_I normal."/>
              </a:rPr>
              <a:t>ما تعريف الكفــــالة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719520"/>
            <a:ext cx="510516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غة : الضمان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4896000"/>
            <a:ext cx="5105160" cy="1556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صطلاحاً : ضم ذمة الكفيل إلى ذمة المكفول في التزام الدين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029200" y="152280"/>
            <a:ext cx="3352680" cy="137160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MCS TOPAZ HIGH"/>
              </a:rPr>
              <a:t>ما أدلة مشروع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MCS TOPAZ HIGH"/>
              </a:rPr>
              <a:t>الكفال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3533760"/>
            <a:ext cx="1447920" cy="2288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سنــــة النبــ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124080"/>
            <a:ext cx="6629400" cy="295776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DecoType Naskh Variants"/>
              </a:rPr>
              <a:t>أن النبي             أُتي بجنازة رجل ليصلي عليه فقال            :” أعليه دين قالوا : نعم ديناران .قال:صلوا على صاحبكم . قال أبو قتادة الأنصاري هما علي يا رسول الله ، </a:t>
            </a:r>
            <a:r>
              <a:rPr b="0" lang="hi-IN" sz="2800" spc="-1" strike="noStrike">
                <a:solidFill>
                  <a:srgbClr val="ff0000"/>
                </a:solidFill>
                <a:latin typeface="Times New Roman"/>
                <a:cs typeface="DecoType Naskh Variants"/>
              </a:rPr>
              <a:t>فصلى عليه رسول الله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89548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5759280"/>
            <a:ext cx="144756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إجما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835600"/>
            <a:ext cx="662940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Times New Roman"/>
                <a:cs typeface="DecoType Naskh Variants"/>
              </a:rPr>
              <a:t>اجمعت الأمة على جواز الكفالة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DecoType Naskh Variant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1828800"/>
            <a:ext cx="1447920" cy="2288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cc"/>
                </a:solidFill>
                <a:latin typeface="Times New Roman"/>
              </a:rPr>
              <a:t>القــرآن الكريـــ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828800"/>
            <a:ext cx="662940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DecoType Naskh Variants"/>
              </a:rPr>
              <a:t>قال  تعالى :”ولمن جاء به حمل بعير وأنا به زعيم 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2971800"/>
            <a:ext cx="16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191120" y="304920"/>
            <a:ext cx="464796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3399ff"/>
            </a:solidFill>
            <a:miter/>
          </a:ln>
          <a:effectLst>
            <a:outerShdw dist="228946" dir="558929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cc"/>
                </a:solidFill>
                <a:latin typeface="Times New Roman"/>
              </a:rPr>
              <a:t>حدد أركان الكفالة في المثال الت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15328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DecoType Naskh Variants"/>
              </a:rPr>
              <a:t>  كفل أحمد صديقه خالد لدى المصرف الإسلامي في قرض مالي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730600"/>
            <a:ext cx="4647960" cy="1510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99ff"/>
            </a:solidFill>
            <a:prstDash val="lgDashDot"/>
            <a:miter/>
          </a:ln>
          <a:effectLst>
            <a:outerShdw dist="190440" dir="54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MCS QUDS  DECO"/>
              </a:rPr>
              <a:t>ما أنواع الكفال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224240"/>
            <a:ext cx="762012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99ff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الكفالة بالمال : التزام الكفيل بسداد دين المكفول كله أو بعض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138640"/>
            <a:ext cx="7620120" cy="1373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3399ff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الكفالة بالنفس : التزام الكفيل بإحضار المكفول إلى المكفول له في مكان معلوم ووقت معلو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715000" y="0"/>
            <a:ext cx="3429000" cy="182880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</a:rPr>
              <a:t>علل ما يلي 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057400"/>
            <a:ext cx="50292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66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يشترط في المكفول أن يعرفه الكفي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852640"/>
            <a:ext cx="563868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9966"/>
            </a:solidFill>
            <a:prstDash val="lgDash"/>
            <a:miter/>
          </a:ln>
          <a:effectLst>
            <a:outerShdw dist="52300" dir="4563564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أن الناس يتفاوتون بالمطالبة تسهيلاً وتشديداً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3691080"/>
            <a:ext cx="50292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66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لا تجوز الكفالة في حدود الل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419720"/>
            <a:ext cx="67053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9966"/>
            </a:solidFill>
            <a:prstDash val="lgDash"/>
            <a:miter/>
          </a:ln>
          <a:effectLst>
            <a:outerShdw dist="52300" dir="4563564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تعذر استيفائها من الكفيل إذا تعذر عليه إحضار المكفو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81480"/>
            <a:ext cx="769608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66"/>
            </a:solidFill>
            <a:prstDash val="lgDash"/>
            <a:miter/>
          </a:ln>
          <a:effectLst>
            <a:outerShdw dist="77353" dir="56247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لا يشترط العلم بما على المكفول من دين في كفالة النف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943600"/>
            <a:ext cx="701028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9966"/>
            </a:solidFill>
            <a:prstDash val="lgDash"/>
            <a:miter/>
          </a:ln>
          <a:effectLst>
            <a:outerShdw dist="52300" dir="4563564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أن الكفيل التزم بإحضار النفس فقط ولم يلتزم بسداد الد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8T05:08:34Z</dcterms:created>
  <dc:creator>هدى علي بن سالم</dc:creator>
  <dc:description/>
  <dc:language>en-US</dc:language>
  <cp:lastModifiedBy>Gitex99</cp:lastModifiedBy>
  <dcterms:modified xsi:type="dcterms:W3CDTF">2000-09-12T05:07:30Z</dcterms:modified>
  <cp:revision>6</cp:revision>
  <dc:subject/>
  <dc:title>لا يوجد عنوان للشريحة</dc:title>
</cp:coreProperties>
</file>