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3.jpeg" ContentType="image/jpeg"/>
  <Override PartName="/ppt/media/image11.png" ContentType="image/png"/>
  <Override PartName="/ppt/media/+I%20Will%20Survive%20SHORT-SHORT.wav" ContentType="audio/x-wav"/>
  <Override PartName="/ppt/media/image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ED5-B474-4CAB-A80B-AC205054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18F-3940-4608-8B8C-07275A7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845-2C84-46FF-9237-E69B122E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4CC-944A-4FF4-8A65-02A818B7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BEE-E305-40AD-8F2A-DC967CF8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B25-EC9C-4F1B-B167-21E7249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7C0-82F8-41D4-9EAB-D5F48B6F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71E-9427-4908-A684-E3BBC646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E95-4D51-4055-9D76-E302056C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337-95CF-4889-9C0E-F1309FF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6B3-A910-449F-B5EE-DCDE2E9F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55D-A52C-4B56-98A0-AA2C7711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C318-4293-4283-AB72-927FF2CB5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+I%20Will%20Survive%20SHORT-SHORT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720" y="611280"/>
            <a:ext cx="310392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will SURVIV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nd OUTLIVE them all,,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800" y="1971720"/>
            <a:ext cx="241020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K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zal ze allem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EVEN.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85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22200"/>
            <a:ext cx="2874960" cy="7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46000" y="3808440"/>
            <a:ext cx="1957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NIET KLIK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NICHT KL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  <p:sndAc>
      <p:stSnd>
        <p:snd r:embed="rId3" name="+I%20Will%20Survive%20SHORT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-603360"/>
            <a:ext cx="6840360" cy="770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0" y="5950080"/>
            <a:ext cx="2390760" cy="274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-1179360"/>
            <a:ext cx="9540720" cy="849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32000" y="3789360"/>
            <a:ext cx="6912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000"/>
                </a:solidFill>
                <a:latin typeface="Arial"/>
              </a:rPr>
              <a:t>Ingang afdeling Alzheimer patië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0800000">
            <a:off x="1331640" y="4797000"/>
            <a:ext cx="2390760" cy="27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753240" y="4797360"/>
            <a:ext cx="2390760" cy="274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84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68421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341360"/>
            <a:ext cx="20509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 meer 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ar ben ik e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O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.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chien is het alleen maar  een fase van tijdelijke a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0560" y="1751040"/>
            <a:ext cx="685800" cy="59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1008400">
            <a:off x="5219640" y="942480"/>
            <a:ext cx="895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-243000"/>
            <a:ext cx="6842160" cy="748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84760" y="0"/>
            <a:ext cx="340416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k ging naar de do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anwege vocht op de k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j z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e moet beter r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ij het plassen..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49120" y="1096920"/>
            <a:ext cx="900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Monotype Corsiva"/>
              </a:rPr>
              <a:t>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887560" y="1015920"/>
            <a:ext cx="304920" cy="60012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ff0000"/>
            </a:outerShdw>
          </a:effectLst>
        </p:spPr>
      </p:pic>
    </p:spTree>
  </p:cSld>
  <p:transition spd="slow" advTm="21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7" presetSubtype="8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7" presetSubtype="8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0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48000" y="1362240"/>
            <a:ext cx="1152720" cy="609480"/>
          </a:xfrm>
          <a:prstGeom prst="cloudCallout">
            <a:avLst>
              <a:gd name="adj1" fmla="val -60467"/>
              <a:gd name="adj2" fmla="val 16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97800" cy="724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21239400">
            <a:off x="1500120" y="214200"/>
            <a:ext cx="1709640" cy="90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 verg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gen w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protest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10600">
            <a:off x="6246720" y="2565000"/>
            <a:ext cx="1710000" cy="90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 is 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ker wel B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et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19640" y="2908440"/>
            <a:ext cx="1223640" cy="952200"/>
          </a:xfrm>
          <a:prstGeom prst="cloudCallout">
            <a:avLst>
              <a:gd name="adj1" fmla="val -81518"/>
              <a:gd name="adj2" fmla="val -8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44800"/>
            <a:ext cx="934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F.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03280" y="0"/>
            <a:ext cx="655344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41080" y="5413320"/>
            <a:ext cx="1477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k brei v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5400000">
            <a:off x="4286880" y="4271040"/>
            <a:ext cx="2390760" cy="274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3:39:50Z</dcterms:created>
  <dc:creator>ENDERT - Holland</dc:creator>
  <dc:description/>
  <dc:language>en-US</dc:language>
  <cp:lastModifiedBy>ENDERT - Holland</cp:lastModifiedBy>
  <dcterms:modified xsi:type="dcterms:W3CDTF">2009-02-09T06:12:14Z</dcterms:modified>
  <cp:revision>4</cp:revision>
  <dc:subject/>
  <dc:title>I SURVIVE</dc:title>
</cp:coreProperties>
</file>