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3.jpeg" ContentType="image/jpeg"/>
  <Override PartName="/ppt/media/image11.png" ContentType="image/png"/>
  <Override PartName="/ppt/media/+I%20Will%20Survive%20SHORT-SHORT.wav" ContentType="audio/x-wav"/>
  <Override PartName="/ppt/media/image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5B2-3B95-4E3C-A175-0B34E91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E78-34F9-4699-BBC1-F9E6FFBC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795-0367-4745-8694-5C2552D5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A61-B8A4-45D8-87D9-E7CD14CC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AEA-FED7-4D12-97C6-DD3E314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4BE-F363-4E46-8CFA-FB0366E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02A-D8D4-4701-9388-CCD62B96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CCB-D8F9-486D-BC72-83F278A5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9D4-0975-4170-9530-E3DC1131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3AF-9778-46C0-BB7C-69F999C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63A-0FA1-4C98-93F1-417AD8D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9F2-63CA-4ED5-9676-0B5E441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406B-76CA-4C28-85B8-9096F012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+I%20Will%20Survive%20SHORT-SHORT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20" y="611280"/>
            <a:ext cx="310392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will SURVIV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nd OUTLIVE them all,,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800" y="1971720"/>
            <a:ext cx="24102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zal ze allem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EVEN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85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22200"/>
            <a:ext cx="2874960" cy="7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46000" y="3808440"/>
            <a:ext cx="1957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NIET KLIK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ICHT 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  <p:sndAc>
      <p:stSnd>
        <p:snd r:embed="rId3" name="+I%20Will%20Survive%20SHORT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-603360"/>
            <a:ext cx="6840360" cy="770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5950080"/>
            <a:ext cx="2390760" cy="274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1179360"/>
            <a:ext cx="9540720" cy="849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32000" y="3789360"/>
            <a:ext cx="6912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000"/>
                </a:solidFill>
                <a:latin typeface="Arial"/>
              </a:rPr>
              <a:t>Ingang afdeling Alzheimer patië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0800000">
            <a:off x="1331640" y="4797000"/>
            <a:ext cx="2390760" cy="27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53240" y="4797360"/>
            <a:ext cx="2390760" cy="274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8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341360"/>
            <a:ext cx="20509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 meer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r ben ik e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chien is het alleen maar  een fase van tijdelijke a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1751040"/>
            <a:ext cx="685800" cy="59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1008400">
            <a:off x="5219640" y="942480"/>
            <a:ext cx="895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-243000"/>
            <a:ext cx="6842160" cy="748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84760" y="0"/>
            <a:ext cx="340416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k ging naar de do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anwege vocht op de k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j z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moet beter r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ij het plassen..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9120" y="1096920"/>
            <a:ext cx="9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Monotype Corsiva"/>
              </a:rPr>
              <a:t>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87560" y="1015920"/>
            <a:ext cx="304920" cy="6001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ff0000"/>
            </a:outerShdw>
          </a:effectLst>
        </p:spPr>
      </p:pic>
    </p:spTree>
  </p:cSld>
  <p:transition spd="slow" advTm="21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7" presetSubtype="8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0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48000" y="1362240"/>
            <a:ext cx="1152720" cy="609480"/>
          </a:xfrm>
          <a:prstGeom prst="cloudCallout">
            <a:avLst>
              <a:gd name="adj1" fmla="val -60467"/>
              <a:gd name="adj2" fmla="val 16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7800" cy="724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1239400">
            <a:off x="1500120" y="214200"/>
            <a:ext cx="1709640" cy="90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gen w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protes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10600">
            <a:off x="6246720" y="2565000"/>
            <a:ext cx="1710000" cy="90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 is 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ker wel B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et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19640" y="2908440"/>
            <a:ext cx="1223640" cy="952200"/>
          </a:xfrm>
          <a:prstGeom prst="cloudCallout">
            <a:avLst>
              <a:gd name="adj1" fmla="val -81518"/>
              <a:gd name="adj2" fmla="val -8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4800"/>
            <a:ext cx="934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F.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0"/>
            <a:ext cx="655344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1080" y="5413320"/>
            <a:ext cx="1477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k brei v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5400000">
            <a:off x="4286880" y="4271040"/>
            <a:ext cx="2390760" cy="274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3:39:50Z</dcterms:created>
  <dc:creator>ENDERT - Holland</dc:creator>
  <dc:description/>
  <dc:language>en-US</dc:language>
  <cp:lastModifiedBy>ENDERT - Holland</cp:lastModifiedBy>
  <dcterms:modified xsi:type="dcterms:W3CDTF">2009-02-09T06:12:14Z</dcterms:modified>
  <cp:revision>4</cp:revision>
  <dc:subject/>
  <dc:title>I SURVIVE</dc:title>
</cp:coreProperties>
</file>