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F42-3A8A-4FAC-BFCC-C2205D30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13FA-198F-4CE4-822C-BE76768B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285-3B40-4114-8BC2-B5043E18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59D-54F1-48D6-B6CC-4D11D9CF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DAEC-F58E-4CE6-8649-DBCC8A60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7247-5241-4DD3-A5E3-72CF54BC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BF01-D19B-4935-A8C7-23E086BD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E647-8915-4CC4-A5B3-EBD0F274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FEBD-80E2-44AC-8A46-BAF51434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1D5C-F226-4F75-89E1-C3960197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5A3C-FBB8-43BA-B3D5-1E192CF4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FED2-2F24-4F2A-A246-5F9F44E8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DC7B-E297-4845-A6C8-1F3FF0CE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D4BC-C309-4832-9615-73B6ACC0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BB53-AAA1-441A-AA06-5AE64706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16AB-8F86-4F21-A1F5-6D7A4EB0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17C5-36DF-4FC5-AA21-216A9D99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378-F1C1-4D40-8607-59EF5EB0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6A9-3680-4530-9C74-A2FEAF3F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458-FD02-4081-9FF5-485CC2A8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3DB-1D98-43FB-A54D-F889E62A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2D4-46C1-47BA-8600-7F680CDB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64C-A4FA-4908-9BEF-577FE338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FDF-FD8F-41DC-901C-D45FC6F8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5ED8-0844-40B9-9CED-E9834E92A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A482-2D43-4448-8DB6-F1F0FA52B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badi MT Condensed Extra Bold"/>
              </a:rPr>
              <a:t>The Nervous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11760" y="3836520"/>
            <a:ext cx="411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3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s and coordinates functions throughout the body and responds to internal and external stimu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u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napse: cell tal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rve Impul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impulses-electrical sig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types of neu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nsory neur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rry impulses from the sense organs to the spinal cord 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or neur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rry impulses from the brain and spinal cord to the muscles and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neur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nnect sensory and motor neu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27440" y="-36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Parts of the Neuron: </a:t>
            </a: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cell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496880"/>
            <a:ext cx="387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much of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c activity takes plac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084560" y="1316160"/>
            <a:ext cx="505944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25720" y="-36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Parts of the Neuron: </a:t>
            </a: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Dentr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360" y="1530360"/>
            <a:ext cx="2922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y impulses from the environment or from other neurons towards the cell bo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41880" y="1488960"/>
            <a:ext cx="490212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9260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Parts of the Neuron: </a:t>
            </a: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ax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fiber that carries impulses away from the cell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s in a series of swellings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xon term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27440" y="2373480"/>
            <a:ext cx="36529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04920" y="-35280"/>
            <a:ext cx="549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Parts of the Neuron: </a:t>
            </a: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ax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46240" y="2089080"/>
            <a:ext cx="427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insulated by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yelin sh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s gapes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re the axon is ex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e jumps from node to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120680"/>
            <a:ext cx="46245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of the Neur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ndles of fibers made up of clusters of axons and dentr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344760" y="2427120"/>
            <a:ext cx="4559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4:55:26Z</dcterms:created>
  <dc:creator>Geetesh Bajaj</dc:creator>
  <dc:description/>
  <dc:language>en-US</dc:language>
  <cp:lastModifiedBy>Stephanie Vallis</cp:lastModifiedBy>
  <dcterms:modified xsi:type="dcterms:W3CDTF">2010-03-10T16:08:18Z</dcterms:modified>
  <cp:revision>14</cp:revision>
  <dc:subject/>
  <dc:title>Slide 1</dc:title>
</cp:coreProperties>
</file>