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25B-57DA-4E8C-829C-D3975255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2D1-A5A8-49FA-ADB5-F3E5FC08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832-DC77-417C-B5A6-C84508DC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449-4155-415F-B045-9A90BFB3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2162-3772-4953-A9C3-44D78402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E439-2563-4661-B2FC-DD9B63BF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A24B-592D-4A76-89BA-2BE83AB2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6F22-4879-43BA-B9B2-8AEF867A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376D-DC27-4F76-8D67-F2A3D0E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19A1-733A-407D-833F-142CC0EC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34B0-5D0E-4EA0-8F80-4963A46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F9A-13EF-4305-88EA-D5A29BFB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2491-FC0F-40FF-9F08-C03606C3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DD1E-E350-4ED1-96D9-7778CE5E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B5D8-3CE3-445D-B170-8CD74EAA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D957-98F2-49CF-9644-814A4751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DD3B-E58D-41A9-B5AE-F0EB9CC6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377-BC60-4737-B1B8-7574E15F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5A2-3B1E-4BAF-AD89-82A7D2F5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E87-99E0-4CD2-BF00-53AACF70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118-239C-45CA-B98B-45A97B3C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909-9CA2-4306-9EFC-4F0E0120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DD4-8155-4355-ADAE-CDCF228D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856-9BA2-4466-9F09-708CD61F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A8B-3BA8-4FFA-9648-5DF97607F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36E-347F-42EE-8F5B-587C633EB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badi MT Condensed Extra Bold"/>
              </a:rPr>
              <a:t>The Nervous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11760" y="38365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s and coordinates functions throughout the body and responds to internal and external stimu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napse: cell tal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rve Impu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impulses-electrical sig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types of neu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nsory neur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ry impulses from the sense organs to the spinal cord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or neur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ry impulses from the brain and spinal cord to the muscles and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neur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nnect sensory and motor neu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27440" y="-3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Parts of the Neuron: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cell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49688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uch of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activity takes plac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084560" y="1316160"/>
            <a:ext cx="505944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25720" y="-3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Parts of the Neuron: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Dentr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360" y="1530360"/>
            <a:ext cx="2922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y impulses from the environment or from other neurons towards the cell b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41880" y="1488960"/>
            <a:ext cx="490212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926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Parts of the Neuron: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ax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fiber that carries impulses away from the cell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s in a series of swelling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on term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27440" y="2373480"/>
            <a:ext cx="36529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04920" y="-35280"/>
            <a:ext cx="549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Parts of the Neuron: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ax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6240" y="2089080"/>
            <a:ext cx="427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insulated b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elin sh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s gapes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the axon is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jumps from node to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120680"/>
            <a:ext cx="46245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the Neur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dles of fibers made up of clusters of axons and dentr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344760" y="2427120"/>
            <a:ext cx="455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4:55:26Z</dcterms:created>
  <dc:creator>Geetesh Bajaj</dc:creator>
  <dc:description/>
  <dc:language>en-US</dc:language>
  <cp:lastModifiedBy>Stephanie Vallis</cp:lastModifiedBy>
  <dcterms:modified xsi:type="dcterms:W3CDTF">2010-03-10T16:08:18Z</dcterms:modified>
  <cp:revision>14</cp:revision>
  <dc:subject/>
  <dc:title>Slide 1</dc:title>
</cp:coreProperties>
</file>