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2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6.gif" ContentType="image/gif"/>
  <Override PartName="/ppt/media/image10.png" ContentType="image/png"/>
  <Override PartName="/ppt/media/image5.png" ContentType="image/png"/>
  <Override PartName="/ppt/media/image25.gif" ContentType="image/gif"/>
  <Override PartName="/ppt/media/image4.png" ContentType="image/png"/>
  <Override PartName="/ppt/media/image27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4.png" ContentType="image/png"/>
  <Override PartName="/ppt/media/image1.png" ContentType="image/png"/>
  <Override PartName="/ppt/media/image24.png" ContentType="image/png"/>
  <Override PartName="/ppt/media/image22.gif" ContentType="image/gif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89B6-0D67-4DE9-8500-2E674690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CB93-158E-463D-BEAE-5CB59F76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7D56-7B54-43A6-8AEE-F5A9BF3D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09EA-A8A1-4D95-9291-C7B65BBB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EF5C-9DEC-4BBA-B44C-F0DBF79B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5721-93E7-407A-96C2-1F9BE6F0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EA09-5782-4239-B963-659D3740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A968-B7B1-498E-BE4C-53DC6D0F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C16B-30B4-4433-ABD8-097DCD52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D031-87C8-4DDD-B2BA-9BD0E092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4FA9-3DC2-4AB6-AAFA-DF1218D1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E98E-3FF3-450F-A465-39999FDE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EBD3-DCF1-4351-B106-6048680D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E8F0-3956-4DD9-86EE-DEEBD383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8FB5-BB61-4457-97A5-5D1F343A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9D31-F926-48DF-82C6-A22FC5BD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6775-ADF4-44DD-BCA8-A0C8C855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7FFE5-04F5-48CF-8D41-B8E0677DAA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1E3C3D-28E9-4FD1-9B99-6F55FD6E27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F66FA-E571-4DF6-A71B-CE124398CA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C6754-0569-4E56-96E8-33BCFA9FBF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31C981-8EB5-4F64-953B-03654F0D60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ED1F2-EE72-47AA-8A17-EE1BA129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63D97-4725-4C87-AB11-0C2D3AC101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481BD7-B04B-464D-8F2C-4C70325871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D86522-AAAF-4B03-BB17-F2E6C9DA54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73E19-CF24-485D-A335-219F90F847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070768-A675-4713-87C9-AB12E3825A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4CAE96-9AB9-4EF1-8DA7-E1BBCE7060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FDF27-1991-4ED8-9331-DFF43475C9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8BDCFE-CF00-47DE-986A-E7CCF8B7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18669-C5E3-4357-A8C7-22AE8A25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7F2679-DB4B-4CD7-A0F1-1D8170FB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A4C5-63B2-4D93-AE0D-BCE9CBC2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6A515-5566-41E1-8249-D16841EE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841599-E825-400D-B278-B4B9A049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6C06E-487C-4CA2-98DE-3BB6891C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C95A6E-2BC6-43E3-AD25-8FBB6903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6F83B-E4BF-4A5F-AD3A-4EF71E21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31C8C-8CD2-41FB-8459-7DD745D9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013A8-BA28-4FED-BB63-25AF93AC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378B99-211E-4A26-827E-1AF49306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B87F9-BE9C-4D6D-9DAC-FF83BDB6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A21277-5571-402B-BC5B-DE065671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7558-55E7-47D7-AAAF-CC19D781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A3D537-FA58-4C72-BF7A-CD4D466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B14E83-B0B9-428D-ACE0-976FEB8D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90A6D9-E723-4B9C-8D53-8D87D430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857C04-5587-4AF7-AE6A-9F305F78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62EBBC-6C5A-4168-ADD1-B3E03DBF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63D78E-1884-43B2-B172-B8AC36E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B83589-30C8-4F38-8E60-B3B56ED9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5AFB85-78EF-45E7-92E2-52505422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05DBE-6DF9-4CC0-ACA3-1E125264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076107-8FB6-4694-ACF6-06112228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5077D-E9CF-4AB4-87D5-BE354044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8042AB-2997-4EE4-976D-9F35D625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15DD-6874-44F0-9A57-C186FAA7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DFE2-CD89-4F31-8EAC-2E4F7930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154E4-4CC3-4E03-8943-1E93D7C9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63360" y="63360"/>
            <a:ext cx="9037800" cy="160524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1c7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" name="Picture 18" descr="olympic_bk0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13381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Line 4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5" name="Group 6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6" name="Freeform 7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7" name="AutoShape 8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0" name="Freeform 11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1218960"/>
            <a:ext cx="80773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c98a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c98a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714640" y="6521040"/>
            <a:ext cx="2971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pt-dongha-quangtri.edu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533160" y="6521400"/>
            <a:ext cx="6094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FD2A-EDFB-4EBB-8241-8A509C1E5C9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" name="Picture 17" descr="access_LOGO"/>
          <p:cNvPicPr/>
          <p:nvPr/>
        </p:nvPicPr>
        <p:blipFill>
          <a:blip r:embed="rId3"/>
          <a:stretch/>
        </p:blipFill>
        <p:spPr>
          <a:xfrm>
            <a:off x="380880" y="1522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reeform 2"/>
          <p:cNvSpPr/>
          <p:nvPr/>
        </p:nvSpPr>
        <p:spPr>
          <a:xfrm>
            <a:off x="0" y="1130400"/>
            <a:ext cx="1981080" cy="2690640"/>
          </a:xfrm>
          <a:custGeom>
            <a:avLst/>
            <a:gdLst/>
            <a:ahLst/>
            <a:rect l="l" t="t" r="r" b="b"/>
            <a:pathLst>
              <a:path w="1248" h="1695">
                <a:moveTo>
                  <a:pt x="796" y="1692"/>
                </a:moveTo>
                <a:lnTo>
                  <a:pt x="0" y="1695"/>
                </a:lnTo>
                <a:lnTo>
                  <a:pt x="0" y="2"/>
                </a:lnTo>
                <a:lnTo>
                  <a:pt x="1248" y="0"/>
                </a:lnTo>
                <a:cubicBezTo>
                  <a:pt x="1094" y="126"/>
                  <a:pt x="951" y="550"/>
                  <a:pt x="925" y="647"/>
                </a:cubicBezTo>
                <a:cubicBezTo>
                  <a:pt x="850" y="929"/>
                  <a:pt x="783" y="1333"/>
                  <a:pt x="796" y="1692"/>
                </a:cubicBezTo>
                <a:close/>
              </a:path>
            </a:pathLst>
          </a:custGeom>
          <a:gradFill rotWithShape="0">
            <a:gsLst>
              <a:gs pos="0">
                <a:srgbClr val="ffc65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c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463320"/>
            <a:ext cx="7086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6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6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579096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4571640" y="6476760"/>
            <a:ext cx="609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B5D5-41D5-4395-9731-F47FCD21B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0" y="0"/>
            <a:ext cx="2133720" cy="2286000"/>
          </a:xfrm>
          <a:custGeom>
            <a:avLst/>
            <a:gdLst/>
            <a:ahLst/>
            <a:rect l="l" t="t" r="r" b="b"/>
            <a:pathLst>
              <a:path w="1344" h="1489">
                <a:moveTo>
                  <a:pt x="0" y="0"/>
                </a:moveTo>
                <a:lnTo>
                  <a:pt x="0" y="1488"/>
                </a:lnTo>
                <a:lnTo>
                  <a:pt x="673" y="1489"/>
                </a:lnTo>
                <a:cubicBezTo>
                  <a:pt x="731" y="945"/>
                  <a:pt x="1081" y="285"/>
                  <a:pt x="134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64" name="Picture 14" descr="access_LOGO"/>
          <p:cNvPicPr/>
          <p:nvPr/>
        </p:nvPicPr>
        <p:blipFill>
          <a:blip r:embed="rId2"/>
          <a:stretch/>
        </p:blipFill>
        <p:spPr>
          <a:xfrm>
            <a:off x="304920" y="1522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6d4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0" y="228600"/>
            <a:ext cx="9144000" cy="608040"/>
            <a:chOff x="0" y="228600"/>
            <a:chExt cx="9144000" cy="608040"/>
          </a:xfrm>
        </p:grpSpPr>
        <p:sp>
          <p:nvSpPr>
            <p:cNvPr id="104" name="Rectangle 4"/>
            <p:cNvSpPr/>
            <p:nvPr/>
          </p:nvSpPr>
          <p:spPr>
            <a:xfrm>
              <a:off x="0" y="763560"/>
              <a:ext cx="9144000" cy="73080"/>
            </a:xfrm>
            <a:prstGeom prst="rect">
              <a:avLst/>
            </a:prstGeom>
            <a:solidFill>
              <a:srgbClr val="1c3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0" y="228600"/>
              <a:ext cx="7543800" cy="573120"/>
            </a:xfrm>
            <a:prstGeom prst="rect">
              <a:avLst/>
            </a:prstGeom>
            <a:solidFill>
              <a:srgbClr val="1c3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06" name="Rectangle 6"/>
          <p:cNvSpPr/>
          <p:nvPr/>
        </p:nvSpPr>
        <p:spPr>
          <a:xfrm>
            <a:off x="7527960" y="847800"/>
            <a:ext cx="1616040" cy="112680"/>
          </a:xfrm>
          <a:prstGeom prst="rect">
            <a:avLst/>
          </a:prstGeom>
          <a:solidFill>
            <a:srgbClr val="438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468360" y="6553080"/>
            <a:ext cx="8351640" cy="180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7"/>
          </p:nvPr>
        </p:nvSpPr>
        <p:spPr>
          <a:xfrm>
            <a:off x="4343400" y="655272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05F0-FCD7-455E-B962-892688606C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access_LOGO"/>
          <p:cNvPicPr/>
          <p:nvPr/>
        </p:nvPicPr>
        <p:blipFill>
          <a:blip r:embed="rId3"/>
          <a:stretch/>
        </p:blipFill>
        <p:spPr>
          <a:xfrm>
            <a:off x="800100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25560" y="-996840"/>
            <a:ext cx="9105840" cy="7842240"/>
            <a:chOff x="25560" y="-996840"/>
            <a:chExt cx="9105840" cy="7842240"/>
          </a:xfrm>
        </p:grpSpPr>
        <p:pic>
          <p:nvPicPr>
            <p:cNvPr id="149" name="Picture 3" descr="back_b"/>
            <p:cNvPicPr/>
            <p:nvPr/>
          </p:nvPicPr>
          <p:blipFill>
            <a:blip r:embed="rId2"/>
            <a:stretch/>
          </p:blipFill>
          <p:spPr>
            <a:xfrm>
              <a:off x="38160" y="620640"/>
              <a:ext cx="9093240" cy="622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Freeform 4"/>
            <p:cNvSpPr/>
            <p:nvPr/>
          </p:nvSpPr>
          <p:spPr>
            <a:xfrm>
              <a:off x="25560" y="-996840"/>
              <a:ext cx="9067680" cy="4248000"/>
            </a:xfrm>
            <a:custGeom>
              <a:avLst/>
              <a:gdLst/>
              <a:ahLst/>
              <a:rect l="l" t="t" r="r" b="b"/>
              <a:pathLst>
                <a:path w="5738" h="2692">
                  <a:moveTo>
                    <a:pt x="0" y="1607"/>
                  </a:moveTo>
                  <a:cubicBezTo>
                    <a:pt x="4478" y="0"/>
                    <a:pt x="5523" y="2457"/>
                    <a:pt x="5548" y="2692"/>
                  </a:cubicBezTo>
                  <a:lnTo>
                    <a:pt x="5736" y="2580"/>
                  </a:lnTo>
                  <a:lnTo>
                    <a:pt x="5738" y="641"/>
                  </a:lnTo>
                  <a:lnTo>
                    <a:pt x="22" y="641"/>
                  </a:lnTo>
                  <a:cubicBezTo>
                    <a:pt x="22" y="641"/>
                    <a:pt x="12" y="1613"/>
                    <a:pt x="12" y="1613"/>
                  </a:cubicBezTo>
                </a:path>
              </a:pathLst>
            </a:custGeom>
            <a:solidFill>
              <a:srgbClr val="1c7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51" name="Group 5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sp>
          <p:nvSpPr>
            <p:cNvPr id="152" name="Freeform 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153" name="Group 7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154" name="Freeform 8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55" name="AutoShape 9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57" name="Freeform 11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</p:grpSp>
      <p:pic>
        <p:nvPicPr>
          <p:cNvPr id="158" name="Picture 18" descr="access_LOGO"/>
          <p:cNvPicPr/>
          <p:nvPr/>
        </p:nvPicPr>
        <p:blipFill>
          <a:blip r:embed="rId3"/>
          <a:stretch/>
        </p:blipFill>
        <p:spPr>
          <a:xfrm>
            <a:off x="7696080" y="304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09120" y="1218960"/>
            <a:ext cx="80773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c98a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c98a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A26D-C508-4594-BCC8-7DA727B05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2"/>
          <p:cNvSpPr/>
          <p:nvPr/>
        </p:nvSpPr>
        <p:spPr>
          <a:xfrm>
            <a:off x="0" y="2867040"/>
            <a:ext cx="2414520" cy="3990960"/>
          </a:xfrm>
          <a:custGeom>
            <a:avLst/>
            <a:gdLst/>
            <a:ahLst/>
            <a:rect l="l" t="t" r="r" b="b"/>
            <a:pathLst>
              <a:path w="1521" h="2514">
                <a:moveTo>
                  <a:pt x="1191" y="2504"/>
                </a:moveTo>
                <a:lnTo>
                  <a:pt x="0" y="2514"/>
                </a:lnTo>
                <a:lnTo>
                  <a:pt x="0" y="2"/>
                </a:lnTo>
                <a:lnTo>
                  <a:pt x="1521" y="0"/>
                </a:lnTo>
                <a:cubicBezTo>
                  <a:pt x="1333" y="187"/>
                  <a:pt x="1249" y="297"/>
                  <a:pt x="1061" y="679"/>
                </a:cubicBezTo>
                <a:cubicBezTo>
                  <a:pt x="873" y="1061"/>
                  <a:pt x="900" y="1494"/>
                  <a:pt x="919" y="1721"/>
                </a:cubicBezTo>
                <a:cubicBezTo>
                  <a:pt x="938" y="1948"/>
                  <a:pt x="1061" y="2258"/>
                  <a:pt x="1191" y="2504"/>
                </a:cubicBez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362320" y="0"/>
            <a:ext cx="6781680" cy="2286000"/>
          </a:xfrm>
          <a:prstGeom prst="rect">
            <a:avLst/>
          </a:prstGeom>
          <a:solidFill>
            <a:srgbClr val="ffc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1987560" y="1949400"/>
            <a:ext cx="7156440" cy="936720"/>
            <a:chOff x="1987560" y="1949400"/>
            <a:chExt cx="7156440" cy="936720"/>
          </a:xfrm>
        </p:grpSpPr>
        <p:sp>
          <p:nvSpPr>
            <p:cNvPr id="204" name="Rectangle 6"/>
            <p:cNvSpPr/>
            <p:nvPr/>
          </p:nvSpPr>
          <p:spPr>
            <a:xfrm>
              <a:off x="1987560" y="1949400"/>
              <a:ext cx="3016080" cy="9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2590920" y="2120760"/>
              <a:ext cx="6553080" cy="76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4760" y="463320"/>
            <a:ext cx="7086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6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65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533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B44A-3813-457E-8EB3-C66D3BD55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0" y="2003400"/>
            <a:ext cx="9144000" cy="3154320"/>
            <a:chOff x="0" y="2003400"/>
            <a:chExt cx="9144000" cy="3154320"/>
          </a:xfrm>
        </p:grpSpPr>
        <p:sp>
          <p:nvSpPr>
            <p:cNvPr id="249" name="Rectangle 4"/>
            <p:cNvSpPr/>
            <p:nvPr/>
          </p:nvSpPr>
          <p:spPr>
            <a:xfrm>
              <a:off x="3184560" y="2003400"/>
              <a:ext cx="5959440" cy="3154320"/>
            </a:xfrm>
            <a:prstGeom prst="rect">
              <a:avLst/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aphicFrame>
          <p:nvGraphicFramePr>
            <p:cNvPr id="250" name="Object 5"/>
            <p:cNvGraphicFramePr/>
            <p:nvPr/>
          </p:nvGraphicFramePr>
          <p:xfrm>
            <a:off x="0" y="2003400"/>
            <a:ext cx="3193920" cy="315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003400"/>
                      <a:ext cx="3193920" cy="31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2" name="Rectangle 6"/>
          <p:cNvSpPr/>
          <p:nvPr/>
        </p:nvSpPr>
        <p:spPr>
          <a:xfrm>
            <a:off x="0" y="5194440"/>
            <a:ext cx="9144000" cy="16635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3" name="Picture 10" descr="access_LOGO"/>
          <p:cNvPicPr/>
          <p:nvPr/>
        </p:nvPicPr>
        <p:blipFill>
          <a:blip r:embed="rId5"/>
          <a:stretch/>
        </p:blipFill>
        <p:spPr>
          <a:xfrm>
            <a:off x="838080" y="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5"/>
          <p:cNvSpPr/>
          <p:nvPr/>
        </p:nvSpPr>
        <p:spPr>
          <a:xfrm>
            <a:off x="76320" y="4648320"/>
            <a:ext cx="9067680" cy="0"/>
          </a:xfrm>
          <a:prstGeom prst="line">
            <a:avLst/>
          </a:prstGeom>
          <a:ln w="38160">
            <a:solidFill>
              <a:srgbClr val="78b5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93" name="Picture 6" descr="04030258"/>
          <p:cNvPicPr/>
          <p:nvPr/>
        </p:nvPicPr>
        <p:blipFill>
          <a:blip r:embed="rId1"/>
          <a:stretch/>
        </p:blipFill>
        <p:spPr>
          <a:xfrm>
            <a:off x="76320" y="5200560"/>
            <a:ext cx="1828800" cy="165744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1447920" y="2286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ƯỜNG THPT QUỐC HỌC QUY NHƠ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Ổ TOÁN- TI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) MỞ TỆP ĐỂ ĐỌC DỮ LIỆU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5"/>
          <p:cNvSpPr/>
          <p:nvPr/>
        </p:nvSpPr>
        <p:spPr>
          <a:xfrm>
            <a:off x="4876920" y="3276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533520" y="1447920"/>
            <a:ext cx="272736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438f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(&lt;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152280" y="914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 Mở tệp để đọc dữ liệu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152280" y="21337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 Đọc dữ liệu từ tệp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457200" y="2679840"/>
            <a:ext cx="4724280" cy="816120"/>
          </a:xfrm>
          <a:prstGeom prst="rect">
            <a:avLst/>
          </a:prstGeom>
          <a:solidFill>
            <a:srgbClr val="ffffff"/>
          </a:solidFill>
          <a:ln w="28440">
            <a:solidFill>
              <a:srgbClr val="438f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&lt;Biến tệp&gt;, &lt;Danh sách biến&gt;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adl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&lt;Biến tệp&gt;, &lt;Danh sách biến&gt;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408" name="Object 28"/>
          <p:cNvGraphicFramePr/>
          <p:nvPr/>
        </p:nvGraphicFramePr>
        <p:xfrm>
          <a:off x="5181480" y="1295280"/>
          <a:ext cx="3765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9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295280"/>
                    <a:ext cx="376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29"/>
          <p:cNvGrpSpPr/>
          <p:nvPr/>
        </p:nvGrpSpPr>
        <p:grpSpPr>
          <a:xfrm>
            <a:off x="5334120" y="2214720"/>
            <a:ext cx="2701080" cy="2283120"/>
            <a:chOff x="5334120" y="2214720"/>
            <a:chExt cx="2701080" cy="2283120"/>
          </a:xfrm>
        </p:grpSpPr>
        <p:sp>
          <p:nvSpPr>
            <p:cNvPr id="411" name="Rectangle 30"/>
            <p:cNvSpPr/>
            <p:nvPr/>
          </p:nvSpPr>
          <p:spPr>
            <a:xfrm>
              <a:off x="5410080" y="2214720"/>
              <a:ext cx="228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gram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vd2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ar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    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tep2: TEXT; 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    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,b,c : integer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2" name="Rectangle 31"/>
            <p:cNvSpPr/>
            <p:nvPr/>
          </p:nvSpPr>
          <p:spPr>
            <a:xfrm>
              <a:off x="5334120" y="34495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GIN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3" name="Rectangle 32"/>
            <p:cNvSpPr/>
            <p:nvPr/>
          </p:nvSpPr>
          <p:spPr>
            <a:xfrm>
              <a:off x="5554800" y="3814560"/>
              <a:ext cx="248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SSIGN(</a:t>
              </a: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tep2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, ‘D:\vidu.txt’)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4" name="Rectangle 33"/>
            <p:cNvSpPr/>
            <p:nvPr/>
          </p:nvSpPr>
          <p:spPr>
            <a:xfrm>
              <a:off x="5561640" y="4190760"/>
              <a:ext cx="136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RESET (</a:t>
              </a: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tep2)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415" name="Group 37"/>
          <p:cNvGrpSpPr/>
          <p:nvPr/>
        </p:nvGrpSpPr>
        <p:grpSpPr>
          <a:xfrm>
            <a:off x="5562720" y="4653000"/>
            <a:ext cx="2005560" cy="604800"/>
            <a:chOff x="5562720" y="4653000"/>
            <a:chExt cx="2005560" cy="604800"/>
          </a:xfrm>
        </p:grpSpPr>
        <p:sp>
          <p:nvSpPr>
            <p:cNvPr id="416" name="Rectangle 38"/>
            <p:cNvSpPr/>
            <p:nvPr/>
          </p:nvSpPr>
          <p:spPr>
            <a:xfrm>
              <a:off x="5596920" y="4653000"/>
              <a:ext cx="19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READLN (</a:t>
              </a: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tep2,a,b,c)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7" name="Rectangle 39"/>
            <p:cNvSpPr/>
            <p:nvPr/>
          </p:nvSpPr>
          <p:spPr>
            <a:xfrm>
              <a:off x="5562720" y="495324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pic>
        <p:nvPicPr>
          <p:cNvPr id="418" name="Picture 46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5715000" cy="90504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47"/>
          <p:cNvSpPr/>
          <p:nvPr/>
        </p:nvSpPr>
        <p:spPr>
          <a:xfrm>
            <a:off x="3886200" y="3886200"/>
            <a:ext cx="1143000" cy="762120"/>
          </a:xfrm>
          <a:prstGeom prst="leftArrow">
            <a:avLst>
              <a:gd name="adj1" fmla="val 50000"/>
              <a:gd name="adj2" fmla="val 37494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0" name="Text Box 48"/>
          <p:cNvSpPr/>
          <p:nvPr/>
        </p:nvSpPr>
        <p:spPr>
          <a:xfrm>
            <a:off x="609480" y="3886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1" name="AutoShape 50"/>
          <p:cNvSpPr/>
          <p:nvPr/>
        </p:nvSpPr>
        <p:spPr>
          <a:xfrm>
            <a:off x="1143000" y="4038480"/>
            <a:ext cx="838080" cy="152640"/>
          </a:xfrm>
          <a:prstGeom prst="leftArrow">
            <a:avLst>
              <a:gd name="adj1" fmla="val 50000"/>
              <a:gd name="adj2" fmla="val 137264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2057400" y="3962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3" name="Text Box 52"/>
          <p:cNvSpPr/>
          <p:nvPr/>
        </p:nvSpPr>
        <p:spPr>
          <a:xfrm>
            <a:off x="60948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4" name="AutoShape 53"/>
          <p:cNvSpPr/>
          <p:nvPr/>
        </p:nvSpPr>
        <p:spPr>
          <a:xfrm>
            <a:off x="1143000" y="464832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5" name="Text Box 54"/>
          <p:cNvSpPr/>
          <p:nvPr/>
        </p:nvSpPr>
        <p:spPr>
          <a:xfrm>
            <a:off x="609480" y="5105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6" name="AutoShape 55"/>
          <p:cNvSpPr/>
          <p:nvPr/>
        </p:nvSpPr>
        <p:spPr>
          <a:xfrm>
            <a:off x="1143000" y="527220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7" name="Text Box 56"/>
          <p:cNvSpPr/>
          <p:nvPr/>
        </p:nvSpPr>
        <p:spPr>
          <a:xfrm>
            <a:off x="2057400" y="4556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8" name="Text Box 57"/>
          <p:cNvSpPr/>
          <p:nvPr/>
        </p:nvSpPr>
        <p:spPr>
          <a:xfrm>
            <a:off x="2057400" y="5165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44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8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9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) ĐÓNG TỆP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8"/>
          <p:cNvSpPr/>
          <p:nvPr/>
        </p:nvSpPr>
        <p:spPr>
          <a:xfrm>
            <a:off x="152280" y="1190520"/>
            <a:ext cx="396252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(&lt; 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433" name="Object 29"/>
          <p:cNvGraphicFramePr/>
          <p:nvPr/>
        </p:nvGraphicFramePr>
        <p:xfrm>
          <a:off x="4419720" y="990720"/>
          <a:ext cx="4495680" cy="563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4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990720"/>
                    <a:ext cx="44956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Group 30"/>
          <p:cNvGrpSpPr/>
          <p:nvPr/>
        </p:nvGrpSpPr>
        <p:grpSpPr>
          <a:xfrm>
            <a:off x="4846680" y="1828800"/>
            <a:ext cx="4220640" cy="4187880"/>
            <a:chOff x="4846680" y="1828800"/>
            <a:chExt cx="4220640" cy="4187880"/>
          </a:xfrm>
        </p:grpSpPr>
        <p:sp>
          <p:nvSpPr>
            <p:cNvPr id="436" name="Rectangle 31"/>
            <p:cNvSpPr/>
            <p:nvPr/>
          </p:nvSpPr>
          <p:spPr>
            <a:xfrm>
              <a:off x="4846680" y="2743200"/>
              <a:ext cx="15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GI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37" name="Rectangle 32"/>
            <p:cNvSpPr/>
            <p:nvPr/>
          </p:nvSpPr>
          <p:spPr>
            <a:xfrm>
              <a:off x="4846680" y="3124080"/>
              <a:ext cx="325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SSIGN(tep2, ‘D:\vidu.doc’)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38" name="Rectangle 33"/>
            <p:cNvSpPr/>
            <p:nvPr/>
          </p:nvSpPr>
          <p:spPr>
            <a:xfrm>
              <a:off x="4846680" y="4191120"/>
              <a:ext cx="36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6812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EADLN(tep2, a,b,c)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39" name="Rectangle 34"/>
            <p:cNvSpPr/>
            <p:nvPr/>
          </p:nvSpPr>
          <p:spPr>
            <a:xfrm>
              <a:off x="5055480" y="4672080"/>
              <a:ext cx="33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.VnBook-Antiqua"/>
                </a:rPr>
                <a:t>WRITE (‘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a so la’ ,a,’ ’ ,b,’ ’,c</a:t>
              </a:r>
              <a:r>
                <a:rPr b="1" lang="en-US" sz="1800" spc="-1" strike="noStrike">
                  <a:solidFill>
                    <a:srgbClr val="ffff00"/>
                  </a:solidFill>
                  <a:latin typeface=".VnBook-Antiqua"/>
                </a:rPr>
                <a:t>)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40" name="Rectangle 35"/>
            <p:cNvSpPr/>
            <p:nvPr/>
          </p:nvSpPr>
          <p:spPr>
            <a:xfrm>
              <a:off x="4995360" y="564840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D.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41" name="Rectangle 36"/>
            <p:cNvSpPr/>
            <p:nvPr/>
          </p:nvSpPr>
          <p:spPr>
            <a:xfrm>
              <a:off x="4846680" y="1828800"/>
              <a:ext cx="4220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vd2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ar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tep2: TEXT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,b,c: integer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42" name="Text Box 37"/>
            <p:cNvSpPr/>
            <p:nvPr/>
          </p:nvSpPr>
          <p:spPr>
            <a:xfrm>
              <a:off x="5030280" y="3657600"/>
              <a:ext cx="25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ESET (tep2</a:t>
              </a:r>
              <a:r>
                <a:rPr b="1" i="1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43" name="Rectangle 46"/>
          <p:cNvSpPr/>
          <p:nvPr/>
        </p:nvSpPr>
        <p:spPr>
          <a:xfrm>
            <a:off x="4671720" y="525780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ose(tep2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25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0102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- CÁC HÀM CHUẨ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6" name="Picture 43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5"/>
          <p:cNvSpPr/>
          <p:nvPr/>
        </p:nvSpPr>
        <p:spPr>
          <a:xfrm>
            <a:off x="228600" y="1905120"/>
            <a:ext cx="3809880" cy="459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. Hàm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of </a:t>
            </a:r>
            <a:r>
              <a:rPr b="1" lang="en-US" sz="2400" spc="-1" strike="noStrike">
                <a:solidFill>
                  <a:srgbClr val="2704a6"/>
                </a:solidFill>
                <a:latin typeface="Arial"/>
              </a:rPr>
              <a:t>(&lt;biến tệp&gt;)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304920" y="3505320"/>
            <a:ext cx="3962160" cy="459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. Hàm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ol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704a6"/>
                </a:solidFill>
                <a:latin typeface="Arial"/>
              </a:rPr>
              <a:t>(&lt;biến tệp&gt;)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Text Box 47"/>
          <p:cNvSpPr/>
          <p:nvPr/>
        </p:nvSpPr>
        <p:spPr>
          <a:xfrm>
            <a:off x="152280" y="25909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ho biết con trỏ tệp đã ở vị trí cuối tệp hay chưa. Nếu trỏ tệp ở cuối tệp thì hàm EOF trả lại giá trị TRU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Text Box 48"/>
          <p:cNvSpPr/>
          <p:nvPr/>
        </p:nvSpPr>
        <p:spPr>
          <a:xfrm>
            <a:off x="228600" y="4495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ho biết con trỏ tệp đã ở vị trí cuối dòng hay chưa. Nếu trỏ tệp ở cuối dòng thì hàm EOLN trả lại giá trị TRU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306360" y="1143000"/>
            <a:ext cx="61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hú ý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Đối với tệp không xác định trước số lượng phần tử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52" name="Group 50"/>
          <p:cNvGrpSpPr/>
          <p:nvPr/>
        </p:nvGrpSpPr>
        <p:grpSpPr>
          <a:xfrm>
            <a:off x="4587840" y="3429000"/>
            <a:ext cx="4571640" cy="3428640"/>
            <a:chOff x="4587840" y="3429000"/>
            <a:chExt cx="4571640" cy="3428640"/>
          </a:xfrm>
        </p:grpSpPr>
        <p:pic>
          <p:nvPicPr>
            <p:cNvPr id="453" name="Picture 51" descr="felix"/>
            <p:cNvPicPr/>
            <p:nvPr/>
          </p:nvPicPr>
          <p:blipFill>
            <a:blip r:embed="rId2"/>
            <a:stretch/>
          </p:blipFill>
          <p:spPr>
            <a:xfrm>
              <a:off x="6607440" y="5938920"/>
              <a:ext cx="2552040" cy="8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52" descr="lollipop[1]"/>
            <p:cNvPicPr/>
            <p:nvPr/>
          </p:nvPicPr>
          <p:blipFill>
            <a:blip r:embed="rId3"/>
            <a:stretch/>
          </p:blipFill>
          <p:spPr>
            <a:xfrm>
              <a:off x="6708600" y="6666480"/>
              <a:ext cx="2425680" cy="1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Group 53"/>
            <p:cNvGrpSpPr/>
            <p:nvPr/>
          </p:nvGrpSpPr>
          <p:grpSpPr>
            <a:xfrm>
              <a:off x="4587840" y="3429000"/>
              <a:ext cx="3727800" cy="1934640"/>
              <a:chOff x="4587840" y="3429000"/>
              <a:chExt cx="3727800" cy="1934640"/>
            </a:xfrm>
          </p:grpSpPr>
          <p:sp>
            <p:nvSpPr>
              <p:cNvPr id="456" name="AutoShape 54"/>
              <p:cNvSpPr/>
              <p:nvPr/>
            </p:nvSpPr>
            <p:spPr>
              <a:xfrm>
                <a:off x="4587840" y="3429000"/>
                <a:ext cx="3727800" cy="1934640"/>
              </a:xfrm>
              <a:prstGeom prst="cloudCallout">
                <a:avLst>
                  <a:gd name="adj1" fmla="val 31101"/>
                  <a:gd name="adj2" fmla="val 76078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1c3a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57" name="Text Box 55"/>
              <p:cNvSpPr/>
              <p:nvPr/>
            </p:nvSpPr>
            <p:spPr>
              <a:xfrm>
                <a:off x="4853880" y="3815280"/>
                <a:ext cx="3283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Đối với tệp có xác định trước được số lượng phần tử trong tệp không?</a:t>
                </a: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1371600" y="2588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ŨNG CỐ KIẾN THỨC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3657600" y="990720"/>
            <a:ext cx="1828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án tên tệp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14400" y="2413080"/>
            <a:ext cx="25146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ở</a:t>
            </a:r>
            <a:r>
              <a:rPr b="1" lang="en-US" sz="2000" spc="-1" strike="noStrike">
                <a:solidFill>
                  <a:srgbClr val="000066"/>
                </a:solidFill>
                <a:latin typeface=".VnSouther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ệp</a:t>
            </a:r>
            <a:r>
              <a:rPr b="1" lang="en-US" sz="2000" spc="-1" strike="noStrike">
                <a:solidFill>
                  <a:srgbClr val="000066"/>
                </a:solidFill>
                <a:latin typeface=".VnSouther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để</a:t>
            </a:r>
            <a:r>
              <a:rPr b="1" lang="en-US" sz="2000" spc="-1" strike="noStrike">
                <a:solidFill>
                  <a:srgbClr val="000066"/>
                </a:solidFill>
                <a:latin typeface=".VnSouther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hi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5562720" y="2438280"/>
            <a:ext cx="25146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ở tệp để đọ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38080" y="3736800"/>
            <a:ext cx="2514600" cy="3988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hi dữ liệu ra tệp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562720" y="3736800"/>
            <a:ext cx="2666880" cy="3988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Đọc dữ liệu từ tệp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581280" y="5184720"/>
            <a:ext cx="1828800" cy="3988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Đóng tệp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65" name="Picture 9" descr="Floppy-12-june"/>
          <p:cNvPicPr/>
          <p:nvPr/>
        </p:nvPicPr>
        <p:blipFill>
          <a:blip r:embed="rId1"/>
          <a:stretch/>
        </p:blipFill>
        <p:spPr>
          <a:xfrm>
            <a:off x="3962520" y="27432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66" name="Line 10"/>
          <p:cNvSpPr/>
          <p:nvPr/>
        </p:nvSpPr>
        <p:spPr>
          <a:xfrm flipH="1">
            <a:off x="2361960" y="1600200"/>
            <a:ext cx="160020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7" name="Line 11"/>
          <p:cNvSpPr/>
          <p:nvPr/>
        </p:nvSpPr>
        <p:spPr>
          <a:xfrm>
            <a:off x="2057400" y="30481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8" name="Line 12"/>
          <p:cNvSpPr/>
          <p:nvPr/>
        </p:nvSpPr>
        <p:spPr>
          <a:xfrm>
            <a:off x="2362320" y="434340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9" name="Line 13"/>
          <p:cNvSpPr/>
          <p:nvPr/>
        </p:nvSpPr>
        <p:spPr>
          <a:xfrm>
            <a:off x="5029200" y="1600200"/>
            <a:ext cx="1752480" cy="685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0" name="Line 14"/>
          <p:cNvSpPr/>
          <p:nvPr/>
        </p:nvSpPr>
        <p:spPr>
          <a:xfrm>
            <a:off x="6858000" y="30481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1" name="Line 15"/>
          <p:cNvSpPr/>
          <p:nvPr/>
        </p:nvSpPr>
        <p:spPr>
          <a:xfrm flipH="1">
            <a:off x="5181120" y="4343400"/>
            <a:ext cx="160020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2590920" y="838080"/>
            <a:ext cx="3809880" cy="7621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ssign(&lt;biến tệp&gt;,&lt;tê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5105520" y="2286000"/>
            <a:ext cx="3047760" cy="76212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Reset(&lt;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457200" y="2286000"/>
            <a:ext cx="3200400" cy="7621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Rewite(&lt;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0" y="3657600"/>
            <a:ext cx="4267080" cy="685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rite/Writeln(&lt;biến tệp&gt;,&lt;DS kquả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6" name="Rectangle 20"/>
          <p:cNvSpPr/>
          <p:nvPr/>
        </p:nvSpPr>
        <p:spPr>
          <a:xfrm>
            <a:off x="4648320" y="3657600"/>
            <a:ext cx="4190760" cy="76212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Read/Readln(&lt;biến tệp&gt;,&lt;DS kquả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7" name="Rectangle 21"/>
          <p:cNvSpPr/>
          <p:nvPr/>
        </p:nvSpPr>
        <p:spPr>
          <a:xfrm>
            <a:off x="3048120" y="5105520"/>
            <a:ext cx="2666880" cy="685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lose(&lt;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8" name="Rectangle 22"/>
          <p:cNvSpPr/>
          <p:nvPr/>
        </p:nvSpPr>
        <p:spPr>
          <a:xfrm>
            <a:off x="2590920" y="838080"/>
            <a:ext cx="3809880" cy="76212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ssign(&lt;biến tệp&gt;,&lt;tê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9" name="Rectangle 23"/>
          <p:cNvSpPr/>
          <p:nvPr/>
        </p:nvSpPr>
        <p:spPr>
          <a:xfrm>
            <a:off x="2971800" y="5105520"/>
            <a:ext cx="2819520" cy="6858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Close(&lt;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ÀI TẬP CỦNG CỐ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04920" y="11430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Century Schoolbook"/>
              </a:rPr>
              <a:t>Bµi 1: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 ViÕt ch­¬ng tr×nh t¹o tÖp PASCAL.TXT n»m ë æ ®Üa D:\ sau ®ã më vµ ghi vµo tÖp mét x©u ký tù nhËp tõ bµn phÝm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228600" y="2514600"/>
            <a:ext cx="83059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Century Schoolbook"/>
              </a:rPr>
              <a:t>HDÉ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Khai b¸o biÕn tÖp f, biÕn x©u S chøa dßng ch÷ nhËp tõ bµn phÝm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NhËp x©u s tõ bµn phÝm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G¾n tªn cho biÕn f lµ ‘D:\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PASCAL.TXT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’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Më tÖp f ®Ó ghi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Ghi b»ng c¸ch Write(f,s)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§ãng tÖp f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8763120" y="624852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ÀI TẬP CŨNG CỐ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304920" y="1143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Century Schoolbook"/>
              </a:rPr>
              <a:t>Bµi 2: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 ViÕt ch­¬ng tr×nh ®äc c¸c sè trong tÖp songuyen.txt vµ viÕt kÕt qu¶ ra mµn h×nh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228600" y="1981080"/>
            <a:ext cx="8686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Century Schoolbook"/>
              </a:rPr>
              <a:t>HDÉ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Khai b¸o biÕn tÖp f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G¾n tªn cho biÕn f lµ ‘D:\songuyen.Txt’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Më tÖp f ®Ó ®äc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Trong khi ch­a kÕt thóc tÖp th× ®äc kÕt qu¶ vµo biÕn a b»ng c©u lÖnh Read(f,a)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Ghi a ra mµn h×nh   Write(a); Dõng ®Ó xem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§ãng tÖp f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52680" y="2742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hân thành cảm ơn!</a:t>
            </a:r>
            <a:endParaRPr b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124080" y="2285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§14-15: KI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ỂU DỮ LIỆU TỆP &amp; THAO TÁC VỚI TỆP</a:t>
            </a:r>
            <a:br>
              <a:rPr sz="36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2819520" y="1066680"/>
            <a:ext cx="2361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3a8e"/>
                </a:solidFill>
                <a:latin typeface="Arial Black"/>
              </a:rPr>
              <a:t>Tiết 35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0102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- VAI TRÒ CỦA DỮ LIỆU TỆ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4" descr="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1295280" y="17524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ữ liệu kiểu tệp được lưu trữ lâu dài ở bộ nhớ ngoài và không bị mất khi tắt nguồn điện.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295280" y="336852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ượng thông tin lưu trữ trên tệp chỉ phụ thuộc vào dung lượng đĩa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915400" y="58672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0102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- PHÂN LOẠI TỆP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1"/>
          <p:cNvSpPr/>
          <p:nvPr/>
        </p:nvSpPr>
        <p:spPr>
          <a:xfrm>
            <a:off x="914400" y="9907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Verdana"/>
              </a:rPr>
              <a:t>Phân loại theo cách tổ chức dữ liệu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04760" y="1752480"/>
            <a:ext cx="6476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3a8e"/>
                </a:solidFill>
                <a:latin typeface="Verdana"/>
              </a:rPr>
              <a:t>Tệp văn bản</a:t>
            </a:r>
            <a:endParaRPr b="1" lang="en-US" sz="2000" spc="-1" strike="noStrike">
              <a:solidFill>
                <a:srgbClr val="1c3a8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3a8e"/>
                </a:solidFill>
                <a:latin typeface="Verdana"/>
              </a:rPr>
              <a:t>Tệp có cấu trúc</a:t>
            </a:r>
            <a:endParaRPr b="1" lang="en-US" sz="20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1066680" y="32767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Verdana"/>
              </a:rPr>
              <a:t>Phân loại theo cách thức truy cập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1905120" y="3962520"/>
            <a:ext cx="6476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ệp truy cập tuần tự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ệp truy cập trực tiếp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 CÁC THAO TÁC VỚI TỆP VĂN BẢN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5"/>
          <p:cNvGrpSpPr/>
          <p:nvPr/>
        </p:nvGrpSpPr>
        <p:grpSpPr>
          <a:xfrm>
            <a:off x="533520" y="2895480"/>
            <a:ext cx="2209680" cy="762120"/>
            <a:chOff x="533520" y="2895480"/>
            <a:chExt cx="2209680" cy="762120"/>
          </a:xfrm>
        </p:grpSpPr>
        <p:sp>
          <p:nvSpPr>
            <p:cNvPr id="314" name="Rectangle 68"/>
            <p:cNvSpPr/>
            <p:nvPr/>
          </p:nvSpPr>
          <p:spPr>
            <a:xfrm>
              <a:off x="533520" y="2895480"/>
              <a:ext cx="2209680" cy="762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5" name="Rectangle 69"/>
            <p:cNvSpPr/>
            <p:nvPr/>
          </p:nvSpPr>
          <p:spPr>
            <a:xfrm>
              <a:off x="690120" y="3005280"/>
              <a:ext cx="2000160" cy="54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MỞ TỆP ĐỂ GHI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16" name="Group 8"/>
          <p:cNvGrpSpPr/>
          <p:nvPr/>
        </p:nvGrpSpPr>
        <p:grpSpPr>
          <a:xfrm>
            <a:off x="3352680" y="990720"/>
            <a:ext cx="2454480" cy="761760"/>
            <a:chOff x="3352680" y="990720"/>
            <a:chExt cx="2454480" cy="761760"/>
          </a:xfrm>
        </p:grpSpPr>
        <p:sp>
          <p:nvSpPr>
            <p:cNvPr id="317" name="Rectangle 68"/>
            <p:cNvSpPr/>
            <p:nvPr/>
          </p:nvSpPr>
          <p:spPr>
            <a:xfrm>
              <a:off x="3352680" y="990720"/>
              <a:ext cx="2454480" cy="761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8" name="Rectangle 69"/>
            <p:cNvSpPr/>
            <p:nvPr/>
          </p:nvSpPr>
          <p:spPr>
            <a:xfrm>
              <a:off x="3526560" y="1100520"/>
              <a:ext cx="2220480" cy="542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KHAI BÁO BIẾN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19" name="Group 11"/>
          <p:cNvGrpSpPr/>
          <p:nvPr/>
        </p:nvGrpSpPr>
        <p:grpSpPr>
          <a:xfrm>
            <a:off x="3352680" y="1905120"/>
            <a:ext cx="2454480" cy="761760"/>
            <a:chOff x="3352680" y="1905120"/>
            <a:chExt cx="2454480" cy="761760"/>
          </a:xfrm>
        </p:grpSpPr>
        <p:sp>
          <p:nvSpPr>
            <p:cNvPr id="320" name="Rectangle 68"/>
            <p:cNvSpPr/>
            <p:nvPr/>
          </p:nvSpPr>
          <p:spPr>
            <a:xfrm>
              <a:off x="3352680" y="1905120"/>
              <a:ext cx="2454480" cy="7617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1" name="Rectangle 69"/>
            <p:cNvSpPr/>
            <p:nvPr/>
          </p:nvSpPr>
          <p:spPr>
            <a:xfrm>
              <a:off x="3526560" y="2014920"/>
              <a:ext cx="2220480" cy="542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GẮN TÊN TỆP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22" name="Group 14"/>
          <p:cNvGrpSpPr/>
          <p:nvPr/>
        </p:nvGrpSpPr>
        <p:grpSpPr>
          <a:xfrm>
            <a:off x="457200" y="4343400"/>
            <a:ext cx="2911320" cy="762120"/>
            <a:chOff x="457200" y="4343400"/>
            <a:chExt cx="2911320" cy="762120"/>
          </a:xfrm>
        </p:grpSpPr>
        <p:sp>
          <p:nvSpPr>
            <p:cNvPr id="323" name="Rectangle 68"/>
            <p:cNvSpPr/>
            <p:nvPr/>
          </p:nvSpPr>
          <p:spPr>
            <a:xfrm>
              <a:off x="457200" y="4343400"/>
              <a:ext cx="2911320" cy="7621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4" name="Rectangle 69"/>
            <p:cNvSpPr/>
            <p:nvPr/>
          </p:nvSpPr>
          <p:spPr>
            <a:xfrm>
              <a:off x="664920" y="4453200"/>
              <a:ext cx="2634120" cy="54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GHI DỮ LIỆU RA TỆP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25" name="Group 17"/>
          <p:cNvGrpSpPr/>
          <p:nvPr/>
        </p:nvGrpSpPr>
        <p:grpSpPr>
          <a:xfrm>
            <a:off x="3505320" y="5486400"/>
            <a:ext cx="2209680" cy="762120"/>
            <a:chOff x="3505320" y="5486400"/>
            <a:chExt cx="2209680" cy="762120"/>
          </a:xfrm>
        </p:grpSpPr>
        <p:sp>
          <p:nvSpPr>
            <p:cNvPr id="326" name="Rectangle 68"/>
            <p:cNvSpPr/>
            <p:nvPr/>
          </p:nvSpPr>
          <p:spPr>
            <a:xfrm>
              <a:off x="3505320" y="5486400"/>
              <a:ext cx="2209680" cy="7621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7" name="Rectangle 69"/>
            <p:cNvSpPr/>
            <p:nvPr/>
          </p:nvSpPr>
          <p:spPr>
            <a:xfrm>
              <a:off x="3661920" y="5596200"/>
              <a:ext cx="2000160" cy="54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ĐÓNG TỆP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28" name="Group 20"/>
          <p:cNvGrpSpPr/>
          <p:nvPr/>
        </p:nvGrpSpPr>
        <p:grpSpPr>
          <a:xfrm>
            <a:off x="5638680" y="4191120"/>
            <a:ext cx="3260520" cy="761760"/>
            <a:chOff x="5638680" y="4191120"/>
            <a:chExt cx="3260520" cy="761760"/>
          </a:xfrm>
        </p:grpSpPr>
        <p:sp>
          <p:nvSpPr>
            <p:cNvPr id="329" name="Rectangle 68"/>
            <p:cNvSpPr/>
            <p:nvPr/>
          </p:nvSpPr>
          <p:spPr>
            <a:xfrm>
              <a:off x="5638680" y="4191120"/>
              <a:ext cx="3260520" cy="7617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0" name="Rectangle 69"/>
            <p:cNvSpPr/>
            <p:nvPr/>
          </p:nvSpPr>
          <p:spPr>
            <a:xfrm>
              <a:off x="5871240" y="4300920"/>
              <a:ext cx="2950200" cy="54288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ĐỌC DỮ LIỆU TỪ TỆP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31" name="Group 23"/>
          <p:cNvGrpSpPr/>
          <p:nvPr/>
        </p:nvGrpSpPr>
        <p:grpSpPr>
          <a:xfrm>
            <a:off x="6324480" y="2895480"/>
            <a:ext cx="2362320" cy="762120"/>
            <a:chOff x="6324480" y="2895480"/>
            <a:chExt cx="2362320" cy="762120"/>
          </a:xfrm>
        </p:grpSpPr>
        <p:sp>
          <p:nvSpPr>
            <p:cNvPr id="332" name="Rectangle 68"/>
            <p:cNvSpPr/>
            <p:nvPr/>
          </p:nvSpPr>
          <p:spPr>
            <a:xfrm>
              <a:off x="6324480" y="2895480"/>
              <a:ext cx="2362320" cy="76212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3" name="Rectangle 69"/>
            <p:cNvSpPr/>
            <p:nvPr/>
          </p:nvSpPr>
          <p:spPr>
            <a:xfrm>
              <a:off x="6492960" y="3005280"/>
              <a:ext cx="2138400" cy="54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MỞ TỆP ĐỂ ĐỌC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34" name="Line 26"/>
          <p:cNvSpPr/>
          <p:nvPr/>
        </p:nvSpPr>
        <p:spPr>
          <a:xfrm>
            <a:off x="4648320" y="1676520"/>
            <a:ext cx="0" cy="304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5" name="Line 27"/>
          <p:cNvSpPr/>
          <p:nvPr/>
        </p:nvSpPr>
        <p:spPr>
          <a:xfrm flipH="1">
            <a:off x="1828440" y="2286000"/>
            <a:ext cx="1523880" cy="609480"/>
          </a:xfrm>
          <a:prstGeom prst="line">
            <a:avLst/>
          </a:prstGeom>
          <a:ln w="572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6" name="Line 28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7" name="Line 29"/>
          <p:cNvSpPr/>
          <p:nvPr/>
        </p:nvSpPr>
        <p:spPr>
          <a:xfrm>
            <a:off x="1828800" y="5105520"/>
            <a:ext cx="1600200" cy="761760"/>
          </a:xfrm>
          <a:prstGeom prst="line">
            <a:avLst/>
          </a:prstGeom>
          <a:ln w="572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8" name="Line 30"/>
          <p:cNvSpPr/>
          <p:nvPr/>
        </p:nvSpPr>
        <p:spPr>
          <a:xfrm>
            <a:off x="5791320" y="2209680"/>
            <a:ext cx="1752480" cy="6858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7696080" y="3581280"/>
            <a:ext cx="0" cy="6098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0" name="Line 32"/>
          <p:cNvSpPr/>
          <p:nvPr/>
        </p:nvSpPr>
        <p:spPr>
          <a:xfrm flipH="1">
            <a:off x="5790960" y="4876920"/>
            <a:ext cx="1904760" cy="99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) KHAI BÁO TỆP VĂN BẢ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Object 5"/>
          <p:cNvGraphicFramePr/>
          <p:nvPr/>
        </p:nvGraphicFramePr>
        <p:xfrm>
          <a:off x="4648320" y="1066680"/>
          <a:ext cx="4343400" cy="541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066680"/>
                    <a:ext cx="43434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6"/>
          <p:cNvSpPr/>
          <p:nvPr/>
        </p:nvSpPr>
        <p:spPr>
          <a:xfrm>
            <a:off x="152280" y="1523880"/>
            <a:ext cx="44960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ar   </a:t>
            </a:r>
            <a:r>
              <a:rPr b="1" i="1" lang="en-US" sz="2000" spc="-1" strike="noStrike">
                <a:solidFill>
                  <a:srgbClr val="000066"/>
                </a:solidFill>
                <a:latin typeface="Verdana"/>
              </a:rPr>
              <a:t>&lt;biến tệp&gt;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TEXT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28600" y="33526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í dụ:   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ar  </a:t>
            </a:r>
            <a:r>
              <a:rPr b="1" i="1" lang="en-US" sz="2000" spc="-1" strike="noStrike">
                <a:solidFill>
                  <a:srgbClr val="000066"/>
                </a:solidFill>
                <a:latin typeface="Verdana"/>
              </a:rPr>
              <a:t>tep1,tep2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: Text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4876920" y="1905120"/>
            <a:ext cx="335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d1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rt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p1,tep2: TEXT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304920" y="2514600"/>
            <a:ext cx="42670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í dụ: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ar F : Text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) GẮN TÊN TỆP CHO BIẾN TỆ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tpage4"/>
          <p:cNvPicPr/>
          <p:nvPr/>
        </p:nvPicPr>
        <p:blipFill>
          <a:blip r:embed="rId2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"/>
          <p:cNvPicPr/>
          <p:nvPr/>
        </p:nvPicPr>
        <p:blipFill>
          <a:blip r:embed="rId3"/>
          <a:stretch/>
        </p:blipFill>
        <p:spPr>
          <a:xfrm>
            <a:off x="5240160" y="2362320"/>
            <a:ext cx="3751560" cy="38098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1"/>
          <p:cNvSpPr/>
          <p:nvPr/>
        </p:nvSpPr>
        <p:spPr>
          <a:xfrm>
            <a:off x="228600" y="1143000"/>
            <a:ext cx="510552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SSIGN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&lt;BIẾN TỆP&gt;,&lt;TÊN TỆP&gt;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528480" y="176544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ên tệp: Là biến xâu hoặc hằng xâu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567720" y="2990880"/>
            <a:ext cx="3349080" cy="368280"/>
          </a:xfrm>
          <a:prstGeom prst="rect">
            <a:avLst/>
          </a:prstGeom>
          <a:noFill/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ASSIGN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ep1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, ‘DULIEU.DAT’)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8" name="Rectangle 14"/>
          <p:cNvSpPr/>
          <p:nvPr/>
        </p:nvSpPr>
        <p:spPr>
          <a:xfrm>
            <a:off x="689040" y="4911840"/>
            <a:ext cx="3981240" cy="368280"/>
          </a:xfrm>
          <a:prstGeom prst="rect">
            <a:avLst/>
          </a:prstGeom>
          <a:noFill/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ASSIGN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ep2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, ‘D:\TP\BAITAP.INP’)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76320" y="22860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í dụ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380880" y="356544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ến 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ep1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được gắn với tệp có tên DULIEU.DA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533520" y="548640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ến 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ep2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được gắn với tệp có tên BAITAP.INP trong thư mục TP ở ổ đĩa D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62" name="Picture 18" descr="Set-05a-june"/>
          <p:cNvPicPr/>
          <p:nvPr/>
        </p:nvPicPr>
        <p:blipFill>
          <a:blip r:embed="rId4"/>
          <a:stretch/>
        </p:blipFill>
        <p:spPr>
          <a:xfrm rot="20538600">
            <a:off x="6858000" y="3733560"/>
            <a:ext cx="609480" cy="228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9" descr="Set-05a-june"/>
          <p:cNvPicPr/>
          <p:nvPr/>
        </p:nvPicPr>
        <p:blipFill>
          <a:blip r:embed="rId5"/>
          <a:stretch/>
        </p:blipFill>
        <p:spPr>
          <a:xfrm rot="20538600">
            <a:off x="7315200" y="5790960"/>
            <a:ext cx="609480" cy="22860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20"/>
          <p:cNvSpPr/>
          <p:nvPr/>
        </p:nvSpPr>
        <p:spPr>
          <a:xfrm>
            <a:off x="76320" y="3657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5" name="AutoShape 21"/>
          <p:cNvSpPr/>
          <p:nvPr/>
        </p:nvSpPr>
        <p:spPr>
          <a:xfrm>
            <a:off x="76320" y="5562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) MỞ TỆP ĐỂ GHI DỮ LIỆU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5"/>
          <p:cNvSpPr/>
          <p:nvPr/>
        </p:nvSpPr>
        <p:spPr>
          <a:xfrm>
            <a:off x="533520" y="1371600"/>
            <a:ext cx="38862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EWRITE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Verdana"/>
              </a:rPr>
              <a:t>&lt;Biến tệp&gt;)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380880" y="3166920"/>
            <a:ext cx="3810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Lưu ý:</a:t>
            </a:r>
            <a:r>
              <a:rPr b="1" i="1" lang="en-US" sz="2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9900"/>
                </a:solidFill>
                <a:latin typeface="Arial"/>
              </a:rPr>
              <a:t>Nếu như trên ổ </a:t>
            </a:r>
            <a:r>
              <a:rPr b="1" i="1" lang="en-US" sz="2800" spc="-1" strike="noStrike">
                <a:solidFill>
                  <a:srgbClr val="669900"/>
                </a:solidFill>
                <a:latin typeface="Arial"/>
              </a:rPr>
              <a:t>D:\</a:t>
            </a:r>
            <a:r>
              <a:rPr b="0" i="1" lang="en-US" sz="2800" spc="-1" strike="noStrike">
                <a:solidFill>
                  <a:srgbClr val="669900"/>
                </a:solidFill>
                <a:latin typeface="Arial"/>
              </a:rPr>
              <a:t> chưa có tệp </a:t>
            </a:r>
            <a:r>
              <a:rPr b="1" i="1" lang="en-US" sz="2800" spc="-1" strike="noStrike">
                <a:solidFill>
                  <a:srgbClr val="669900"/>
                </a:solidFill>
                <a:latin typeface="Arial"/>
              </a:rPr>
              <a:t>vidu.doc</a:t>
            </a:r>
            <a:r>
              <a:rPr b="0" i="1" lang="en-US" sz="2800" spc="-1" strike="noStrike">
                <a:solidFill>
                  <a:srgbClr val="669900"/>
                </a:solidFill>
                <a:latin typeface="Arial"/>
              </a:rPr>
              <a:t> thì tệp sẽ được tạo rỗng. Nếu đã có, thì tệp cũ bị xoá và tạo tệp mới để chuẩn bị ghi dữ liệu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371" name="Object 17"/>
          <p:cNvGraphicFramePr/>
          <p:nvPr/>
        </p:nvGraphicFramePr>
        <p:xfrm>
          <a:off x="4572000" y="1143000"/>
          <a:ext cx="4038480" cy="49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143000"/>
                    <a:ext cx="4038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18"/>
          <p:cNvSpPr/>
          <p:nvPr/>
        </p:nvSpPr>
        <p:spPr>
          <a:xfrm>
            <a:off x="4876920" y="20574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vd1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p1,tep2: TEXT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4876920" y="3276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5005800" y="3809880"/>
            <a:ext cx="35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SIGN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ep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‘D:\vidu.doc’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5112360" y="4419720"/>
            <a:ext cx="22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WRITE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ep2)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380880" y="22096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í dụ: Rewrite(tep2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) THỦ TỤC GHI DỮ LIỆU VÀO TỆP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0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9"/>
          <p:cNvSpPr/>
          <p:nvPr/>
        </p:nvSpPr>
        <p:spPr>
          <a:xfrm>
            <a:off x="4876920" y="3276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609480" y="2286000"/>
            <a:ext cx="36576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</a:t>
            </a:r>
            <a:r>
              <a:rPr b="1" i="1" lang="en-US" sz="2800" spc="-1" strike="noStrike">
                <a:solidFill>
                  <a:srgbClr val="000066"/>
                </a:solidFill>
                <a:latin typeface=".VnBook-Antiqua"/>
              </a:rPr>
              <a:t> </a:t>
            </a:r>
            <a:r>
              <a:rPr b="1" i="1" lang="en-US" sz="2400" spc="-1" strike="noStrike">
                <a:solidFill>
                  <a:srgbClr val="669900"/>
                </a:solidFill>
                <a:latin typeface="Arial"/>
              </a:rPr>
              <a:t>Danh sách kết quả gồm một hay nhiều phần tử. Phần tử có thể là biến, hằng  hoặc biểu thức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09480" y="1219320"/>
            <a:ext cx="6782040" cy="78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WRITE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&lt;Biến tệp&gt;, &lt;Danh sách kết quả&gt;)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WRITELN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&lt;Biến tệp&gt;, &lt;Danh sách kết quả&gt;)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384" name="Object 14"/>
          <p:cNvGraphicFramePr/>
          <p:nvPr/>
        </p:nvGraphicFramePr>
        <p:xfrm>
          <a:off x="4800600" y="2286000"/>
          <a:ext cx="426708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2286000"/>
                    <a:ext cx="4267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6" name="Group 15"/>
          <p:cNvGrpSpPr/>
          <p:nvPr/>
        </p:nvGrpSpPr>
        <p:grpSpPr>
          <a:xfrm>
            <a:off x="5029200" y="3156120"/>
            <a:ext cx="3164760" cy="1797480"/>
            <a:chOff x="5029200" y="3156120"/>
            <a:chExt cx="3164760" cy="1797480"/>
          </a:xfrm>
        </p:grpSpPr>
        <p:sp>
          <p:nvSpPr>
            <p:cNvPr id="387" name="Rectangle 16"/>
            <p:cNvSpPr/>
            <p:nvPr/>
          </p:nvSpPr>
          <p:spPr>
            <a:xfrm>
              <a:off x="5105160" y="3156120"/>
              <a:ext cx="2743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gram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vd1;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ar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      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tep2: TEXT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5291280" y="4243320"/>
              <a:ext cx="29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ASSIGN(</a:t>
              </a: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tep2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, ‘D:\vidu.doc’);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5262120" y="4616280"/>
              <a:ext cx="178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EWRITE (</a:t>
              </a: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tep2)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;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0" name="Rectangle 19"/>
            <p:cNvSpPr/>
            <p:nvPr/>
          </p:nvSpPr>
          <p:spPr>
            <a:xfrm>
              <a:off x="5029200" y="394956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GIN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5268600" y="500220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RITE (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tep2,2,’ ‘,6,’ ‘,4,’ ‘,9)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92" name="Group 39"/>
          <p:cNvGrpSpPr/>
          <p:nvPr/>
        </p:nvGrpSpPr>
        <p:grpSpPr>
          <a:xfrm>
            <a:off x="1066680" y="4952880"/>
            <a:ext cx="2301840" cy="1600200"/>
            <a:chOff x="1066680" y="4952880"/>
            <a:chExt cx="2301840" cy="1600200"/>
          </a:xfrm>
        </p:grpSpPr>
        <p:sp>
          <p:nvSpPr>
            <p:cNvPr id="393" name="AutoShape 40"/>
            <p:cNvSpPr/>
            <p:nvPr/>
          </p:nvSpPr>
          <p:spPr>
            <a:xfrm>
              <a:off x="1066680" y="4952880"/>
              <a:ext cx="1979280" cy="479880"/>
            </a:xfrm>
            <a:prstGeom prst="cloudCallout">
              <a:avLst>
                <a:gd name="adj1" fmla="val 35851"/>
                <a:gd name="adj2" fmla="val 84722"/>
              </a:avLst>
            </a:prstGeom>
            <a:solidFill>
              <a:srgbClr val="ccff99"/>
            </a:soli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394" name="Group 41"/>
            <p:cNvGrpSpPr/>
            <p:nvPr/>
          </p:nvGrpSpPr>
          <p:grpSpPr>
            <a:xfrm>
              <a:off x="1843200" y="5752800"/>
              <a:ext cx="1525320" cy="800280"/>
              <a:chOff x="1843200" y="5752800"/>
              <a:chExt cx="1525320" cy="800280"/>
            </a:xfrm>
          </p:grpSpPr>
          <p:pic>
            <p:nvPicPr>
              <p:cNvPr id="395" name="Picture 42" descr="T2luatsu"/>
              <p:cNvPicPr/>
              <p:nvPr/>
            </p:nvPicPr>
            <p:blipFill>
              <a:blip r:embed="rId4"/>
              <a:stretch/>
            </p:blipFill>
            <p:spPr>
              <a:xfrm>
                <a:off x="1994040" y="5784840"/>
                <a:ext cx="1374120" cy="76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Rectangle 43"/>
              <p:cNvSpPr/>
              <p:nvPr/>
            </p:nvSpPr>
            <p:spPr>
              <a:xfrm>
                <a:off x="1843200" y="5752800"/>
                <a:ext cx="879480" cy="80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397" name="Rectangle 44"/>
              <p:cNvSpPr/>
              <p:nvPr/>
            </p:nvSpPr>
            <p:spPr>
              <a:xfrm>
                <a:off x="2489040" y="6265080"/>
                <a:ext cx="879480" cy="28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398" name="Text Box 45"/>
            <p:cNvSpPr/>
            <p:nvPr/>
          </p:nvSpPr>
          <p:spPr>
            <a:xfrm>
              <a:off x="1136520" y="509256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9900"/>
                  </a:solidFill>
                  <a:latin typeface="Arial"/>
                </a:rPr>
                <a:t>2 6 4 9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99" name="Text Box 46"/>
          <p:cNvSpPr/>
          <p:nvPr/>
        </p:nvSpPr>
        <p:spPr>
          <a:xfrm>
            <a:off x="152280" y="4343400"/>
            <a:ext cx="4953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VD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WRITE 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ep2,2,’ ‘,6,’  ‘,4,’ ‘,9)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9:51:05Z</dcterms:created>
  <dc:creator>hangduc</dc:creator>
  <dc:description/>
  <dc:language>en-US</dc:language>
  <cp:lastModifiedBy>III     III         III    III</cp:lastModifiedBy>
  <dcterms:modified xsi:type="dcterms:W3CDTF">2013-02-04T14:35:59Z</dcterms:modified>
  <cp:revision>245</cp:revision>
  <dc:subject/>
  <dc:title>Slide 1</dc:title>
</cp:coreProperties>
</file>