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08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32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 bl transpara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700360" y="155736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0" y="16920"/>
            <a:ext cx="9144000" cy="36828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KULTAS TEKNOLOGI INFORMASI - UNIVERSITAS BUDI LU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55"/>
              </a:gs>
              <a:gs pos="50000">
                <a:srgbClr val="0000ff"/>
              </a:gs>
              <a:gs pos="100000">
                <a:srgbClr val="0000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9512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7"/>
          <p:cNvSpPr/>
          <p:nvPr/>
        </p:nvSpPr>
        <p:spPr>
          <a:xfrm>
            <a:off x="7436160" y="6526080"/>
            <a:ext cx="179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AL : </a:t>
            </a:r>
            <a:fld id="{91EAE149-B102-4123-AD65-0A3687B6DA44}" type="slidenum">
              <a:rPr b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5515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 rot="5400000">
            <a:off x="-1863000" y="1862640"/>
            <a:ext cx="6858000" cy="31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logo bl transparan"/>
          <p:cNvPicPr/>
          <p:nvPr/>
        </p:nvPicPr>
        <p:blipFill>
          <a:blip r:embed="rId4"/>
          <a:stretch/>
        </p:blipFill>
        <p:spPr>
          <a:xfrm>
            <a:off x="755640" y="29052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93600" y="249228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VERS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DI LU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-28440" y="1859040"/>
            <a:ext cx="31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KUL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KNOLOGI INFOR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584280" y="32796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ww.bl.ac.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7846560" y="654516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 : </a:t>
            </a:r>
            <a:fld id="{0E46F4BD-B465-47F8-9BD0-2D8F06C00BE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tha.rusdah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3640" y="14839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Tahoma"/>
              </a:rPr>
              <a:t>QUIZ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1640" y="3933720"/>
            <a:ext cx="44323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Deadline Hari Uj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Ke </a:t>
            </a:r>
            <a:r>
              <a:rPr b="0" lang="id-ID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utha.rusdah@gmail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Subject: Kelp_N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nomor anggota yang peminjamanya diatas rata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angsuran yang paling be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angsuran yang paling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siapa yang mempunyai angsuran paling bes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lum lunas dan berapa kali sudah mengangsu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ama anggota, jumlah kredit, jumlah angsuran dan jumlah sisa angsur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ama anggota, jumlah kredit, jumlah angsuran dan jumlah sisa angsuran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AWAB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exists (select * from bkredit where anggota.noang=bkredit.noa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 in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rom bkred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ists (select * from bkredit where anggota.noang=bkredit.noa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* from anggota whe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 not in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a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rom bkred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LA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609480" y="1676520"/>
          <a:ext cx="822960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69920"/>
          <a:ext cx="7543800" cy="3889440"/>
        </p:xfrm>
        <a:graphic>
          <a:graphicData uri="http://schemas.openxmlformats.org/drawingml/2006/table">
            <a:tbl>
              <a:tblPr/>
              <a:tblGrid>
                <a:gridCol w="1077840"/>
                <a:gridCol w="1974960"/>
                <a:gridCol w="2155680"/>
                <a:gridCol w="233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M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A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LE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j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12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gkare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65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21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ger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led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1-5853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1"/>
          <p:cNvSpPr/>
          <p:nvPr/>
        </p:nvSpPr>
        <p:spPr>
          <a:xfrm>
            <a:off x="635040" y="14241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0884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752480"/>
          <a:ext cx="7974000" cy="2917800"/>
        </p:xfrm>
        <a:graphic>
          <a:graphicData uri="http://schemas.openxmlformats.org/drawingml/2006/table">
            <a:tbl>
              <a:tblPr/>
              <a:tblGrid>
                <a:gridCol w="1412640"/>
                <a:gridCol w="1582920"/>
                <a:gridCol w="1363680"/>
                <a:gridCol w="1297080"/>
                <a:gridCol w="1282680"/>
                <a:gridCol w="1035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G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KWA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D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01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01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08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-08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55"/>
          <p:cNvSpPr/>
          <p:nvPr/>
        </p:nvSpPr>
        <p:spPr>
          <a:xfrm>
            <a:off x="599760" y="1295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K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00200"/>
          <a:ext cx="6978600" cy="4754520"/>
        </p:xfrm>
        <a:graphic>
          <a:graphicData uri="http://schemas.openxmlformats.org/drawingml/2006/table">
            <a:tbl>
              <a:tblPr/>
              <a:tblGrid>
                <a:gridCol w="1362240"/>
                <a:gridCol w="1533240"/>
                <a:gridCol w="1305000"/>
                <a:gridCol w="1324080"/>
                <a:gridCol w="1454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G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A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S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K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2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5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6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9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09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-10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84"/>
          <p:cNvSpPr/>
          <p:nvPr/>
        </p:nvSpPr>
        <p:spPr>
          <a:xfrm>
            <a:off x="474480" y="1143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S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DAS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ralamat di Tangera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beralamat di Ciledug dan Cengkare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apa jumlah anggo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apa jumlah anggota, yang beralamat di Tangera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dan  nama anggo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dan  nama anggota yang mengajukan kr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DAS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mempunyai nomor angsuran ‘B05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anggota dan nama anggota yang transaksi kredit tanggal 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10-01-200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Nomor anggota dan nama anggota yang mempunyai pinjaman tapi belum lu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</a:t>
            </a:r>
            <a:r>
              <a:rPr b="0" lang="id-ID" sz="4000" spc="-1" strike="noStrike">
                <a:solidFill>
                  <a:srgbClr val="000000"/>
                </a:solidFill>
                <a:latin typeface="Tahoma"/>
              </a:rPr>
              <a:t>NJ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mengajukan kredit (gunakan exists dan 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lum perna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ngajukan kredit (gunakan exi</a:t>
            </a:r>
            <a:r>
              <a:rPr b="0" lang="id-ID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dan 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nama anggota, jumlah kreditnya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yang sudah lunas angsuran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52464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SAL 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895480" y="6524640"/>
            <a:ext cx="487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ANCANGAN BASIS DATA (KP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TIHAN-LAJUT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jumlah kredit tiap nomor anggo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lkan informasi anggota dan jumlah kredit yang pernah diajukan yang lunas maupun yang belum lu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anggota dan berapa kali anggota tsb pernah mengajukan kred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pikan informasi anggota dan berapa kali anggota tsb pernah mengajukan kredit yang jumlah pengajuanya di atas 1(1) ka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6:49:07Z</dcterms:created>
  <dc:creator>deni</dc:creator>
  <dc:description/>
  <dc:language>en-US</dc:language>
  <cp:lastModifiedBy>Rusdah</cp:lastModifiedBy>
  <dcterms:modified xsi:type="dcterms:W3CDTF">2011-12-23T09:32:09Z</dcterms:modified>
  <cp:revision>108</cp:revision>
  <dc:subject/>
  <dc:title>PowerPoint Presentation</dc:title>
</cp:coreProperties>
</file>