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54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54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5080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3324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ogo bl transparan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700360" y="1557360"/>
            <a:ext cx="3672000" cy="367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0" y="16920"/>
            <a:ext cx="9144000" cy="36828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AKULTAS TEKNOLOGI INFORMASI - UNIVERSITAS BUDI LU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gradFill rotWithShape="0">
            <a:gsLst>
              <a:gs pos="0">
                <a:srgbClr val="000055"/>
              </a:gs>
              <a:gs pos="50000">
                <a:srgbClr val="0000ff"/>
              </a:gs>
              <a:gs pos="100000">
                <a:srgbClr val="00005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89512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17"/>
          <p:cNvSpPr/>
          <p:nvPr/>
        </p:nvSpPr>
        <p:spPr>
          <a:xfrm>
            <a:off x="7436160" y="6526080"/>
            <a:ext cx="179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AL : </a:t>
            </a:r>
            <a:fld id="{9464833E-011E-48FE-B510-1F06CB597F12}" type="slidenum">
              <a:rPr b="1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9" descr="5515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987640" y="0"/>
            <a:ext cx="6156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 rot="5400000">
            <a:off x="-1863000" y="1862640"/>
            <a:ext cx="6858000" cy="313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logo bl transparan"/>
          <p:cNvPicPr/>
          <p:nvPr/>
        </p:nvPicPr>
        <p:blipFill>
          <a:blip r:embed="rId4"/>
          <a:stretch/>
        </p:blipFill>
        <p:spPr>
          <a:xfrm>
            <a:off x="755640" y="29052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93600" y="2492280"/>
            <a:ext cx="28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IVERSI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UDI LU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-28440" y="1859040"/>
            <a:ext cx="31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AKUL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KNOLOGI INFORM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584280" y="32796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ww.bl.ac.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7846560" y="6545160"/>
            <a:ext cx="156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L : </a:t>
            </a:r>
            <a:fld id="{F6403C8C-203A-41AC-A218-77E53A8EADC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utha.rusdah@gmail.com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63640" y="1483920"/>
            <a:ext cx="4894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Tahoma"/>
              </a:rPr>
              <a:t>QUIZ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Q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211640" y="3933720"/>
            <a:ext cx="44323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Tahoma"/>
              </a:rPr>
              <a:t>Deadline Hari Uj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Tahoma"/>
              </a:rPr>
              <a:t>Ke </a:t>
            </a:r>
            <a:r>
              <a:rPr b="0" lang="id-ID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utha.rusdah@gmail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Tahoma"/>
              </a:rPr>
              <a:t>Subject: Kelp_N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ATIHAN-LAJUTA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nomor anggota yang peminjamanya diatas rata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angsuran yang paling bes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angsuran yang paling kec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kan informasi siapa yang mempunyai angsuran paling bes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ATIHAN-LAJUTA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anggota yang belum lunas dan berapa kali sudah mengangsu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nama anggota, jumlah kredit, jumlah angsuran dan jumlah sisa angsur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nama anggota, jumlah kredit, jumlah angsuran dan jumlah sisa angsuran yang belum lu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AWABA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* from anggota where exists (select * from bkredit where anggota.noang=bkredit.noang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* from anggota wher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ang in 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a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from bkredi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* from anggota wher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ists (select * from bkredit where anggota.noang=bkredit.noang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* from anggota wher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ang not in 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a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from bkredi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LA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Object 6"/>
          <p:cNvGraphicFramePr/>
          <p:nvPr/>
        </p:nvGraphicFramePr>
        <p:xfrm>
          <a:off x="609480" y="1676520"/>
          <a:ext cx="822960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22960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B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969920"/>
          <a:ext cx="7543800" cy="3889440"/>
        </p:xfrm>
        <a:graphic>
          <a:graphicData uri="http://schemas.openxmlformats.org/drawingml/2006/table">
            <a:tbl>
              <a:tblPr/>
              <a:tblGrid>
                <a:gridCol w="1077840"/>
                <a:gridCol w="1974960"/>
                <a:gridCol w="2155680"/>
                <a:gridCol w="2335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M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AM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LEP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j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ledu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21-585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nger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21-123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ngkare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21-65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ledu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21-5853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nger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21-21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g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nger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ledu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21-5853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51"/>
          <p:cNvSpPr/>
          <p:nvPr/>
        </p:nvSpPr>
        <p:spPr>
          <a:xfrm>
            <a:off x="635040" y="142416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GG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08848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B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752480"/>
          <a:ext cx="7974000" cy="2917800"/>
        </p:xfrm>
        <a:graphic>
          <a:graphicData uri="http://schemas.openxmlformats.org/drawingml/2006/table">
            <a:tbl>
              <a:tblPr/>
              <a:tblGrid>
                <a:gridCol w="1412640"/>
                <a:gridCol w="1582920"/>
                <a:gridCol w="1363680"/>
                <a:gridCol w="1297080"/>
                <a:gridCol w="1282680"/>
                <a:gridCol w="1035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K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GK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MK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KWA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DLU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-01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-01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-02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-08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-08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55"/>
          <p:cNvSpPr/>
          <p:nvPr/>
        </p:nvSpPr>
        <p:spPr>
          <a:xfrm>
            <a:off x="599760" y="129528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K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B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600200"/>
          <a:ext cx="6978600" cy="4754520"/>
        </p:xfrm>
        <a:graphic>
          <a:graphicData uri="http://schemas.openxmlformats.org/drawingml/2006/table">
            <a:tbl>
              <a:tblPr/>
              <a:tblGrid>
                <a:gridCol w="1362240"/>
                <a:gridCol w="1533240"/>
                <a:gridCol w="1305000"/>
                <a:gridCol w="1324080"/>
                <a:gridCol w="1454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A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GA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MA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GS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K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2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2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5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6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9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9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10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84"/>
          <p:cNvSpPr/>
          <p:nvPr/>
        </p:nvSpPr>
        <p:spPr>
          <a:xfrm>
            <a:off x="474480" y="1143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GSU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ATIHAN-DASA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anggota yang beralamat di Tangera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anggota yang beralamat di Ciledug dan Cengkare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rapa jumlah anggot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rapa jumlah anggota, yang beralamat di Tangera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nomor dan  nama anggo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nomor dan  nama anggota yang mengajukan kred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ATIHAN-DASA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anggota yang mempunyai nomor angsuran ‘B05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Nomor anggota dan nama anggota yang transaksi kredit tanggal </a:t>
            </a:r>
            <a:r>
              <a:rPr b="0" lang="id-ID" sz="2400" spc="-1" strike="noStrike">
                <a:solidFill>
                  <a:srgbClr val="000000"/>
                </a:solidFill>
                <a:latin typeface="Tahoma"/>
              </a:rPr>
              <a:t>10-01-200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Nomor anggota dan nama anggota yang mempunyai pinjaman tapi belum lun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ATIHAN-LA</a:t>
            </a:r>
            <a:r>
              <a:rPr b="0" lang="id-ID" sz="4000" spc="-1" strike="noStrike">
                <a:solidFill>
                  <a:srgbClr val="000000"/>
                </a:solidFill>
                <a:latin typeface="Tahoma"/>
              </a:rPr>
              <a:t>NJ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TA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anggota yang mengajukan kredit (gunakan exists dan i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anggota yang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lum perna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ngajukan kredit (gunakan exi</a:t>
            </a:r>
            <a:r>
              <a:rPr b="0" lang="id-ID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dan i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kan nama anggota, jumlah kreditnya yang belum lu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anggota yang sudah lunas angsurany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ATIHAN-LAJUTA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jumlah kredit tiap nomor anggo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anggota dan jumlah kredit yang pernah diajukan yang lunas maupun yang belum lu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kan informasi anggota dan berapa kali anggota tsb pernah mengajukan kred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kan informasi anggota dan berapa kali anggota tsb pernah mengajukan kredit yang jumlah pengajuanya di atas 1(1) kal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06:49:07Z</dcterms:created>
  <dc:creator>deni</dc:creator>
  <dc:description/>
  <dc:language>en-US</dc:language>
  <cp:lastModifiedBy>Rusdah</cp:lastModifiedBy>
  <dcterms:modified xsi:type="dcterms:W3CDTF">2011-12-23T09:32:09Z</dcterms:modified>
  <cp:revision>108</cp:revision>
  <dc:subject/>
  <dc:title>PowerPoint Presentation</dc:title>
</cp:coreProperties>
</file>