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F47AB-B3E1-4A36-B5F4-CC94D57B5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F79B9-1C53-4236-B244-019B2EA0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D4E4F-E572-49F2-BF02-C674DA2C8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620AA-236D-4CAF-849A-1623A4DD2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474D-224E-4E67-818F-72258360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C216D-A1CF-4FAB-BEBD-81840BF5B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DF06B-37B1-4521-B7F7-EF34D118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70ED7-E8E0-4261-8716-B6E23F77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AC75-E4B7-410E-9269-C144D872A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2FA51-A27B-4121-9AA2-D6451DAE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D145-FAEB-4D99-A201-EF91CC42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5D97-A245-4084-A3BF-B4A51EF20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5086-F17F-4151-9EA9-39A076C5C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13012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SURES A PRENDRE EN CAS D’ ÉPIDEMIE</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 KAID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Arial"/>
              </a:rPr>
              <a:t>Réunion en urgence de la cellule de crise du bureau d'hygiène communal ou inter-communal</a:t>
            </a:r>
            <a:endParaRPr b="0" lang="en-US" sz="3600" spc="-1" strike="noStrike">
              <a:solidFill>
                <a:srgbClr val="000000"/>
              </a:solidFill>
              <a:latin typeface="Arial"/>
            </a:endParaRPr>
          </a:p>
        </p:txBody>
      </p:sp>
      <p:sp>
        <p:nvSpPr>
          <p:cNvPr id="55" name="PlaceHolder 2"/>
          <p:cNvSpPr>
            <a:spLocks noGrp="1"/>
          </p:cNvSpPr>
          <p:nvPr>
            <p:ph/>
          </p:nvPr>
        </p:nvSpPr>
        <p:spPr>
          <a:xfrm>
            <a:off x="457200" y="2331720"/>
            <a:ext cx="8229600" cy="4221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mposition de la cellule de crise du BCH est la suivan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ésident de l'assemblée communa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médec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Vétérina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biologis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présentant de l’ ADE 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représentant de l’hydraul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cours de cette première réunion, Mr le PAPC informe les membres de la situation et déclenche le plan d'intervention d'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ssu de cette réunion, le poste de commandement opérationnel est mis e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en-US" sz="3200" spc="-1" strike="noStrike" u="sng">
                <a:solidFill>
                  <a:srgbClr val="000000"/>
                </a:solidFill>
                <a:uFillTx/>
                <a:latin typeface="Arial"/>
              </a:rPr>
              <a:t>Mise en application du plan d'intervention d'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embres de la cellule de crise seront chargés, chacun en ce qui le concerne de prendre contact avec les services concernés pour s'acquérir de l'évolution de la situation, d'évaluer l'ampleur de l'évènement et proposer les mesures à prendre en urg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 mesures diffèrent selon l'évènement en ques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Épidémie de maladies à transmission hydrique.</a:t>
            </a:r>
            <a:endParaRPr b="0" lang="en-US" sz="4000" spc="-1" strike="noStrike">
              <a:solidFill>
                <a:srgbClr val="000000"/>
              </a:solidFill>
              <a:latin typeface="Arial"/>
            </a:endParaRPr>
          </a:p>
        </p:txBody>
      </p:sp>
      <p:sp>
        <p:nvSpPr>
          <p:cNvPr id="59"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sieur le Président, vous venez de recevoir le message urgent suivan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NEUR VOUS INFORMER APPARITION D'UN FOYER EPIDEMIQUE DE FIEVRE TYPHOIDE AU NIVEAU DU QUARTIER  X  </a:t>
            </a:r>
            <a:r>
              <a:rPr b="1" lang="en-US" sz="2400" spc="-1" strike="noStrike">
                <a:solidFill>
                  <a:srgbClr val="000000"/>
                </a:solidFill>
                <a:latin typeface="Arial"/>
              </a:rPr>
              <a:t>STOP</a:t>
            </a:r>
            <a:r>
              <a:rPr b="0" lang="en-US" sz="2400" spc="-1" strike="noStrike">
                <a:solidFill>
                  <a:srgbClr val="000000"/>
                </a:solidFill>
                <a:latin typeface="Arial"/>
              </a:rPr>
              <a:t>  20 CAS HOSPITALISES CE JOUR AU NIVEAU DU PAVILLON DES URGENCES </a:t>
            </a:r>
            <a:r>
              <a:rPr b="1" lang="en-US" sz="2400" spc="-1" strike="noStrike">
                <a:solidFill>
                  <a:srgbClr val="000000"/>
                </a:solidFill>
                <a:latin typeface="Arial"/>
              </a:rPr>
              <a:t>STOP </a:t>
            </a:r>
            <a:r>
              <a:rPr b="0" lang="en-US" sz="2400" spc="-1" strike="noStrike">
                <a:solidFill>
                  <a:srgbClr val="000000"/>
                </a:solidFill>
                <a:latin typeface="Arial"/>
              </a:rPr>
              <a:t>ORIGINE PROBABLE DE CONTAMINATION CROSS CONNEXION </a:t>
            </a:r>
            <a:r>
              <a:rPr b="1" lang="en-US" sz="2400" spc="-1" strike="noStrike">
                <a:solidFill>
                  <a:srgbClr val="000000"/>
                </a:solidFill>
                <a:latin typeface="Arial"/>
              </a:rPr>
              <a:t>STOP </a:t>
            </a:r>
            <a:r>
              <a:rPr b="0" lang="en-US" sz="2400" spc="-1" strike="noStrike">
                <a:solidFill>
                  <a:srgbClr val="000000"/>
                </a:solidFill>
                <a:latin typeface="Arial"/>
              </a:rPr>
              <a:t>NOUS VOUS PRIONS DE BIEN VOULOIR PRENDRE LES MESURES NECESSAIRES POUR LUTTER CONTRE CETTE EPIDEMIE </a:t>
            </a:r>
            <a:r>
              <a:rPr b="1" lang="en-US" sz="2400" spc="-1" strike="noStrike">
                <a:solidFill>
                  <a:srgbClr val="000000"/>
                </a:solidFill>
                <a:latin typeface="Arial"/>
              </a:rPr>
              <a:t>STOP  ET 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04560" y="304560"/>
            <a:ext cx="845820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ns le cadre de la mise en oeuvre des actions (mesures) décidées par le comité national opérationnel de lutte contre les maladies à transmission hydrique , il est impératif de réaliser ce qui su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nquête épidémiologique</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quête épidémiologique  dans l'entourage du cas doit être réalisée en étroite collaboration avec les services de la santé (SEMEP)     , l'Algérienne des Eaux et l'Agence Nationale d'Assainissement Elle a pour but </a:t>
            </a:r>
            <a:r>
              <a:rPr b="1" lang="en-US" sz="3200" spc="-1" strike="noStrike" u="sng">
                <a:solidFill>
                  <a:srgbClr val="000000"/>
                </a:solidFill>
                <a:uFillTx/>
                <a:latin typeface="Arial"/>
              </a:rPr>
              <a:t>d'identifier la source probable de contamination</a:t>
            </a:r>
            <a:r>
              <a:rPr b="0" lang="en-US" sz="3200" spc="-1" strike="noStrike">
                <a:solidFill>
                  <a:srgbClr val="000000"/>
                </a:solidFill>
                <a:latin typeface="Arial"/>
              </a:rPr>
              <a:t> et des facteurs environnementaux (AEP, Assainissement et hygiène du milie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ise en charge.</a:t>
            </a:r>
            <a:endParaRPr b="0" lang="en-US" sz="4400" spc="-1" strike="noStrike">
              <a:solidFill>
                <a:srgbClr val="000000"/>
              </a:solidFill>
              <a:latin typeface="Arial"/>
            </a:endParaRPr>
          </a:p>
        </p:txBody>
      </p:sp>
      <p:sp>
        <p:nvSpPr>
          <p:cNvPr id="64"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1.</a:t>
            </a:r>
            <a:r>
              <a:rPr b="1" lang="en-US" sz="3200" spc="-1" strike="noStrike" u="sng">
                <a:solidFill>
                  <a:srgbClr val="000000"/>
                </a:solidFill>
                <a:uFillTx/>
                <a:latin typeface="Arial"/>
              </a:rPr>
              <a:t> Cu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se en charge curative des malades est à la  charge des services de la sant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 fonction de l'importance de l'épidémie , un centre de tri et d'évacuation peut être créer sur la zone même de l’épidémie (Salle de soins ou école du quartier ....) ou au niveau de l'hôp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 centre d'isolement et de traitement est mis en place au niveau de l'hô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2. </a:t>
            </a:r>
            <a:r>
              <a:rPr b="1" lang="en-US" sz="4000" spc="-1" strike="noStrike" u="sng">
                <a:solidFill>
                  <a:srgbClr val="000000"/>
                </a:solidFill>
                <a:uFillTx/>
                <a:latin typeface="Arial"/>
              </a:rPr>
              <a:t>Préventif</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se en charge préventive est du ressort des collectivités locales et des services de l'hydrauliq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rocéder à la suspension de l'alimentation en eau par le réseau suspect jusqu'à sa désinfection en fin de travaux de répa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304560"/>
            <a:ext cx="8229600" cy="6553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Simultanément, assurer l'approvisionnement en eau potable par citernage à raison de </a:t>
            </a:r>
            <a:r>
              <a:rPr b="1" lang="en-US" sz="4000" spc="-1" strike="noStrike" u="sng">
                <a:solidFill>
                  <a:srgbClr val="ff0000"/>
                </a:solidFill>
                <a:uFillTx/>
                <a:latin typeface="Arial"/>
              </a:rPr>
              <a:t>20 à 30 litres par habitants et par jour</a:t>
            </a:r>
            <a:r>
              <a:rPr b="0" lang="en-US" sz="4000" spc="-1" strike="noStrike">
                <a:solidFill>
                  <a:srgbClr val="000000"/>
                </a:solidFill>
                <a:latin typeface="Arial"/>
              </a:rPr>
              <a:t> avec un contrôle régulier de l'eau:</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heminée par des citernes et             chloration directe systématique </a:t>
            </a:r>
            <a:endParaRPr b="0" lang="en-US" sz="4000" spc="-1" strike="noStrike">
              <a:solidFill>
                <a:srgbClr val="000000"/>
              </a:solidFill>
              <a:latin typeface="Arial"/>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ou par désignation des points d'eau soumis à un contrôl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Informer la population sur l'intérêt des mesures prises et la nécessité de procéder au traitement des réserves d'eau non traitées en sa possession par l'eau de javel (02 gouttes par lit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épidémies sont assimilées le plus souvent à des désastres ou catastrophes dont les moyens humains et matériels nécessaires pour leur maîtrise dépassent les capacités d'intervention de la commune affectée et nécessitent une assistance extérie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iller à la réparation des fuites des eaux usées et eaux stagnantes sur tout le périmètre de la zone du foyer épidémi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Renforcer le contrôle sanitaire des établissements à caractère alimentaire(restaurants, gargotes, cantines scolaires ...) et des marché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ea typeface="굴림"/>
              </a:rPr>
              <a:t>*la prévention :</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Pour nous préserver des maladies à transmission hydrique il faut nous doter d’une eau de boisson de bonne qualité p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e contrôle chimique et bactériologique des eaux de bois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protection des points d’eau par respect du périmètre de sécur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pose de briques poreuses ou de galets de chloration dans les pu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La désinfection de tout ouvrage destiné à l’eau de boisson par le chlore ou l’eau de ja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굴림"/>
              </a:rPr>
              <a:t>Assurer une bonne hygiène du milie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Étude de ca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1er 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Epidémie de type explosi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à source un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Exemple </a:t>
            </a:r>
            <a:r>
              <a:rPr b="0" lang="fr-FR" sz="2800" spc="-1" strike="noStrike">
                <a:solidFill>
                  <a:srgbClr val="000000"/>
                </a:solidFill>
                <a:latin typeface="Arial"/>
              </a:rPr>
              <a:t>: </a:t>
            </a:r>
            <a:r>
              <a:rPr b="1" lang="fr-FR" sz="2800" spc="-1" strike="noStrike">
                <a:solidFill>
                  <a:srgbClr val="000000"/>
                </a:solidFill>
                <a:latin typeface="Arial"/>
              </a:rPr>
              <a:t>Epidémie de Fièvre Typhoïde  par cross connexion</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mune X est située dans la wilaya Y, à vocation semi-rurale, d'une population estimée à plus de 27000 habitants a connu  une importante épidèmie de fièvre typhoï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début de l'épidémie semble remonter au 19 Décembre , au cours de laquelle 1012 malades ont été hospitalisés, soit un taux d'incidence de 36.9 cas pour 100.000 habit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malades sont répartis comme sui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e ville :782 cas (77.2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rtiers avoisinants : 149 cas (14.7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rs commune : 11 cas (1.08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Évolution de l'épidé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but : 19/12: Un seul 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éme jour : 83 cas (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ression lente (9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urée de l'épidémie : 22 j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Origine de la canta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entre ville de la commune X est alimentée en eau potable par un chateau d'eau qui desset une partie de la vil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chateau d'eau est alimenté par un forage dont l'eau est parfois stockée dans un bassin de reser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système de drains relie le forage au  chateau et au bassin. A proximitè du bassin de reserve, existe une canalisation du réseau d'égout. Un des regards de cette canalisation aurait été endommagé par des travaux, ce qui aurait provoqué une infiltration des eaux usées jusqu'au niveau du bassin de reser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sures prises en ur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ant cette situation une cellule de crise a été mise en place dont le rôle est la gestion de l'épidémie :   1. Choix et ouverture des centres d'iso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Coordination des activités des différents intervena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Discu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ude  de la répartition géographique des cas a permis de localiser le foyer de l'épidèmie principalement au niveau du centre-ville (77.2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ntamination des eaux de boisson a durée deux semaines environ de façon intermit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te épidèmie focale explosive, dont la source de contamination unique (Cross connexion) a duré dans le tem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pérations visant à limiter les dégâts et à éviter la propagation des maladies dans la communauté doivent être rapides et sans failles . L'improvisation n'a pas de place dans de telles situations critiques. L'établissement d'un plan organisationnel est primord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ût de prise en charge  thérapeutique des malades est estimé à 2.034.603.82 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tte épidémie aurait pu être éviter s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au de boisson était traité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cident qui s'est produit sur la canalisation d'eau usées a été signalé immédiatement au service de gestion des eaux de boisson et/ou à la commune (B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contrôle du chlore résiduel se faisait quotidienn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1" lang="fr-FR" sz="2800" spc="-1" strike="noStrike">
                <a:solidFill>
                  <a:srgbClr val="000000"/>
                </a:solidFill>
                <a:latin typeface="Arial"/>
              </a:rPr>
              <a:t>Cette épidémie aurait durer mois longtemps s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ervice de gestion des eaux de boisson et/ou à la commune (BCH) avait procèder à l'arrêt immédiat de l'alimentation en eau par le réseau suspect et procédé au lessivage du rés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mune avait assuré l'approvisionnement en eau potable par citern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éme cas</a:t>
            </a:r>
            <a:br>
              <a:rPr sz="4000"/>
            </a:b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pidémie par propagation (en chapel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Exemple </a:t>
            </a:r>
            <a:r>
              <a:rPr b="0" lang="fr-FR" sz="2000" spc="-1" strike="noStrike">
                <a:solidFill>
                  <a:srgbClr val="000000"/>
                </a:solidFill>
                <a:latin typeface="Arial"/>
              </a:rPr>
              <a:t>: </a:t>
            </a:r>
            <a:r>
              <a:rPr b="1" lang="fr-FR" sz="2000" spc="-1" strike="noStrike">
                <a:solidFill>
                  <a:srgbClr val="000000"/>
                </a:solidFill>
                <a:latin typeface="Arial"/>
              </a:rPr>
              <a:t>Epidémie de Fièvre Typhoïde  par consommation d'un aliment.</a:t>
            </a:r>
            <a:r>
              <a:rPr b="0" lang="fr-FR"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mmune W est située dans la wilaya Z, à vocation urbaine, d'une population estimée à plus de 20.000 habitants a connu pour la première fois  une épidèmie de grande envergure de fièvre typhoï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début de l'épidèmie semble remonter au début du mois de juin, au cours de laquelle 126 malades (dont 61 % sont des enfants de moins de 15 ans) ont été hospitalisés, soit un taux d'incidence de 5.49 cas pour 1000 habit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alades sont répartis comme sui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artier Hay El Moudjahidine (centre ville) :78 cas (78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artiers avoisinants : 22 cas (2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Evolution de l'épidémi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but : 1ére semaine: 09 cas (15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éme semaine : 12 cas (2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éme semaine:  26 Cas (4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éme semaine:  11 Cas (18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Origine de la canta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rigine de l'épidèmie est alimentaire,les premiers cas auraient consommé des </a:t>
            </a:r>
            <a:r>
              <a:rPr b="1" lang="fr-FR" sz="2800" spc="-1" strike="noStrike" u="sng">
                <a:solidFill>
                  <a:srgbClr val="000000"/>
                </a:solidFill>
                <a:uFillTx/>
                <a:latin typeface="Arial"/>
              </a:rPr>
              <a:t>glaces</a:t>
            </a:r>
            <a:r>
              <a:rPr b="0" lang="fr-FR" sz="2800" spc="-1" strike="noStrike">
                <a:solidFill>
                  <a:srgbClr val="000000"/>
                </a:solidFill>
                <a:latin typeface="Arial"/>
              </a:rPr>
              <a:t> provenant d'une crémerie du quartier où un </a:t>
            </a:r>
            <a:r>
              <a:rPr b="1" lang="fr-FR" sz="2800" spc="-1" strike="noStrike" u="sng">
                <a:solidFill>
                  <a:srgbClr val="000000"/>
                </a:solidFill>
                <a:uFillTx/>
                <a:latin typeface="Arial"/>
              </a:rPr>
              <a:t>porteur sain de germes</a:t>
            </a:r>
            <a:r>
              <a:rPr b="0" lang="fr-FR" sz="2800" spc="-1" strike="noStrike">
                <a:solidFill>
                  <a:srgbClr val="000000"/>
                </a:solidFill>
                <a:latin typeface="Arial"/>
              </a:rPr>
              <a:t> a été retrouv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esures prises en urgence</a:t>
            </a:r>
            <a:endParaRPr b="0" lang="en-US" sz="4400" spc="-1" strike="noStrike">
              <a:solidFill>
                <a:srgbClr val="000000"/>
              </a:solidFill>
              <a:latin typeface="Arial"/>
            </a:endParaRPr>
          </a:p>
        </p:txBody>
      </p:sp>
      <p:sp>
        <p:nvSpPr>
          <p:cNvPr id="96"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9000"/>
          </a:bodyPr>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vant cette situation une cellule de crise a été mise en place dont le rôle est la gestion de l'épidémie :   1. Choix et ouverture des centres d'isolement.</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2. Coordination des activités des différents intervenants. </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sures prophylactiques.</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spitalisation, isolemnt et traitement des cas.</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ducation sanitaire.</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 et des toilettes avec du chlorure de chaux distribué par l'APC.. Enquête épidémiologique.</a:t>
            </a:r>
            <a:endParaRPr b="0" lang="en-US" sz="2400" spc="-1" strike="noStrike">
              <a:solidFill>
                <a:srgbClr val="000000"/>
              </a:solidFill>
              <a:latin typeface="Arial"/>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Arial"/>
              </a:rPr>
              <a:t>Discus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ude  de la répartition géographique des cas a permis de localiser le foyer de l'épidèmie principalement au niveau du quartier Hay El Moudjahidine (centre ville) :78 cas (7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tte épidèmie , dont la source </a:t>
            </a:r>
            <a:r>
              <a:rPr b="1" lang="fr-FR" sz="2400" spc="-1" strike="noStrike" u="sng">
                <a:solidFill>
                  <a:srgbClr val="000000"/>
                </a:solidFill>
                <a:uFillTx/>
                <a:latin typeface="Arial"/>
              </a:rPr>
              <a:t>de contamination est commune</a:t>
            </a:r>
            <a:r>
              <a:rPr b="0" lang="fr-FR" sz="2400" spc="-1" strike="noStrike">
                <a:solidFill>
                  <a:srgbClr val="000000"/>
                </a:solidFill>
                <a:latin typeface="Arial"/>
              </a:rPr>
              <a:t> 'consommation de glaces souillées) a duré dans le temps par </a:t>
            </a:r>
            <a:r>
              <a:rPr b="1" lang="fr-FR" sz="2400" spc="-1" strike="noStrike" u="sng">
                <a:solidFill>
                  <a:srgbClr val="000000"/>
                </a:solidFill>
                <a:uFillTx/>
                <a:latin typeface="Arial"/>
              </a:rPr>
              <a:t>contagion</a:t>
            </a:r>
            <a:r>
              <a:rPr b="0" lang="fr-FR" sz="2400" spc="-1" strike="noStrike">
                <a:solidFill>
                  <a:srgbClr val="000000"/>
                </a:solidFill>
                <a:latin typeface="Arial"/>
              </a:rPr>
              <a:t> (mains s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hyperchloration de l'eau pendant toute la durée de l'épidèmi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ulage des regards d'eaux usé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ût de prise en charge  thérapeutique des malades est estimé à 734.871.50 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épidémie a permis de mieux percevoir l'importance du contrôle des établissements à caractère alimentaire par la commission d'hygiène et sécurité.qui joue un rôle dissuasif pour les commerç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tte épidémie aurait pu être évi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épidèmie a permis de mieux percevoir l'importance du contrôle des établissements à caractère alimentaire par la commission d'hygiène et sécurité.qui joue un rôle dissuasif pour les commerça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tte épidémie aurait pu être enrayée dés le débu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ervices chargés de la lutte contre les MTH ont pris les mesures qui s'imposent dans de telles circonstances (prendre la décision de fermeture de l'établissement insalub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atière de lutte contre les maladies à transmission hydrique, le président de l'assemblée communale doit travailler en étroite collaboration avec les différentes structures de la wilaya impliquées dans ce cadre ( Direction de la santé et de la population, L'agence Algérienne des eaux, Direction de l'agriculture, Direction de l'hydraulique, OP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y a lieu d'établi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état des moyens humains et matériels à mettre en oeuvre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état des citernes , camions et appareils de désinsecti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hronologie des programmes d'intervention en la matiè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provisation n'est pas efficace dans une situation critique, la panique de la population et de certains responsables dés l'apparition d'une épidémie entraîne souvent des réactions néfastes , hâtives, désordonnées,onéreuses et ineffica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a:t>
            </a:r>
            <a:r>
              <a:rPr b="1" lang="en-US" sz="3200" spc="-1" strike="noStrike" u="sng">
                <a:solidFill>
                  <a:srgbClr val="000000"/>
                </a:solidFill>
                <a:uFillTx/>
                <a:latin typeface="Arial"/>
              </a:rPr>
              <a:t>plan d'intervention d'urgence</a:t>
            </a:r>
            <a:r>
              <a:rPr b="0" lang="en-US" sz="3200" spc="-1" strike="noStrike">
                <a:solidFill>
                  <a:srgbClr val="000000"/>
                </a:solidFill>
                <a:latin typeface="Arial"/>
              </a:rPr>
              <a:t> doit être pré-établi définissant les mesures à prendre, l'organisation et la coordination des différents services appelés à intervenir (Santé, Protection civ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 succès de ce plan est directement conditionné par trois facteu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t>
            </a:r>
            <a:r>
              <a:rPr b="1" lang="en-US" sz="3200" spc="-1" strike="noStrike">
                <a:solidFill>
                  <a:srgbClr val="000000"/>
                </a:solidFill>
                <a:latin typeface="Arial"/>
              </a:rPr>
              <a:t>Précocité d</a:t>
            </a:r>
            <a:r>
              <a:rPr b="0" lang="en-US" sz="3200" spc="-1" strike="noStrike">
                <a:solidFill>
                  <a:srgbClr val="000000"/>
                </a:solidFill>
                <a:latin typeface="Arial"/>
              </a:rPr>
              <a:t>e l'aler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
            </a:r>
            <a:r>
              <a:rPr b="1" lang="en-US" sz="3200" spc="-1" strike="noStrike">
                <a:solidFill>
                  <a:srgbClr val="000000"/>
                </a:solidFill>
                <a:latin typeface="Arial"/>
              </a:rPr>
              <a:t>'efficacité </a:t>
            </a:r>
            <a:r>
              <a:rPr b="0" lang="en-US" sz="3200" spc="-1" strike="noStrike">
                <a:solidFill>
                  <a:srgbClr val="000000"/>
                </a:solidFill>
                <a:latin typeface="Arial"/>
              </a:rPr>
              <a:t>des mesures prises pour maîtriser le foyer épidém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a:t>
            </a:r>
            <a:r>
              <a:rPr b="1" lang="en-US" sz="3200" spc="-1" strike="noStrike">
                <a:solidFill>
                  <a:srgbClr val="000000"/>
                </a:solidFill>
                <a:latin typeface="Arial"/>
              </a:rPr>
              <a:t>rapidité </a:t>
            </a:r>
            <a:r>
              <a:rPr b="0" lang="en-US" sz="3200" spc="-1" strike="noStrike">
                <a:solidFill>
                  <a:srgbClr val="000000"/>
                </a:solidFill>
                <a:latin typeface="Arial"/>
              </a:rPr>
              <a:t>des actions entre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304560"/>
            <a:ext cx="8458200" cy="6019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l est nécessaire de définir le  rôle de chaque intervenant  en précisant : </a:t>
            </a:r>
            <a:r>
              <a:rPr b="1" lang="en-US" sz="4800" spc="-1" strike="noStrike">
                <a:solidFill>
                  <a:srgbClr val="000000"/>
                </a:solidFill>
                <a:latin typeface="Arial"/>
              </a:rPr>
              <a:t>qui, fait quoi, quand et comment </a:t>
            </a:r>
            <a:r>
              <a:rPr b="0" lang="en-US" sz="4800" spc="-1" strike="noStrike">
                <a:solidFill>
                  <a:srgbClr val="000000"/>
                </a:solidFill>
                <a:latin typeface="Arial"/>
              </a:rPr>
              <a:t>pour chaque cas de figure et déterminer le chronologie de leur mise en oeuv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nquête et prise en charge d'une situation jugée difficil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a:t>
            </a:r>
            <a:r>
              <a:rPr b="1" lang="fr-FR" sz="2800" spc="-1" strike="noStrike" u="sng">
                <a:solidFill>
                  <a:srgbClr val="000000"/>
                </a:solidFill>
                <a:uFillTx/>
                <a:latin typeface="Arial"/>
              </a:rPr>
              <a:t> Conduite  à tenir devant un problème sanitai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vant l'apparition d'un évènement exceptionnel, il y a lieu de déclencher les mesures suivant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union en urgence de la cellule de crise du bureau d'hygiène communal ou intercommunal.</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ise en application du plan d'intervention d'urgence.</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un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ssouby</cp:lastModifiedBy>
  <dcterms:modified xsi:type="dcterms:W3CDTF">2008-05-12T22:32:4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