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33FFD7-08A0-4BBE-AAB9-B206A1BB64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D66969-BA95-446B-A715-B775E957F1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AE3A1A-F41E-4BA1-B6C1-FF4FDA072C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C1262E-6CD0-49E4-8EE9-E4307763C3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39F6DF-4E10-4D98-A23C-02683C6EDD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6CCB35-BF6E-4EA0-A50F-2D614D6B35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24B873-8189-4AB3-885F-A85A0F4FDF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87DC90-2C7E-4B30-A5F5-23109F9C80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61E398-6332-4FBB-9589-05FFD7D611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F60270-56F0-416C-8EDC-C603A493AA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DFA357-55FD-4BB2-8682-D3A62DF86B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FCB9FD-E7EA-40A9-A237-72EB9E0B24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D89B0-A66C-47A2-A441-DE2897E3C5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520" y="2130120"/>
            <a:ext cx="84582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MESURES A PRENDRE EN CAS D’ ÉPIDEMIE</a:t>
            </a:r>
            <a:endParaRPr b="0" lang="en-US" sz="48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r KAIDI.A</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u="sng">
                <a:solidFill>
                  <a:srgbClr val="000000"/>
                </a:solidFill>
                <a:uFillTx/>
                <a:latin typeface="Arial"/>
              </a:rPr>
              <a:t>Réunion en urgence de la cellule de crise du bureau d'hygiène communal ou inter-communal</a:t>
            </a:r>
            <a:endParaRPr b="0" lang="en-US" sz="3600" spc="-1" strike="noStrike">
              <a:solidFill>
                <a:srgbClr val="000000"/>
              </a:solidFill>
              <a:latin typeface="Arial"/>
            </a:endParaRPr>
          </a:p>
        </p:txBody>
      </p:sp>
      <p:sp>
        <p:nvSpPr>
          <p:cNvPr id="55" name="PlaceHolder 2"/>
          <p:cNvSpPr>
            <a:spLocks noGrp="1"/>
          </p:cNvSpPr>
          <p:nvPr>
            <p:ph/>
          </p:nvPr>
        </p:nvSpPr>
        <p:spPr>
          <a:xfrm>
            <a:off x="457200" y="2331720"/>
            <a:ext cx="8229600" cy="4221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a composition de la cellule de crise du BCH est la suivant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 président de l'assemblée communal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 médeci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 Vétérinair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 biologist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 représentant de l’ ADE e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 représentant de l’hydrauliqu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 cours de cette première réunion, Mr le PAPC informe les membres de la situation et déclenche le plan d'intervention d'urg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l'issu de cette réunion, le poste de commandement opérationnel est mis en pla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380880"/>
            <a:ext cx="8229600" cy="6019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 </a:t>
            </a:r>
            <a:r>
              <a:rPr b="1" lang="en-US" sz="3200" spc="-1" strike="noStrike" u="sng">
                <a:solidFill>
                  <a:srgbClr val="000000"/>
                </a:solidFill>
                <a:uFillTx/>
                <a:latin typeface="Arial"/>
              </a:rPr>
              <a:t>Mise en application du plan d'intervention d'urg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 membres de la cellule de crise seront chargés, chacun en ce qui le concerne de prendre contact avec les services concernés pour s'acquérir de l'évolution de la situation, d'évaluer l'ampleur de l'évènement et proposer les mesures à prendre en urgenc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s mesures diffèrent selon l'évènement en ques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Épidémie de maladies à transmission hydrique.</a:t>
            </a:r>
            <a:endParaRPr b="0" lang="en-US" sz="4000" spc="-1" strike="noStrike">
              <a:solidFill>
                <a:srgbClr val="000000"/>
              </a:solidFill>
              <a:latin typeface="Arial"/>
            </a:endParaRPr>
          </a:p>
        </p:txBody>
      </p:sp>
      <p:sp>
        <p:nvSpPr>
          <p:cNvPr id="59" name="PlaceHolder 2"/>
          <p:cNvSpPr>
            <a:spLocks noGrp="1"/>
          </p:cNvSpPr>
          <p:nvPr>
            <p:ph/>
          </p:nvPr>
        </p:nvSpPr>
        <p:spPr>
          <a:xfrm>
            <a:off x="457200" y="1828800"/>
            <a:ext cx="8229600" cy="5029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sieur le Président, vous venez de recevoir le message urgent suivan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NNEUR VOUS INFORMER APPARITION D'UN FOYER EPIDEMIQUE DE FIEVRE TYPHOIDE AU NIVEAU DU QUARTIER  X  </a:t>
            </a:r>
            <a:r>
              <a:rPr b="1" lang="en-US" sz="2400" spc="-1" strike="noStrike">
                <a:solidFill>
                  <a:srgbClr val="000000"/>
                </a:solidFill>
                <a:latin typeface="Arial"/>
              </a:rPr>
              <a:t>STOP</a:t>
            </a:r>
            <a:r>
              <a:rPr b="0" lang="en-US" sz="2400" spc="-1" strike="noStrike">
                <a:solidFill>
                  <a:srgbClr val="000000"/>
                </a:solidFill>
                <a:latin typeface="Arial"/>
              </a:rPr>
              <a:t>  20 CAS HOSPITALISES CE JOUR AU NIVEAU DU PAVILLON DES URGENCES </a:t>
            </a:r>
            <a:r>
              <a:rPr b="1" lang="en-US" sz="2400" spc="-1" strike="noStrike">
                <a:solidFill>
                  <a:srgbClr val="000000"/>
                </a:solidFill>
                <a:latin typeface="Arial"/>
              </a:rPr>
              <a:t>STOP </a:t>
            </a:r>
            <a:r>
              <a:rPr b="0" lang="en-US" sz="2400" spc="-1" strike="noStrike">
                <a:solidFill>
                  <a:srgbClr val="000000"/>
                </a:solidFill>
                <a:latin typeface="Arial"/>
              </a:rPr>
              <a:t>ORIGINE PROBABLE DE CONTAMINATION CROSS CONNEXION </a:t>
            </a:r>
            <a:r>
              <a:rPr b="1" lang="en-US" sz="2400" spc="-1" strike="noStrike">
                <a:solidFill>
                  <a:srgbClr val="000000"/>
                </a:solidFill>
                <a:latin typeface="Arial"/>
              </a:rPr>
              <a:t>STOP </a:t>
            </a:r>
            <a:r>
              <a:rPr b="0" lang="en-US" sz="2400" spc="-1" strike="noStrike">
                <a:solidFill>
                  <a:srgbClr val="000000"/>
                </a:solidFill>
                <a:latin typeface="Arial"/>
              </a:rPr>
              <a:t>NOUS VOUS PRIONS DE BIEN VOULOIR PRENDRE LES MESURES NECESSAIRES POUR LUTTER CONTRE CETTE EPIDEMIE </a:t>
            </a:r>
            <a:r>
              <a:rPr b="1" lang="en-US" sz="2400" spc="-1" strike="noStrike">
                <a:solidFill>
                  <a:srgbClr val="000000"/>
                </a:solidFill>
                <a:latin typeface="Arial"/>
              </a:rPr>
              <a:t>STOP  ET F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304560" y="304560"/>
            <a:ext cx="8458200" cy="6172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ns le cadre de la mise en oeuvre des actions (mesures) décidées par le comité national opérationnel de lutte contre les maladies à transmission hydrique , il est impératif de réaliser ce qui suit:</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Enquête épidémiologique</a:t>
            </a: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nquête épidémiologique  dans l'entourage du cas doit être réalisée en étroite collaboration avec les services de la santé (SEMEP)     , l'Algérienne des Eaux et l'Agence Nationale d'Assainissement Elle a pour but </a:t>
            </a:r>
            <a:r>
              <a:rPr b="1" lang="en-US" sz="3200" spc="-1" strike="noStrike" u="sng">
                <a:solidFill>
                  <a:srgbClr val="000000"/>
                </a:solidFill>
                <a:uFillTx/>
                <a:latin typeface="Arial"/>
              </a:rPr>
              <a:t>d'identifier la source probable de contamination</a:t>
            </a:r>
            <a:r>
              <a:rPr b="0" lang="en-US" sz="3200" spc="-1" strike="noStrike">
                <a:solidFill>
                  <a:srgbClr val="000000"/>
                </a:solidFill>
                <a:latin typeface="Arial"/>
              </a:rPr>
              <a:t> et des facteurs environnementaux (AEP, Assainissement et hygiène du milieu...).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Prise en charge.</a:t>
            </a:r>
            <a:endParaRPr b="0" lang="en-US" sz="4400" spc="-1" strike="noStrike">
              <a:solidFill>
                <a:srgbClr val="000000"/>
              </a:solidFill>
              <a:latin typeface="Arial"/>
            </a:endParaRPr>
          </a:p>
        </p:txBody>
      </p:sp>
      <p:sp>
        <p:nvSpPr>
          <p:cNvPr id="64" name="PlaceHolder 2"/>
          <p:cNvSpPr>
            <a:spLocks noGrp="1"/>
          </p:cNvSpPr>
          <p:nvPr>
            <p:ph/>
          </p:nvPr>
        </p:nvSpPr>
        <p:spPr>
          <a:xfrm>
            <a:off x="456840" y="1143000"/>
            <a:ext cx="8381880" cy="5410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1.</a:t>
            </a:r>
            <a:r>
              <a:rPr b="1" lang="en-US" sz="3200" spc="-1" strike="noStrike" u="sng">
                <a:solidFill>
                  <a:srgbClr val="000000"/>
                </a:solidFill>
                <a:uFillTx/>
                <a:latin typeface="Arial"/>
              </a:rPr>
              <a:t> Curat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 prise en charge curative des malades est à la  charge des services de la sant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n fonction de l'importance de l'épidémie , un centre de tri et d'évacuation peut être créer sur la zone même de l’épidémie (Salle de soins ou école du quartier ....) ou au niveau de l'hôpit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Un centre d'isolement et de traitement est mis en place au niveau de l'hôpit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2. </a:t>
            </a:r>
            <a:r>
              <a:rPr b="1" lang="en-US" sz="4000" spc="-1" strike="noStrike" u="sng">
                <a:solidFill>
                  <a:srgbClr val="000000"/>
                </a:solidFill>
                <a:uFillTx/>
                <a:latin typeface="Arial"/>
              </a:rPr>
              <a:t>Préventif</a:t>
            </a:r>
            <a:r>
              <a:rPr b="0" lang="en-US" sz="4000" spc="-1" strike="noStrike">
                <a:solidFill>
                  <a:srgbClr val="000000"/>
                </a:solidFill>
                <a:latin typeface="Arial"/>
              </a:rPr>
              <a:t>.</a:t>
            </a:r>
            <a:br>
              <a:rPr sz="4000"/>
            </a:br>
            <a:endParaRPr b="0" lang="en-US" sz="4000" spc="-1" strike="noStrike">
              <a:solidFill>
                <a:srgbClr val="000000"/>
              </a:solidFill>
              <a:latin typeface="Arial"/>
            </a:endParaRPr>
          </a:p>
        </p:txBody>
      </p:sp>
      <p:sp>
        <p:nvSpPr>
          <p:cNvPr id="66" name="PlaceHolder 2"/>
          <p:cNvSpPr>
            <a:spLocks noGrp="1"/>
          </p:cNvSpPr>
          <p:nvPr>
            <p:ph/>
          </p:nvPr>
        </p:nvSpPr>
        <p:spPr>
          <a:xfrm>
            <a:off x="533520" y="18288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 prise en charge préventive est du ressort des collectivités locales et des services de l'hydrauliqu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Procéder à la suspension de l'alimentation en eau par le réseau suspect jusqu'à sa désinfection en fin de travaux de répar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380880" y="304560"/>
            <a:ext cx="8229600" cy="6553080"/>
          </a:xfrm>
          <a:prstGeom prst="rect">
            <a:avLst/>
          </a:prstGeom>
          <a:noFill/>
          <a:ln w="0">
            <a:noFill/>
          </a:ln>
        </p:spPr>
        <p:txBody>
          <a:bodyPr lIns="90000" rIns="90000" tIns="46800" bIns="46800" anchor="t">
            <a:normAutofit fontScale="96000"/>
          </a:bodyPr>
          <a:p>
            <a:pPr marL="329040" indent="-3290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Simultanément, assurer l'approvisionnement en eau potable par citernage à raison de </a:t>
            </a:r>
            <a:r>
              <a:rPr b="1" lang="en-US" sz="4000" spc="-1" strike="noStrike" u="sng">
                <a:solidFill>
                  <a:srgbClr val="ff0000"/>
                </a:solidFill>
                <a:uFillTx/>
                <a:latin typeface="Arial"/>
              </a:rPr>
              <a:t>20 à 30 litres par habitants et par jour</a:t>
            </a:r>
            <a:r>
              <a:rPr b="0" lang="en-US" sz="4000" spc="-1" strike="noStrike">
                <a:solidFill>
                  <a:srgbClr val="000000"/>
                </a:solidFill>
                <a:latin typeface="Arial"/>
              </a:rPr>
              <a:t> avec un contrôle régulier de l'eau:</a:t>
            </a:r>
            <a:endParaRPr b="0" lang="en-US" sz="4000" spc="-1" strike="noStrike">
              <a:solidFill>
                <a:srgbClr val="000000"/>
              </a:solidFill>
              <a:latin typeface="Arial"/>
            </a:endParaRPr>
          </a:p>
          <a:p>
            <a:pPr marL="329040" indent="-3290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heminée par des citernes et             chloration directe systématique </a:t>
            </a:r>
            <a:endParaRPr b="0" lang="en-US" sz="4000" spc="-1" strike="noStrike">
              <a:solidFill>
                <a:srgbClr val="000000"/>
              </a:solidFill>
              <a:latin typeface="Arial"/>
            </a:endParaRPr>
          </a:p>
          <a:p>
            <a:pPr marL="329040" indent="-3290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t/ou par désignation des points d'eau soumis à un contrôle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457200" y="304560"/>
            <a:ext cx="8229600" cy="60195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Informer la population sur l'intérêt des mesures prises et la nécessité de procéder au traitement des réserves d'eau non traitées en sa possession par l'eau de javel (02 gouttes par litr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 épidémies sont assimilées le plus souvent à des désastres ou catastrophes dont les moyens humains et matériels nécessaires pour leur maîtrise dépassent les capacités d'intervention de la commune affectée et nécessitent une assistance extérie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57200" y="456840"/>
            <a:ext cx="8229600" cy="5668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eiller à la réparation des fuites des eaux usées et eaux stagnantes sur tout le périmètre de la zone du foyer épidémique.</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Renforcer le contrôle sanitaire des établissements à caractère alimentaire(restaurants, gargotes, cantines scolaires ...) et des marché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Arial"/>
                <a:ea typeface="굴림"/>
              </a:rPr>
              <a:t>*la prévention :</a:t>
            </a:r>
            <a:br>
              <a:rPr sz="4000"/>
            </a:br>
            <a:endParaRPr b="0" lang="en-US" sz="4000" spc="-1" strike="noStrike">
              <a:solidFill>
                <a:srgbClr val="000000"/>
              </a:solidFill>
              <a:latin typeface="Arial"/>
            </a:endParaRPr>
          </a:p>
        </p:txBody>
      </p:sp>
      <p:sp>
        <p:nvSpPr>
          <p:cNvPr id="75" name="PlaceHolder 2"/>
          <p:cNvSpPr>
            <a:spLocks noGrp="1"/>
          </p:cNvSpPr>
          <p:nvPr>
            <p:ph/>
          </p:nvPr>
        </p:nvSpPr>
        <p:spPr>
          <a:xfrm>
            <a:off x="457200" y="1066320"/>
            <a:ext cx="8229600" cy="57913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굴림"/>
              </a:rPr>
              <a:t>Pour nous préserver des maladies à transmission hydrique il faut nous doter d’une eau de boisson de bonne qualité par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굴림"/>
              </a:rPr>
              <a:t>le contrôle chimique et bactériologique des eaux de boiss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굴림"/>
              </a:rPr>
              <a:t>La protection des points d’eau par respect du périmètre de sécurité.</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굴림"/>
              </a:rPr>
              <a:t>La pose de briques poreuses ou de galets de chloration dans les pui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굴림"/>
              </a:rPr>
              <a:t>La désinfection de tout ouvrage destiné à l’eau de boisson par le chlore ou l’eau de jave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굴림"/>
              </a:rPr>
              <a:t>Assurer une bonne hygiène du milieu.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Étude de cas.</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000000"/>
                </a:solidFill>
                <a:uFillTx/>
                <a:latin typeface="Arial"/>
              </a:rPr>
              <a:t>1er c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000000"/>
                </a:solidFill>
                <a:uFillTx/>
                <a:latin typeface="Arial"/>
              </a:rPr>
              <a:t>Epidémie de type explosif</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000000"/>
                </a:solidFill>
                <a:uFillTx/>
                <a:latin typeface="Arial"/>
              </a:rPr>
              <a:t>(à source uniqu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00000"/>
                </a:solidFill>
                <a:uFillTx/>
                <a:latin typeface="Arial"/>
              </a:rPr>
              <a:t>Exemple </a:t>
            </a:r>
            <a:r>
              <a:rPr b="0" lang="fr-FR" sz="2800" spc="-1" strike="noStrike">
                <a:solidFill>
                  <a:srgbClr val="000000"/>
                </a:solidFill>
                <a:latin typeface="Arial"/>
              </a:rPr>
              <a:t>: </a:t>
            </a:r>
            <a:r>
              <a:rPr b="1" lang="fr-FR" sz="2800" spc="-1" strike="noStrike">
                <a:solidFill>
                  <a:srgbClr val="000000"/>
                </a:solidFill>
                <a:latin typeface="Arial"/>
              </a:rPr>
              <a:t>Epidémie de Fièvre Typhoïde  par cross connexion</a:t>
            </a:r>
            <a:r>
              <a:rPr b="0" lang="fr-FR"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a commune X est située dans la wilaya Y, à vocation semi-rurale, d'une population estimée à plus de 27000 habitants a connu  une importante épidèmie de fièvre typhoï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457200" y="304920"/>
            <a:ext cx="8229600" cy="62481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 début de l'épidémie semble remonter au 19 Décembre , au cours de laquelle 1012 malades ont été hospitalisés, soit un taux d'incidence de 36.9 cas pour 100.000 habita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 malades sont répartis comme suit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ntre ville :782 cas (77.27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rtiers avoisinants : 149 cas (14.72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rs commune : 11 cas (1.08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Évolution de l'épidémi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ébut : 19/12: Un seul c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éme jour : 83 cas (Pi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égression lente (9 jou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Durée de l'épidémie : 22 jou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000000"/>
                </a:solidFill>
                <a:uFillTx/>
                <a:latin typeface="Arial"/>
              </a:rPr>
              <a:t>Origine de la cantamin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 centre ville de la commune X est alimentée en eau potable par un chateau d'eau qui desset une partie de la vil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e chateau d'eau est alimenté par un forage dont l'eau est parfois stockée dans un bassin de reserv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Un système de drains relie le forage au  chateau et au bassin. A proximitè du bassin de reserve, existe une canalisation du réseau d'égout. Un des regards de cette canalisation aurait été endommagé par des travaux, ce qui aurait provoqué une infiltration des eaux usées jusqu'au niveau du bassin de reserv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Mesures prises en urg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ant cette situation une cellule de crise a été mise en place dont le rôle est la gestion de l'épidémie :   1. Choix et ouverture des centres d'isol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2. Coordination des activités des différents intervenant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000000"/>
                </a:solidFill>
                <a:uFillTx/>
                <a:latin typeface="Arial"/>
              </a:rPr>
              <a:t>Discuss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étude  de la répartition géographique des cas a permis de localiser le foyer de l'épidèmie principalement au niveau du centre-ville (77.24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contamination des eaux de boisson a durée deux semaines environ de façon intermitten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ette épidèmie focale explosive, dont la source de contamination unique (Cross connexion) a duré dans le temp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L'hyperchloration de l'eau pendant toute la durée de l'épidèmi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 opérations visant à limiter les dégâts et à éviter la propagation des maladies dans la communauté doivent être rapides et sans failles . L'improvisation n'a pas de place dans de telles situations critiques. L'établissement d'un plan organisationnel est primordi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haulage des regards d'eaux usé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 coût de prise en charge  thérapeutique des malades est estimé à 2.034.603.82 D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Cette épidémie aurait pu être éviter si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au de boisson était traité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incident qui s'est produit sur la canalisation d'eau usées a été signalé immédiatement au service de gestion des eaux de boisson et/ou à la commune (BCH).</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le contrôle du chlore résiduel se faisait quotidiennemen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1" lang="fr-FR" sz="2800" spc="-1" strike="noStrike">
                <a:solidFill>
                  <a:srgbClr val="000000"/>
                </a:solidFill>
                <a:latin typeface="Arial"/>
              </a:rPr>
              <a:t>Cette épidémie aurait durer mois longtemps si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e service de gestion des eaux de boisson et/ou à la commune (BCH) avait procèder à l'arrêt immédiat de l'alimentation en eau par le réseau suspect et procédé au lessivage du réseau.</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a commune avait assuré l'approvisionnement en eau potable par citernag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éme cas</a:t>
            </a:r>
            <a:br>
              <a:rPr sz="4000"/>
            </a:br>
            <a:endParaRPr b="0" lang="en-US" sz="40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Epidémie par propagation (en chapele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0000"/>
                </a:solidFill>
                <a:uFillTx/>
                <a:latin typeface="Arial"/>
              </a:rPr>
              <a:t>Exemple </a:t>
            </a:r>
            <a:r>
              <a:rPr b="0" lang="fr-FR" sz="2000" spc="-1" strike="noStrike">
                <a:solidFill>
                  <a:srgbClr val="000000"/>
                </a:solidFill>
                <a:latin typeface="Arial"/>
              </a:rPr>
              <a:t>: </a:t>
            </a:r>
            <a:r>
              <a:rPr b="1" lang="fr-FR" sz="2000" spc="-1" strike="noStrike">
                <a:solidFill>
                  <a:srgbClr val="000000"/>
                </a:solidFill>
                <a:latin typeface="Arial"/>
              </a:rPr>
              <a:t>Epidémie de Fièvre Typhoïde  par consommation d'un aliment.</a:t>
            </a:r>
            <a:r>
              <a:rPr b="0" lang="fr-FR"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a commune W est située dans la wilaya Z, à vocation urbaine, d'une population estimée à plus de 20.000 habitants a connu pour la première fois  une épidèmie de grande envergure de fièvre typhoïd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e début de l'épidèmie semble remonter au début du mois de juin, au cours de laquelle 126 malades (dont 61 % sont des enfants de moins de 15 ans) ont été hospitalisés, soit un taux d'incidence de 5.49 cas pour 1000 habitant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es malades sont répartis comme suit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Quartier Hay El Moudjahidine (centre ville) :78 cas (78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Quartiers avoisinants : 22 cas (22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00000"/>
                </a:solidFill>
                <a:uFillTx/>
                <a:latin typeface="Arial"/>
              </a:rPr>
              <a:t>Evolution de l'épidémi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Début : 1ére semaine: 09 cas (15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2éme semaine : 12 cas (20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3éme semaine:  26 Cas (40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4éme semaine:  11 Cas (18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00000"/>
                </a:solidFill>
                <a:uFillTx/>
                <a:latin typeface="Arial"/>
              </a:rPr>
              <a:t>Origine de la cantamin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origine de l'épidèmie est alimentaire,les premiers cas auraient consommé des </a:t>
            </a:r>
            <a:r>
              <a:rPr b="1" lang="fr-FR" sz="2800" spc="-1" strike="noStrike" u="sng">
                <a:solidFill>
                  <a:srgbClr val="000000"/>
                </a:solidFill>
                <a:uFillTx/>
                <a:latin typeface="Arial"/>
              </a:rPr>
              <a:t>glaces</a:t>
            </a:r>
            <a:r>
              <a:rPr b="0" lang="fr-FR" sz="2800" spc="-1" strike="noStrike">
                <a:solidFill>
                  <a:srgbClr val="000000"/>
                </a:solidFill>
                <a:latin typeface="Arial"/>
              </a:rPr>
              <a:t> provenant d'une crémerie du quartier où un </a:t>
            </a:r>
            <a:r>
              <a:rPr b="1" lang="fr-FR" sz="2800" spc="-1" strike="noStrike" u="sng">
                <a:solidFill>
                  <a:srgbClr val="000000"/>
                </a:solidFill>
                <a:uFillTx/>
                <a:latin typeface="Arial"/>
              </a:rPr>
              <a:t>porteur sain de germes</a:t>
            </a:r>
            <a:r>
              <a:rPr b="0" lang="fr-FR" sz="2800" spc="-1" strike="noStrike">
                <a:solidFill>
                  <a:srgbClr val="000000"/>
                </a:solidFill>
                <a:latin typeface="Arial"/>
              </a:rPr>
              <a:t> a été retrouvé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Mesures prises en urgence</a:t>
            </a:r>
            <a:endParaRPr b="0" lang="en-US" sz="4400" spc="-1" strike="noStrike">
              <a:solidFill>
                <a:srgbClr val="000000"/>
              </a:solidFill>
              <a:latin typeface="Arial"/>
            </a:endParaRPr>
          </a:p>
        </p:txBody>
      </p:sp>
      <p:sp>
        <p:nvSpPr>
          <p:cNvPr id="96" name="PlaceHolder 2"/>
          <p:cNvSpPr>
            <a:spLocks noGrp="1"/>
          </p:cNvSpPr>
          <p:nvPr>
            <p:ph/>
          </p:nvPr>
        </p:nvSpPr>
        <p:spPr>
          <a:xfrm>
            <a:off x="457200" y="1294920"/>
            <a:ext cx="8229600" cy="5257800"/>
          </a:xfrm>
          <a:prstGeom prst="rect">
            <a:avLst/>
          </a:prstGeom>
          <a:noFill/>
          <a:ln w="0">
            <a:noFill/>
          </a:ln>
        </p:spPr>
        <p:txBody>
          <a:bodyPr lIns="90000" rIns="90000" tIns="46800" bIns="46800" anchor="t">
            <a:normAutofit fontScale="99000"/>
          </a:bodyPr>
          <a:p>
            <a:pPr marL="452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2520" indent="-452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evant cette situation une cellule de crise a été mise en place dont le rôle est la gestion de l'épidémie :   1. Choix et ouverture des centres d'isolement.</a:t>
            </a:r>
            <a:endParaRPr b="0" lang="en-US" sz="2400" spc="-1" strike="noStrike">
              <a:solidFill>
                <a:srgbClr val="000000"/>
              </a:solidFill>
              <a:latin typeface="Arial"/>
            </a:endParaRPr>
          </a:p>
          <a:p>
            <a:pPr marL="452520" indent="-452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2. Coordination des activités des différents intervenants. </a:t>
            </a:r>
            <a:endParaRPr b="0" lang="en-US" sz="2400" spc="-1" strike="noStrike">
              <a:solidFill>
                <a:srgbClr val="000000"/>
              </a:solidFill>
              <a:latin typeface="Arial"/>
            </a:endParaRPr>
          </a:p>
          <a:p>
            <a:pPr marL="452520" indent="-452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esures prophylactiques.</a:t>
            </a:r>
            <a:endParaRPr b="0" lang="en-US" sz="2400" spc="-1" strike="noStrike">
              <a:solidFill>
                <a:srgbClr val="000000"/>
              </a:solidFill>
              <a:latin typeface="Arial"/>
            </a:endParaRPr>
          </a:p>
          <a:p>
            <a:pPr marL="452520" indent="-452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Hospitalisation, isolemnt et traitement des cas.</a:t>
            </a:r>
            <a:endParaRPr b="0" lang="en-US" sz="2400" spc="-1" strike="noStrike">
              <a:solidFill>
                <a:srgbClr val="000000"/>
              </a:solidFill>
              <a:latin typeface="Arial"/>
            </a:endParaRPr>
          </a:p>
          <a:p>
            <a:pPr marL="452520" indent="-452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ducation sanitaire.</a:t>
            </a:r>
            <a:endParaRPr b="0" lang="en-US" sz="2400" spc="-1" strike="noStrike">
              <a:solidFill>
                <a:srgbClr val="000000"/>
              </a:solidFill>
              <a:latin typeface="Arial"/>
            </a:endParaRPr>
          </a:p>
          <a:p>
            <a:pPr marL="452520" indent="-452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hyperchloration de l'eau pendant toute la durée de l'épidèmie.</a:t>
            </a:r>
            <a:endParaRPr b="0" lang="en-US" sz="2400" spc="-1" strike="noStrike">
              <a:solidFill>
                <a:srgbClr val="000000"/>
              </a:solidFill>
              <a:latin typeface="Arial"/>
            </a:endParaRPr>
          </a:p>
          <a:p>
            <a:pPr marL="452520" indent="-452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haulage des regards d'eaux usées et des toilettes avec du chlorure de chaux distribué par l'APC.. Enquête épidémiologique.</a:t>
            </a:r>
            <a:endParaRPr b="0" lang="en-US" sz="2400" spc="-1" strike="noStrike">
              <a:solidFill>
                <a:srgbClr val="000000"/>
              </a:solidFill>
              <a:latin typeface="Arial"/>
            </a:endParaRPr>
          </a:p>
          <a:p>
            <a:pPr marL="452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000000"/>
                </a:solidFill>
                <a:uFillTx/>
                <a:latin typeface="Arial"/>
              </a:rPr>
              <a:t>Discuss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étude  de la répartition géographique des cas a permis de localiser le foyer de l'épidèmie principalement au niveau du quartier Hay El Moudjahidine (centre ville) :78 cas (78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ette épidèmie , dont la source </a:t>
            </a:r>
            <a:r>
              <a:rPr b="1" lang="fr-FR" sz="2400" spc="-1" strike="noStrike" u="sng">
                <a:solidFill>
                  <a:srgbClr val="000000"/>
                </a:solidFill>
                <a:uFillTx/>
                <a:latin typeface="Arial"/>
              </a:rPr>
              <a:t>de contamination est commune</a:t>
            </a:r>
            <a:r>
              <a:rPr b="0" lang="fr-FR" sz="2400" spc="-1" strike="noStrike">
                <a:solidFill>
                  <a:srgbClr val="000000"/>
                </a:solidFill>
                <a:latin typeface="Arial"/>
              </a:rPr>
              <a:t> 'consommation de glaces souillées) a duré dans le temps par </a:t>
            </a:r>
            <a:r>
              <a:rPr b="1" lang="fr-FR" sz="2400" spc="-1" strike="noStrike" u="sng">
                <a:solidFill>
                  <a:srgbClr val="000000"/>
                </a:solidFill>
                <a:uFillTx/>
                <a:latin typeface="Arial"/>
              </a:rPr>
              <a:t>contagion</a:t>
            </a:r>
            <a:r>
              <a:rPr b="0" lang="fr-FR" sz="2400" spc="-1" strike="noStrike">
                <a:solidFill>
                  <a:srgbClr val="000000"/>
                </a:solidFill>
                <a:latin typeface="Arial"/>
              </a:rPr>
              <a:t> (mains sal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hyperchloration de l'eau pendant toute la durée de l'épidèmi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haulage des regards d'eaux usé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 coût de prise en charge  thérapeutique des malades est estimé à 734.871.50 D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7200" y="304560"/>
            <a:ext cx="8229600" cy="65530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ette épidémie a permis de mieux percevoir l'importance du contrôle des établissements à caractère alimentaire par la commission d'hygiène et sécurité.qui joue un rôle dissuasif pour les commerçant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Cette épidémie aurait pu être éviter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ette épidèmie a permis de mieux percevoir l'importance du contrôle des établissements à caractère alimentaire par la commission d'hygiène et sécurité.qui joue un rôle dissuasif pour les commerçant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Cette épidémie aurait pu être enrayée dés le débu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es services chargés de la lutte contre les MTH ont pris les mesures qui s'imposent dans de telles circonstances (prendre la décision de fermeture de l'établissement insalubr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 matière de lutte contre les maladies à transmission hydrique, le président de l'assemblée communale doit travailler en étroite collaboration avec les différentes structures de la wilaya impliquées dans ce cadre ( Direction de la santé et de la population, L'agence Algérienne des eaux, Direction de l'agriculture, Direction de l'hydraulique, OPG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l y a lieu d'établir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 état des moyens humains et matériels à mettre en oeuvre :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 état des citernes , camions et appareils de désinsectisa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Chronologie des programmes d'intervention en la matière</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mprovisation n'est pas efficace dans une situation critique, la panique de la population et de certains responsables dés l'apparition d'une épidémie entraîne souvent des réactions néfastes , hâtives, désordonnées,onéreuses et inefficac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304560"/>
            <a:ext cx="8229600" cy="6553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 </a:t>
            </a:r>
            <a:r>
              <a:rPr b="1" lang="en-US" sz="3200" spc="-1" strike="noStrike" u="sng">
                <a:solidFill>
                  <a:srgbClr val="000000"/>
                </a:solidFill>
                <a:uFillTx/>
                <a:latin typeface="Arial"/>
              </a:rPr>
              <a:t>plan d'intervention d'urgence</a:t>
            </a:r>
            <a:r>
              <a:rPr b="0" lang="en-US" sz="3200" spc="-1" strike="noStrike">
                <a:solidFill>
                  <a:srgbClr val="000000"/>
                </a:solidFill>
                <a:latin typeface="Arial"/>
              </a:rPr>
              <a:t> doit être pré-établi définissant les mesures à prendre, l'organisation et la coordination des différents services appelés à intervenir (Santé, Protection civi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e succès de ce plan est directement conditionné par trois facteur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 </a:t>
            </a:r>
            <a:r>
              <a:rPr b="1" lang="en-US" sz="3200" spc="-1" strike="noStrike">
                <a:solidFill>
                  <a:srgbClr val="000000"/>
                </a:solidFill>
                <a:latin typeface="Arial"/>
              </a:rPr>
              <a:t>Précocité d</a:t>
            </a:r>
            <a:r>
              <a:rPr b="0" lang="en-US" sz="3200" spc="-1" strike="noStrike">
                <a:solidFill>
                  <a:srgbClr val="000000"/>
                </a:solidFill>
                <a:latin typeface="Arial"/>
              </a:rPr>
              <a:t>e l'aler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t>
            </a:r>
            <a:r>
              <a:rPr b="1" lang="en-US" sz="3200" spc="-1" strike="noStrike">
                <a:solidFill>
                  <a:srgbClr val="000000"/>
                </a:solidFill>
                <a:latin typeface="Arial"/>
              </a:rPr>
              <a:t>'efficacité </a:t>
            </a:r>
            <a:r>
              <a:rPr b="0" lang="en-US" sz="3200" spc="-1" strike="noStrike">
                <a:solidFill>
                  <a:srgbClr val="000000"/>
                </a:solidFill>
                <a:latin typeface="Arial"/>
              </a:rPr>
              <a:t>des mesures prises pour maîtriser le foyer épidémiq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 </a:t>
            </a:r>
            <a:r>
              <a:rPr b="1" lang="en-US" sz="3200" spc="-1" strike="noStrike">
                <a:solidFill>
                  <a:srgbClr val="000000"/>
                </a:solidFill>
                <a:latin typeface="Arial"/>
              </a:rPr>
              <a:t>rapidité </a:t>
            </a:r>
            <a:r>
              <a:rPr b="0" lang="en-US" sz="3200" spc="-1" strike="noStrike">
                <a:solidFill>
                  <a:srgbClr val="000000"/>
                </a:solidFill>
                <a:latin typeface="Arial"/>
              </a:rPr>
              <a:t>des actions entrepri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380520" y="304560"/>
            <a:ext cx="8458200" cy="60195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Il est nécessaire de définir le  rôle de chaque intervenant  en précisant : </a:t>
            </a:r>
            <a:r>
              <a:rPr b="1" lang="en-US" sz="4800" spc="-1" strike="noStrike">
                <a:solidFill>
                  <a:srgbClr val="000000"/>
                </a:solidFill>
                <a:latin typeface="Arial"/>
              </a:rPr>
              <a:t>qui, fait quoi, quand et comment </a:t>
            </a:r>
            <a:r>
              <a:rPr b="0" lang="en-US" sz="4800" spc="-1" strike="noStrike">
                <a:solidFill>
                  <a:srgbClr val="000000"/>
                </a:solidFill>
                <a:latin typeface="Arial"/>
              </a:rPr>
              <a:t>pour chaque cas de figure et déterminer le chronologie de leur mise en oeuvr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Enquête et prise en charge d'une situation jugée difficile.</a:t>
            </a:r>
            <a:endParaRPr b="0" lang="en-US" sz="40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1.</a:t>
            </a:r>
            <a:r>
              <a:rPr b="1" lang="fr-FR" sz="2800" spc="-1" strike="noStrike" u="sng">
                <a:solidFill>
                  <a:srgbClr val="000000"/>
                </a:solidFill>
                <a:uFillTx/>
                <a:latin typeface="Arial"/>
              </a:rPr>
              <a:t> Conduite  à tenir devant un problème sanitair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Devant l'apparition d'un évènement exceptionnel, il y a lieu de déclencher les mesures suivante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éunion en urgence de la cellule de crise du bureau d'hygiène communal ou intercommunal.</a:t>
            </a:r>
            <a:endParaRPr b="0" lang="en-US" sz="2800" spc="-1" strike="noStrike">
              <a:solidFill>
                <a:srgbClr val="000000"/>
              </a:solidFill>
              <a:latin typeface="Arial"/>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Mise en application du plan d'intervention d'urgence.</a:t>
            </a:r>
            <a:endParaRPr b="0" lang="en-US" sz="2800" spc="-1" strike="noStrike">
              <a:solidFill>
                <a:srgbClr val="000000"/>
              </a:solidFill>
              <a:latin typeface="Arial"/>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ommunicati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assouby</cp:lastModifiedBy>
  <dcterms:modified xsi:type="dcterms:W3CDTF">2008-05-12T22:32:43Z</dcterms:modified>
  <cp:revision>3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